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44E0-9192-47EB-8AED-66BEFDC7F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655D-C009-4D01-B2A9-167BF1C7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4553-7068-4BDA-ADF6-F2B4E4CB1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0F30-589C-4F85-9D6D-1C96BDBC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AA55-B4E5-44B5-B184-03F2C0C87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4A89-683B-4E49-914F-1B974455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314A-8A3A-4BDB-B215-5941EA82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1916-5762-4A4E-B87E-810793CC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831A-0FBA-41E7-A4BB-BDB66C35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F15D-4709-47F7-9F76-B3CF4D9B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63BC-90E1-484C-BD12-3AA30527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F46F-1B74-4CC6-9A38-022AD86A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6715-5819-4082-BE6B-206D2F15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ECB3-73B9-4E88-B036-3E333FBB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036D-7019-4F8D-9CD7-DD4477F2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4B95-F82A-4210-92EA-9904AC594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2D25-14E6-407F-9BF9-7D3DF3C94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4D75-51D0-4AC2-A862-6CA1D0DA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477A-1779-4368-88A6-03F29EBE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A568-9ACE-404E-B32B-7E9E2942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95B0-CFA0-462A-A30E-9A537F6E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52D6-33AD-4272-B174-B5639253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72CB-AD02-4ABD-B5F3-6DC39E57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E378-A593-41E1-9E2A-1AC13D0F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A968-0DFF-4C50-AA3F-275E2962F43F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C701-96CE-4843-909B-520BF3B14ACF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zegour.uuuq.com/" TargetMode="External"/><Relationship Id="rId2" Type="http://schemas.openxmlformats.org/officeDocument/2006/relationships/hyperlink" Target="mailto:d_zegour@esi.dz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Structures de données avancées : </a:t>
            </a:r>
            <a:br>
              <a:rPr sz="4000"/>
            </a:br>
            <a:r>
              <a:rPr b="0" i="1" lang="fr-FR" sz="2900" spc="-1" strike="noStrike">
                <a:solidFill>
                  <a:srgbClr val="000000"/>
                </a:solidFill>
                <a:latin typeface="Calibri"/>
              </a:rPr>
              <a:t>Fichiers uni-dimensionnel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98989"/>
                </a:solidFill>
                <a:latin typeface="Calibri"/>
              </a:rPr>
              <a:t>Pr ZEGOUR DJAMEL EDD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98989"/>
                </a:solidFill>
                <a:latin typeface="Calibri"/>
              </a:rPr>
              <a:t>Ecole Supérieure d’Informatique (ESI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zegour.uuuq.com</a:t>
            </a:r>
            <a:r>
              <a:rPr b="0" lang="fr-FR" sz="16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98989"/>
                </a:solidFill>
                <a:latin typeface="Calibri"/>
              </a:rPr>
              <a:t>email: </a:t>
            </a:r>
            <a:r>
              <a:rPr b="0" lang="fr-FR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d_zegour@esi.d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457200" y="1935000"/>
            <a:ext cx="354348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Suppression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es frères du père n'ont pas de clés à donner, le père et son frère peuvent aussi être concaténés et une clé est prise du grand pè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4135320" y="428760"/>
            <a:ext cx="5008680" cy="2479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2"/>
          <a:stretch/>
        </p:blipFill>
        <p:spPr>
          <a:xfrm>
            <a:off x="4000680" y="4214880"/>
            <a:ext cx="5143320" cy="2286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6"/>
          <p:cNvSpPr/>
          <p:nvPr/>
        </p:nvSpPr>
        <p:spPr>
          <a:xfrm>
            <a:off x="5072040" y="6543720"/>
            <a:ext cx="4071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Ordre=5; Max=4 données; Min = 2 donné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lèche droite 12"/>
          <p:cNvSpPr/>
          <p:nvPr/>
        </p:nvSpPr>
        <p:spPr>
          <a:xfrm rot="5400000">
            <a:off x="6429240" y="3500280"/>
            <a:ext cx="571320" cy="2858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ZoneTexte 13"/>
          <p:cNvSpPr/>
          <p:nvPr/>
        </p:nvSpPr>
        <p:spPr>
          <a:xfrm>
            <a:off x="6776280" y="3300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7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rbres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Suppre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i tous les antécédents d'un nœud et leurs frères contiennent exactement n div 2 clés, une clé sera prise de la racine (due aux concaténations en cascades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i la racine avait plus d'une clé, ceci termine le processu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i la racine contenait une seule clé, elle sera utilisée dans la concaténation. Le nœud racine est libéré. le niveau de l'arbre est réduit d'une unit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rbres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Utilisation pour le stockage des donné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nœud de l'arbre  = un bloc sur le disqu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 un moment donné seul un bloc est ramené en mémoir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Nécessite des blocs de très grande taille ( ordre de 200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Deux façons de ranger les articles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i) dans les nœuds avec les clés, ( Fichier = B-arbre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ii) séparément, donc pointeur additionnel vers l'information. ( B-arbre = Index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i le fichier est grand on préfère de loin utiliser (i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rbres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5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rbres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Connecteur droit 6"/>
          <p:cNvSpPr/>
          <p:nvPr/>
        </p:nvSpPr>
        <p:spPr>
          <a:xfrm flipH="1">
            <a:off x="3142800" y="1857240"/>
            <a:ext cx="1800" cy="4429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ZoneTexte 7"/>
          <p:cNvSpPr/>
          <p:nvPr/>
        </p:nvSpPr>
        <p:spPr>
          <a:xfrm>
            <a:off x="571680" y="714240"/>
            <a:ext cx="785808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lé= 4 octets; Adresse=4 octets; Pteur=4 octets; Information=100 oct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ZoneTexte 8"/>
          <p:cNvSpPr/>
          <p:nvPr/>
        </p:nvSpPr>
        <p:spPr>
          <a:xfrm>
            <a:off x="571680" y="1214280"/>
            <a:ext cx="178560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Bloc =  4K 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ZoneTexte 9"/>
          <p:cNvSpPr/>
          <p:nvPr/>
        </p:nvSpPr>
        <p:spPr>
          <a:xfrm>
            <a:off x="571680" y="2286000"/>
            <a:ext cx="185724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Nœud = (cle + Pteur+ Inf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ZoneTexte 10"/>
          <p:cNvSpPr/>
          <p:nvPr/>
        </p:nvSpPr>
        <p:spPr>
          <a:xfrm>
            <a:off x="3714840" y="2286000"/>
            <a:ext cx="185724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Nœud = (cle + Pteur + Adres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ZoneTexte 11"/>
          <p:cNvSpPr/>
          <p:nvPr/>
        </p:nvSpPr>
        <p:spPr>
          <a:xfrm>
            <a:off x="571680" y="3357720"/>
            <a:ext cx="185724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Ordre = 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ZoneTexte 12"/>
          <p:cNvSpPr/>
          <p:nvPr/>
        </p:nvSpPr>
        <p:spPr>
          <a:xfrm>
            <a:off x="3714840" y="3286080"/>
            <a:ext cx="164304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Ordre = 3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ZoneTexte 13"/>
          <p:cNvSpPr/>
          <p:nvPr/>
        </p:nvSpPr>
        <p:spPr>
          <a:xfrm>
            <a:off x="571680" y="4286160"/>
            <a:ext cx="192852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1" lang="fr-FR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= 54 87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ZoneTexte 14"/>
          <p:cNvSpPr/>
          <p:nvPr/>
        </p:nvSpPr>
        <p:spPr>
          <a:xfrm>
            <a:off x="3714840" y="4214880"/>
            <a:ext cx="192888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341</a:t>
            </a:r>
            <a:r>
              <a:rPr b="1" lang="fr-FR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= 39 651 8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ZoneTexte 15"/>
          <p:cNvSpPr/>
          <p:nvPr/>
        </p:nvSpPr>
        <p:spPr>
          <a:xfrm>
            <a:off x="3714840" y="5000760"/>
            <a:ext cx="285732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341</a:t>
            </a:r>
            <a:r>
              <a:rPr b="1" lang="fr-FR" sz="1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= 13 521 270 9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ZoneTexte 16"/>
          <p:cNvSpPr/>
          <p:nvPr/>
        </p:nvSpPr>
        <p:spPr>
          <a:xfrm>
            <a:off x="571680" y="5072040"/>
            <a:ext cx="192852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1" lang="fr-FR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= 2 085 1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ZoneTexte 17"/>
          <p:cNvSpPr/>
          <p:nvPr/>
        </p:nvSpPr>
        <p:spPr>
          <a:xfrm>
            <a:off x="3643200" y="1785960"/>
            <a:ext cx="1857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B-arbre (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ZoneTexte 18"/>
          <p:cNvSpPr/>
          <p:nvPr/>
        </p:nvSpPr>
        <p:spPr>
          <a:xfrm>
            <a:off x="571680" y="1785960"/>
            <a:ext cx="185724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B-arbre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Facteur de chargement de 70% pour les insertions aléatoi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2 à 3 accès disque pour retrouver des articles parmi des centaines de mill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Fichiers dynamiques ( Sans réorganisation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Fichiers ordonn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rbres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Variante : Arbres B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Retarder la division  quand un nœud est plein </a:t>
            </a: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Redistribution équitable des clés contenues dans le nœud en question et l'un de ses frèr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i le nœud et son frère sont tous les deux pleins, les deux nœuds sont divisés en 3. Ceci garantit un minimum de chargement à 67% et un chargement moyen de 81%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rbres B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Variante : Arbres B</a:t>
            </a:r>
            <a:r>
              <a:rPr b="1" i="1" lang="fr-FR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a plus utilisée : offre le séquentiel index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buClr>
                <a:srgbClr val="4f81b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Toutes les clés sont maintenues au niveau des feui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buClr>
                <a:srgbClr val="4f81b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buClr>
                <a:srgbClr val="4f81b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es clés sont dupliquées dans les nœuds non feuil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buClr>
                <a:srgbClr val="4f81b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buClr>
                <a:srgbClr val="4f81b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es articles(ou les pointeurs vers les articles) sont au niveau des feuil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buClr>
                <a:srgbClr val="4f81b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buClr>
                <a:srgbClr val="4f81b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es nœuds feuilles sont chaînés (ensemble des séquen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rbres B</a:t>
            </a:r>
            <a:r>
              <a:rPr b="1" i="1" lang="fr-FR" sz="18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457200" y="1447920"/>
            <a:ext cx="8305920" cy="39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Dé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C’est un B-arbre d’ordre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Les feuilles contiennent les art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Chaque feuille a entr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L/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 et  L artic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(généralement  L &lt;&lt; M en pratiq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Les noeuds internes contiennent les clés de recher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Chaque noeud interne a entre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M/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 et M f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(Donc chaque noeud interne a entre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(M/2)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新細明體"/>
              </a:rPr>
              <a:t> et (M-1) clés de recherch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rbres B</a:t>
            </a:r>
            <a:r>
              <a:rPr b="1" i="1" lang="fr-FR" sz="18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à coins arrondis 8"/>
          <p:cNvSpPr/>
          <p:nvPr/>
        </p:nvSpPr>
        <p:spPr>
          <a:xfrm>
            <a:off x="3429000" y="1857240"/>
            <a:ext cx="17146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. 23 . 45 . 68. 8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à coins arrondis 10"/>
          <p:cNvSpPr/>
          <p:nvPr/>
        </p:nvSpPr>
        <p:spPr>
          <a:xfrm>
            <a:off x="1857240" y="3929040"/>
            <a:ext cx="17146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. 12 . 23 . 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à coins arrondis 20"/>
          <p:cNvSpPr/>
          <p:nvPr/>
        </p:nvSpPr>
        <p:spPr>
          <a:xfrm>
            <a:off x="3429000" y="3143160"/>
            <a:ext cx="17146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. 45 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ZoneTexte 21"/>
          <p:cNvSpPr/>
          <p:nvPr/>
        </p:nvSpPr>
        <p:spPr>
          <a:xfrm>
            <a:off x="3649320" y="1357200"/>
            <a:ext cx="129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Times New Roman"/>
              </a:rPr>
              <a:t>45, 68, 80, 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ZoneTexte 22"/>
          <p:cNvSpPr/>
          <p:nvPr/>
        </p:nvSpPr>
        <p:spPr>
          <a:xfrm>
            <a:off x="4076280" y="25718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ZoneTexte 23"/>
          <p:cNvSpPr/>
          <p:nvPr/>
        </p:nvSpPr>
        <p:spPr>
          <a:xfrm>
            <a:off x="3933360" y="4500720"/>
            <a:ext cx="6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Times New Roman"/>
              </a:rPr>
              <a:t>50, 5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Connecteur droit avec flèche 28"/>
          <p:cNvCxnSpPr>
            <a:endCxn id="153" idx="0"/>
          </p:cNvCxnSpPr>
          <p:nvPr/>
        </p:nvCxnSpPr>
        <p:spPr>
          <a:xfrm flipH="1">
            <a:off x="2714400" y="3356640"/>
            <a:ext cx="1429200" cy="572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9" name="Rectangle à coins arrondis 14"/>
          <p:cNvSpPr/>
          <p:nvPr/>
        </p:nvSpPr>
        <p:spPr>
          <a:xfrm>
            <a:off x="5214960" y="3929040"/>
            <a:ext cx="17143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.  68 . 80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Connecteur droit avec flèche 16"/>
          <p:cNvCxnSpPr>
            <a:endCxn id="159" idx="0"/>
          </p:cNvCxnSpPr>
          <p:nvPr/>
        </p:nvCxnSpPr>
        <p:spPr>
          <a:xfrm>
            <a:off x="4429080" y="3357360"/>
            <a:ext cx="1643760" cy="572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1" name="Rectangle à coins arrondis 33"/>
          <p:cNvSpPr/>
          <p:nvPr/>
        </p:nvSpPr>
        <p:spPr>
          <a:xfrm>
            <a:off x="1857240" y="5786280"/>
            <a:ext cx="17146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. 12 . 23 . 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à coins arrondis 34"/>
          <p:cNvSpPr/>
          <p:nvPr/>
        </p:nvSpPr>
        <p:spPr>
          <a:xfrm>
            <a:off x="3429000" y="5000760"/>
            <a:ext cx="171468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. 45 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Connecteur droit avec flèche 35"/>
          <p:cNvCxnSpPr>
            <a:endCxn id="161" idx="0"/>
          </p:cNvCxnSpPr>
          <p:nvPr/>
        </p:nvCxnSpPr>
        <p:spPr>
          <a:xfrm flipH="1">
            <a:off x="2714400" y="5213880"/>
            <a:ext cx="1429200" cy="572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4" name="Rectangle à coins arrondis 36"/>
          <p:cNvSpPr/>
          <p:nvPr/>
        </p:nvSpPr>
        <p:spPr>
          <a:xfrm>
            <a:off x="5214960" y="5786280"/>
            <a:ext cx="17143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. 50. 54 .  68 . 80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Connecteur droit avec flèche 37"/>
          <p:cNvCxnSpPr>
            <a:endCxn id="164" idx="0"/>
          </p:cNvCxnSpPr>
          <p:nvPr/>
        </p:nvCxnSpPr>
        <p:spPr>
          <a:xfrm>
            <a:off x="4429080" y="5214600"/>
            <a:ext cx="1643760" cy="572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6" name="Rectangle 38"/>
          <p:cNvSpPr/>
          <p:nvPr/>
        </p:nvSpPr>
        <p:spPr>
          <a:xfrm>
            <a:off x="5572080" y="1000080"/>
            <a:ext cx="35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B+-arbre (ordre=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Min=2 données; Max=4 d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rbres B</a:t>
            </a:r>
            <a:r>
              <a:rPr b="1" i="1" lang="fr-FR" sz="18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à coins arrondis 33"/>
          <p:cNvSpPr/>
          <p:nvPr/>
        </p:nvSpPr>
        <p:spPr>
          <a:xfrm>
            <a:off x="1857240" y="2071800"/>
            <a:ext cx="171468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. 12 . 23 . 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à coins arrondis 34"/>
          <p:cNvSpPr/>
          <p:nvPr/>
        </p:nvSpPr>
        <p:spPr>
          <a:xfrm>
            <a:off x="3429000" y="1285920"/>
            <a:ext cx="17146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. 45 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Connecteur droit avec flèche 35"/>
          <p:cNvCxnSpPr>
            <a:endCxn id="168" idx="0"/>
          </p:cNvCxnSpPr>
          <p:nvPr/>
        </p:nvCxnSpPr>
        <p:spPr>
          <a:xfrm flipH="1">
            <a:off x="2714400" y="1500120"/>
            <a:ext cx="1429200" cy="572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1" name="Rectangle à coins arrondis 36"/>
          <p:cNvSpPr/>
          <p:nvPr/>
        </p:nvSpPr>
        <p:spPr>
          <a:xfrm>
            <a:off x="5214960" y="2071800"/>
            <a:ext cx="17143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. 50. 54 .  68 . 80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Connecteur droit avec flèche 37"/>
          <p:cNvCxnSpPr>
            <a:endCxn id="171" idx="0"/>
          </p:cNvCxnSpPr>
          <p:nvPr/>
        </p:nvCxnSpPr>
        <p:spPr>
          <a:xfrm>
            <a:off x="4429080" y="1500120"/>
            <a:ext cx="1643760" cy="572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3" name="ZoneTexte 18"/>
          <p:cNvSpPr/>
          <p:nvPr/>
        </p:nvSpPr>
        <p:spPr>
          <a:xfrm>
            <a:off x="3948480" y="2786040"/>
            <a:ext cx="6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Times New Roman"/>
              </a:rPr>
              <a:t>20, 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à coins arrondis 19"/>
          <p:cNvSpPr/>
          <p:nvPr/>
        </p:nvSpPr>
        <p:spPr>
          <a:xfrm>
            <a:off x="1857240" y="4000680"/>
            <a:ext cx="171468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. 12 . 20 .  23 . 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à coins arrondis 24"/>
          <p:cNvSpPr/>
          <p:nvPr/>
        </p:nvSpPr>
        <p:spPr>
          <a:xfrm>
            <a:off x="3429000" y="3214800"/>
            <a:ext cx="171468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. 45 . 68 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Connecteur droit avec flèche 25"/>
          <p:cNvCxnSpPr>
            <a:endCxn id="174" idx="0"/>
          </p:cNvCxnSpPr>
          <p:nvPr/>
        </p:nvCxnSpPr>
        <p:spPr>
          <a:xfrm flipH="1">
            <a:off x="2714040" y="3500280"/>
            <a:ext cx="1215000" cy="501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7" name="Rectangle à coins arrondis 26"/>
          <p:cNvSpPr/>
          <p:nvPr/>
        </p:nvSpPr>
        <p:spPr>
          <a:xfrm>
            <a:off x="4500720" y="4000680"/>
            <a:ext cx="17143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. 50. 54 . 6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Connecteur droit avec flèche 27"/>
          <p:cNvCxnSpPr>
            <a:endCxn id="177" idx="0"/>
          </p:cNvCxnSpPr>
          <p:nvPr/>
        </p:nvCxnSpPr>
        <p:spPr>
          <a:xfrm>
            <a:off x="4285800" y="3500280"/>
            <a:ext cx="1072440" cy="501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9" name="Rectangle à coins arrondis 29"/>
          <p:cNvSpPr/>
          <p:nvPr/>
        </p:nvSpPr>
        <p:spPr>
          <a:xfrm>
            <a:off x="6643800" y="4000680"/>
            <a:ext cx="17143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. 80. 92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Connecteur droit avec flèche 31"/>
          <p:cNvCxnSpPr>
            <a:endCxn id="179" idx="0"/>
          </p:cNvCxnSpPr>
          <p:nvPr/>
        </p:nvCxnSpPr>
        <p:spPr>
          <a:xfrm>
            <a:off x="4643280" y="3500280"/>
            <a:ext cx="2858400" cy="501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1" name="ZoneTexte 40"/>
          <p:cNvSpPr/>
          <p:nvPr/>
        </p:nvSpPr>
        <p:spPr>
          <a:xfrm>
            <a:off x="3578400" y="4714920"/>
            <a:ext cx="99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Times New Roman"/>
              </a:rPr>
              <a:t>48, 63, 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à coins arrondis 41"/>
          <p:cNvSpPr/>
          <p:nvPr/>
        </p:nvSpPr>
        <p:spPr>
          <a:xfrm>
            <a:off x="642960" y="5929200"/>
            <a:ext cx="17143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. 12 . 20 .  23 . 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à coins arrondis 42"/>
          <p:cNvSpPr/>
          <p:nvPr/>
        </p:nvSpPr>
        <p:spPr>
          <a:xfrm>
            <a:off x="3429000" y="5143680"/>
            <a:ext cx="171468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. 45 . 54 . 68 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Connecteur droit avec flèche 43"/>
          <p:cNvCxnSpPr>
            <a:endCxn id="182" idx="0"/>
          </p:cNvCxnSpPr>
          <p:nvPr/>
        </p:nvCxnSpPr>
        <p:spPr>
          <a:xfrm flipH="1">
            <a:off x="1499760" y="5428080"/>
            <a:ext cx="2215440" cy="500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5" name="Rectangle à coins arrondis 44"/>
          <p:cNvSpPr/>
          <p:nvPr/>
        </p:nvSpPr>
        <p:spPr>
          <a:xfrm>
            <a:off x="4643280" y="5929200"/>
            <a:ext cx="17146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. 60. 63 .6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Connecteur droit avec flèche 45"/>
          <p:cNvCxnSpPr>
            <a:endCxn id="185" idx="0"/>
          </p:cNvCxnSpPr>
          <p:nvPr/>
        </p:nvCxnSpPr>
        <p:spPr>
          <a:xfrm>
            <a:off x="4428720" y="5428800"/>
            <a:ext cx="1072440" cy="500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7" name="Rectangle à coins arrondis 46"/>
          <p:cNvSpPr/>
          <p:nvPr/>
        </p:nvSpPr>
        <p:spPr>
          <a:xfrm>
            <a:off x="6643800" y="5929200"/>
            <a:ext cx="17143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. 80. 92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Connecteur droit avec flèche 47"/>
          <p:cNvCxnSpPr>
            <a:endCxn id="187" idx="0"/>
          </p:cNvCxnSpPr>
          <p:nvPr/>
        </p:nvCxnSpPr>
        <p:spPr>
          <a:xfrm>
            <a:off x="4857840" y="5428800"/>
            <a:ext cx="2643840" cy="500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9" name="Rectangle à coins arrondis 51"/>
          <p:cNvSpPr/>
          <p:nvPr/>
        </p:nvSpPr>
        <p:spPr>
          <a:xfrm>
            <a:off x="2643120" y="5929200"/>
            <a:ext cx="17146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. 48 . 50 . 5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Connecteur droit avec flèche 53"/>
          <p:cNvCxnSpPr>
            <a:endCxn id="189" idx="0"/>
          </p:cNvCxnSpPr>
          <p:nvPr/>
        </p:nvCxnSpPr>
        <p:spPr>
          <a:xfrm flipH="1">
            <a:off x="3499920" y="5428080"/>
            <a:ext cx="572400" cy="500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1" name="Rectangle 28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rbres B</a:t>
            </a:r>
            <a:r>
              <a:rPr b="1" i="1" lang="fr-FR" sz="18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0040" y="28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B-arbres et varian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à coins arrondis 41"/>
          <p:cNvSpPr/>
          <p:nvPr/>
        </p:nvSpPr>
        <p:spPr>
          <a:xfrm>
            <a:off x="785880" y="1857240"/>
            <a:ext cx="17143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. 12 . 20 .  23 . 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à coins arrondis 42"/>
          <p:cNvSpPr/>
          <p:nvPr/>
        </p:nvSpPr>
        <p:spPr>
          <a:xfrm>
            <a:off x="3571920" y="1071720"/>
            <a:ext cx="17143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. 45 . 54 . 68 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Connecteur droit avec flèche 43"/>
          <p:cNvCxnSpPr>
            <a:endCxn id="192" idx="0"/>
          </p:cNvCxnSpPr>
          <p:nvPr/>
        </p:nvCxnSpPr>
        <p:spPr>
          <a:xfrm flipH="1">
            <a:off x="1642680" y="1356120"/>
            <a:ext cx="2215440" cy="500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5" name="Rectangle à coins arrondis 44"/>
          <p:cNvSpPr/>
          <p:nvPr/>
        </p:nvSpPr>
        <p:spPr>
          <a:xfrm>
            <a:off x="4786200" y="1857240"/>
            <a:ext cx="17146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. 60. 63 .6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Connecteur droit avec flèche 45"/>
          <p:cNvCxnSpPr>
            <a:endCxn id="195" idx="0"/>
          </p:cNvCxnSpPr>
          <p:nvPr/>
        </p:nvCxnSpPr>
        <p:spPr>
          <a:xfrm>
            <a:off x="4571640" y="1356840"/>
            <a:ext cx="1072440" cy="500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7" name="Rectangle à coins arrondis 46"/>
          <p:cNvSpPr/>
          <p:nvPr/>
        </p:nvSpPr>
        <p:spPr>
          <a:xfrm>
            <a:off x="6786720" y="1857240"/>
            <a:ext cx="17143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. 80. 92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Connecteur droit avec flèche 47"/>
          <p:cNvCxnSpPr/>
          <p:nvPr/>
        </p:nvCxnSpPr>
        <p:spPr>
          <a:xfrm>
            <a:off x="5000760" y="1356840"/>
            <a:ext cx="2643840" cy="500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9" name="Rectangle à coins arrondis 51"/>
          <p:cNvSpPr/>
          <p:nvPr/>
        </p:nvSpPr>
        <p:spPr>
          <a:xfrm>
            <a:off x="2786040" y="1857240"/>
            <a:ext cx="17146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. 48 . 50 . 5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Connecteur droit avec flèche 53"/>
          <p:cNvCxnSpPr>
            <a:endCxn id="199" idx="0"/>
          </p:cNvCxnSpPr>
          <p:nvPr/>
        </p:nvCxnSpPr>
        <p:spPr>
          <a:xfrm flipH="1">
            <a:off x="3642840" y="1356120"/>
            <a:ext cx="572400" cy="500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1" name="ZoneTexte 28"/>
          <p:cNvSpPr/>
          <p:nvPr/>
        </p:nvSpPr>
        <p:spPr>
          <a:xfrm>
            <a:off x="4074840" y="2643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à coins arrondis 55"/>
          <p:cNvSpPr/>
          <p:nvPr/>
        </p:nvSpPr>
        <p:spPr>
          <a:xfrm>
            <a:off x="214200" y="3929040"/>
            <a:ext cx="13575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10 . 12 . 2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à coins arrondis 56"/>
          <p:cNvSpPr/>
          <p:nvPr/>
        </p:nvSpPr>
        <p:spPr>
          <a:xfrm>
            <a:off x="3643200" y="3143160"/>
            <a:ext cx="17146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20. 45 . 54 . 68 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Connecteur droit avec flèche 57"/>
          <p:cNvCxnSpPr>
            <a:endCxn id="202" idx="0"/>
          </p:cNvCxnSpPr>
          <p:nvPr/>
        </p:nvCxnSpPr>
        <p:spPr>
          <a:xfrm flipH="1">
            <a:off x="891360" y="3427920"/>
            <a:ext cx="2894760" cy="500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5" name="Rectangle à coins arrondis 58"/>
          <p:cNvSpPr/>
          <p:nvPr/>
        </p:nvSpPr>
        <p:spPr>
          <a:xfrm>
            <a:off x="4857840" y="3929040"/>
            <a:ext cx="17143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. 60. 63 .6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Connecteur droit avec flèche 59"/>
          <p:cNvCxnSpPr/>
          <p:nvPr/>
        </p:nvCxnSpPr>
        <p:spPr>
          <a:xfrm>
            <a:off x="4786200" y="3428640"/>
            <a:ext cx="1000800" cy="500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7" name="Rectangle à coins arrondis 60"/>
          <p:cNvSpPr/>
          <p:nvPr/>
        </p:nvSpPr>
        <p:spPr>
          <a:xfrm>
            <a:off x="6858000" y="3929040"/>
            <a:ext cx="17146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. 80. 92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Connecteur droit avec flèche 61"/>
          <p:cNvCxnSpPr>
            <a:endCxn id="207" idx="0"/>
          </p:cNvCxnSpPr>
          <p:nvPr/>
        </p:nvCxnSpPr>
        <p:spPr>
          <a:xfrm>
            <a:off x="5072040" y="3428640"/>
            <a:ext cx="2643840" cy="500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9" name="Rectangle à coins arrondis 62"/>
          <p:cNvSpPr/>
          <p:nvPr/>
        </p:nvSpPr>
        <p:spPr>
          <a:xfrm>
            <a:off x="3071880" y="3929040"/>
            <a:ext cx="17143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. 48 . 50 . 5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Connecteur droit avec flèche 63"/>
          <p:cNvCxnSpPr>
            <a:endCxn id="209" idx="0"/>
          </p:cNvCxnSpPr>
          <p:nvPr/>
        </p:nvCxnSpPr>
        <p:spPr>
          <a:xfrm flipH="1">
            <a:off x="3928320" y="3428640"/>
            <a:ext cx="500760" cy="500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1" name="Rectangle à coins arrondis 67"/>
          <p:cNvSpPr/>
          <p:nvPr/>
        </p:nvSpPr>
        <p:spPr>
          <a:xfrm>
            <a:off x="1714680" y="3929040"/>
            <a:ext cx="12142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23 . 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Connecteur droit avec flèche 69"/>
          <p:cNvCxnSpPr>
            <a:endCxn id="211" idx="0"/>
          </p:cNvCxnSpPr>
          <p:nvPr/>
        </p:nvCxnSpPr>
        <p:spPr>
          <a:xfrm flipH="1">
            <a:off x="2320560" y="3427920"/>
            <a:ext cx="1751760" cy="500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3" name="Rectangle 89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rbres B</a:t>
            </a:r>
            <a:r>
              <a:rPr b="1" i="1" lang="fr-FR" sz="18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ZoneTexte 90"/>
          <p:cNvSpPr/>
          <p:nvPr/>
        </p:nvSpPr>
        <p:spPr>
          <a:xfrm>
            <a:off x="928800" y="5000760"/>
            <a:ext cx="60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clatement des nœuds internes comme un B-arbre ordi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ZoneTexte 91"/>
          <p:cNvSpPr/>
          <p:nvPr/>
        </p:nvSpPr>
        <p:spPr>
          <a:xfrm>
            <a:off x="928800" y="5572080"/>
            <a:ext cx="60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Les feuilles sont chaînées ( Séquentiel indexé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ZoneTexte 92"/>
          <p:cNvSpPr/>
          <p:nvPr/>
        </p:nvSpPr>
        <p:spPr>
          <a:xfrm>
            <a:off x="928800" y="6143760"/>
            <a:ext cx="71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Les nœuds feuilles contiennent les articles ou les adresses vers les arti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rbres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Connecteur droit 6"/>
          <p:cNvSpPr/>
          <p:nvPr/>
        </p:nvSpPr>
        <p:spPr>
          <a:xfrm flipH="1">
            <a:off x="3142800" y="1857240"/>
            <a:ext cx="1800" cy="4429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ZoneTexte 7"/>
          <p:cNvSpPr/>
          <p:nvPr/>
        </p:nvSpPr>
        <p:spPr>
          <a:xfrm>
            <a:off x="571680" y="714240"/>
            <a:ext cx="785808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lé= 4 octets; Adresse=4 octets; Pteur=4 octets; Information=100 oct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ZoneTexte 8"/>
          <p:cNvSpPr/>
          <p:nvPr/>
        </p:nvSpPr>
        <p:spPr>
          <a:xfrm>
            <a:off x="571680" y="1214280"/>
            <a:ext cx="178560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Bloc =  4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ZoneTexte 9"/>
          <p:cNvSpPr/>
          <p:nvPr/>
        </p:nvSpPr>
        <p:spPr>
          <a:xfrm>
            <a:off x="571680" y="2286000"/>
            <a:ext cx="185724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Nœud = (cle + Pteur+ Inf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ZoneTexte 10"/>
          <p:cNvSpPr/>
          <p:nvPr/>
        </p:nvSpPr>
        <p:spPr>
          <a:xfrm>
            <a:off x="3714840" y="2286000"/>
            <a:ext cx="185724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Nœud = (cle + Pteur + Adres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ZoneTexte 11"/>
          <p:cNvSpPr/>
          <p:nvPr/>
        </p:nvSpPr>
        <p:spPr>
          <a:xfrm>
            <a:off x="571680" y="3357720"/>
            <a:ext cx="185724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Ordre = 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ZoneTexte 12"/>
          <p:cNvSpPr/>
          <p:nvPr/>
        </p:nvSpPr>
        <p:spPr>
          <a:xfrm>
            <a:off x="3714840" y="3286080"/>
            <a:ext cx="164304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Ordre = 3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ZoneTexte 13"/>
          <p:cNvSpPr/>
          <p:nvPr/>
        </p:nvSpPr>
        <p:spPr>
          <a:xfrm>
            <a:off x="571680" y="4286160"/>
            <a:ext cx="192852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1" lang="fr-FR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= 5487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ZoneTexte 14"/>
          <p:cNvSpPr/>
          <p:nvPr/>
        </p:nvSpPr>
        <p:spPr>
          <a:xfrm>
            <a:off x="3714840" y="4214880"/>
            <a:ext cx="192888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341</a:t>
            </a:r>
            <a:r>
              <a:rPr b="1" lang="fr-FR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= 39 651 8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ZoneTexte 15"/>
          <p:cNvSpPr/>
          <p:nvPr/>
        </p:nvSpPr>
        <p:spPr>
          <a:xfrm>
            <a:off x="3714840" y="5000760"/>
            <a:ext cx="214308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341</a:t>
            </a:r>
            <a:r>
              <a:rPr b="1" lang="fr-FR" sz="1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= 135212709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ZoneTexte 16"/>
          <p:cNvSpPr/>
          <p:nvPr/>
        </p:nvSpPr>
        <p:spPr>
          <a:xfrm>
            <a:off x="571680" y="5072040"/>
            <a:ext cx="192852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1" lang="fr-FR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= 20851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ZoneTexte 17"/>
          <p:cNvSpPr/>
          <p:nvPr/>
        </p:nvSpPr>
        <p:spPr>
          <a:xfrm>
            <a:off x="3643200" y="1785960"/>
            <a:ext cx="1857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B-arbre (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ZoneTexte 18"/>
          <p:cNvSpPr/>
          <p:nvPr/>
        </p:nvSpPr>
        <p:spPr>
          <a:xfrm>
            <a:off x="571680" y="1785960"/>
            <a:ext cx="185724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B-arbre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Connecteur droit 19"/>
          <p:cNvSpPr/>
          <p:nvPr/>
        </p:nvSpPr>
        <p:spPr>
          <a:xfrm flipH="1">
            <a:off x="6215040" y="1928880"/>
            <a:ext cx="1440" cy="44290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ZoneTexte 20"/>
          <p:cNvSpPr/>
          <p:nvPr/>
        </p:nvSpPr>
        <p:spPr>
          <a:xfrm>
            <a:off x="6500880" y="2286000"/>
            <a:ext cx="164304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Nœud = (cle + Pteur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ZoneTexte 21"/>
          <p:cNvSpPr/>
          <p:nvPr/>
        </p:nvSpPr>
        <p:spPr>
          <a:xfrm>
            <a:off x="6500880" y="3286080"/>
            <a:ext cx="164304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Ordre = 5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ZoneTexte 22"/>
          <p:cNvSpPr/>
          <p:nvPr/>
        </p:nvSpPr>
        <p:spPr>
          <a:xfrm>
            <a:off x="6500880" y="4214880"/>
            <a:ext cx="242892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512</a:t>
            </a:r>
            <a:r>
              <a:rPr b="1" lang="fr-FR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= 134 217 7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ZoneTexte 23"/>
          <p:cNvSpPr/>
          <p:nvPr/>
        </p:nvSpPr>
        <p:spPr>
          <a:xfrm>
            <a:off x="6500880" y="5000760"/>
            <a:ext cx="243036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512</a:t>
            </a:r>
            <a:r>
              <a:rPr b="1" lang="fr-FR" sz="1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= 68 719 476 7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ZoneTexte 24"/>
          <p:cNvSpPr/>
          <p:nvPr/>
        </p:nvSpPr>
        <p:spPr>
          <a:xfrm>
            <a:off x="6429240" y="1785960"/>
            <a:ext cx="1857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B+-arb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457200" y="157176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Variante : B</a:t>
            </a:r>
            <a:r>
              <a:rPr b="1" i="1" lang="fr-FR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 Arbres avec expansion parti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buClr>
                <a:srgbClr val="4f81b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rbre B+ avec amélioration du facteur de char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buClr>
                <a:srgbClr val="4f81b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buClr>
                <a:srgbClr val="4f81b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tilise le concept d’élasticité des nœuds :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ncrémenter graduellement la taille de la case surchargée au lieu de la diviser immédiat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buClr>
                <a:srgbClr val="4f81b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buClr>
                <a:srgbClr val="4f81b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a division se fait quand une taille maximale est attei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buClr>
                <a:srgbClr val="4f81b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buClr>
                <a:srgbClr val="4f81b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Exige une gestion plus délicate de l'espace disque (que celle de l'arbre B) car il faut gérer des cases de tailles différ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buClr>
                <a:srgbClr val="4f81b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buClr>
                <a:srgbClr val="4f81b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buClr>
                <a:srgbClr val="4f81b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Garantit un chargement moyen de 83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0" y="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rbres B</a:t>
            </a:r>
            <a:r>
              <a:rPr b="1" i="1" lang="fr-FR" sz="18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+</a:t>
            </a: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avec expa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8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3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8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3" dur="5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8" dur="500"/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8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Hachage dynamiqu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285840" y="2142720"/>
            <a:ext cx="4543200" cy="6858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Calibri"/>
              </a:rPr>
              <a:t>Hachage  classique limité aux fichi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1900" spc="-1" strike="noStrike">
                <a:solidFill>
                  <a:srgbClr val="000000"/>
                </a:solidFill>
                <a:latin typeface="Calibri"/>
              </a:rPr>
              <a:t>statiques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1596960" y="500040"/>
            <a:ext cx="24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2071800" y="3429000"/>
            <a:ext cx="4572000" cy="7671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a plupart des applications utilisent 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fichiers dynam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714240" y="5230800"/>
            <a:ext cx="7500960" cy="7671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aintenir un bon accès et un bon chargement du fichier quand 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fichier se développe ou se  rétréc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5857920" y="2071800"/>
            <a:ext cx="2714760" cy="7038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domaines d’utilisation restre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dynam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lèche droite 8"/>
          <p:cNvSpPr/>
          <p:nvPr/>
        </p:nvSpPr>
        <p:spPr>
          <a:xfrm>
            <a:off x="5072040" y="228600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Flèche droite 9"/>
          <p:cNvSpPr/>
          <p:nvPr/>
        </p:nvSpPr>
        <p:spPr>
          <a:xfrm rot="5400000">
            <a:off x="4000320" y="4571640"/>
            <a:ext cx="500040" cy="214560"/>
          </a:xfrm>
          <a:prstGeom prst="rightArrow">
            <a:avLst>
              <a:gd name="adj1" fmla="val 50000"/>
              <a:gd name="adj2" fmla="val 4994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57200" y="1071720"/>
            <a:ext cx="711504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Calibri"/>
              </a:rPr>
              <a:t>Arbres B et ses variante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900" spc="-1" strike="noStrike">
                <a:solidFill>
                  <a:srgbClr val="000000"/>
                </a:solidFill>
                <a:latin typeface="Calibri"/>
              </a:rPr>
              <a:t>(2 à 3 accès disque, Facteur de chargement aux environs de 70%, Fichier dynamique et ordonné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Calibri"/>
              </a:rPr>
              <a:t>Ces propriétés font des arbres B l'une des structures de fichiers les plus populaire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428760" y="5715000"/>
            <a:ext cx="82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es possibilités de cette approche sont étonnantes car incapable de les croire avant les années 80 ( 55 à 80 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dynam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Connecteur droit 6"/>
          <p:cNvSpPr/>
          <p:nvPr/>
        </p:nvSpPr>
        <p:spPr>
          <a:xfrm flipV="1">
            <a:off x="0" y="3429000"/>
            <a:ext cx="878688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0" y="3071880"/>
            <a:ext cx="188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alibri"/>
              </a:rPr>
              <a:t>Avant les années 8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0" y="35719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alibri"/>
              </a:rPr>
              <a:t>A partir des années 8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423720" y="3957480"/>
            <a:ext cx="78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es fichiers dynamiques peuvent être construits avec le hach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439560" y="4578480"/>
            <a:ext cx="749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a nouvelle approche d'utilisation du hachage est appelée hachage dynamique  ( hachage extensible ou hachage virtuel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2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28760" y="1571400"/>
            <a:ext cx="3471840" cy="147132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e hachage classique (au sens de KNUTH) suppose que la fonction de hachage est statiqu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571680" y="871560"/>
            <a:ext cx="4686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Du hachage classique au hacha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dynam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5643720" y="1714680"/>
            <a:ext cx="3000240" cy="64260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Nombre d'adresses possibles : consta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428760" y="3357720"/>
            <a:ext cx="3500280" cy="119124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Toute collision crée un débordement </a:t>
            </a: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dégradation de performances d'accè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5429160" y="3286080"/>
            <a:ext cx="2857680" cy="119124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es débordements = Fonction croissante du nombre d'inser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1500120" y="5500800"/>
            <a:ext cx="6215040" cy="64260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Objectif de tout algorithme apparu : minimiser cette dégrad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Flèche droite 10"/>
          <p:cNvSpPr/>
          <p:nvPr/>
        </p:nvSpPr>
        <p:spPr>
          <a:xfrm>
            <a:off x="4714920" y="207180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Flèche droite 11"/>
          <p:cNvSpPr/>
          <p:nvPr/>
        </p:nvSpPr>
        <p:spPr>
          <a:xfrm>
            <a:off x="4429080" y="3786120"/>
            <a:ext cx="500040" cy="214560"/>
          </a:xfrm>
          <a:prstGeom prst="rightArrow">
            <a:avLst>
              <a:gd name="adj1" fmla="val 50000"/>
              <a:gd name="adj2" fmla="val 4994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500040" y="1500120"/>
            <a:ext cx="7358040" cy="50004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hachage dynamique : bouleverse les idées du hachage class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571680" y="871560"/>
            <a:ext cx="4686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Du hachage classique au hacha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dynam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500040" y="2922480"/>
            <a:ext cx="3000240" cy="91692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'idée principal : changement dynamique de la fonction d'accè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4500720" y="3643200"/>
            <a:ext cx="3500280" cy="119124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Une insertion ou une suppression peut commencer par une fonction de hachage et terminer par une aut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4500720" y="2357280"/>
            <a:ext cx="3643200" cy="64260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'espace des adresses possibles n'est plus limité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571680" y="5429160"/>
            <a:ext cx="8143560" cy="91692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e hachage dynamique fournit de bonnes performances de recherche et un facteur de chargement élevé 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dépendamment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de la taille du fichier et 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sans réorganisation périodique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Flèche droite 11"/>
          <p:cNvSpPr/>
          <p:nvPr/>
        </p:nvSpPr>
        <p:spPr>
          <a:xfrm rot="19159800">
            <a:off x="3642840" y="2922120"/>
            <a:ext cx="500040" cy="214560"/>
          </a:xfrm>
          <a:prstGeom prst="rightArrow">
            <a:avLst>
              <a:gd name="adj1" fmla="val 50000"/>
              <a:gd name="adj2" fmla="val 4994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Flèche droite 12"/>
          <p:cNvSpPr/>
          <p:nvPr/>
        </p:nvSpPr>
        <p:spPr>
          <a:xfrm rot="1566600">
            <a:off x="3643200" y="363708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dynam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785880" y="1897200"/>
          <a:ext cx="7215120" cy="3389040"/>
        </p:xfrm>
        <a:graphic>
          <a:graphicData uri="http://schemas.openxmlformats.org/drawingml/2006/table">
            <a:tbl>
              <a:tblPr/>
              <a:tblGrid>
                <a:gridCol w="2405160"/>
                <a:gridCol w="2404800"/>
                <a:gridCol w="2405160"/>
              </a:tblGrid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achage class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achage dynam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nction de hach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pace des adre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m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 lim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l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joute toujours un débord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ut éliminer un débord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bord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ortionnels au nombre de donné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76" name="Rectangle 5"/>
          <p:cNvSpPr/>
          <p:nvPr/>
        </p:nvSpPr>
        <p:spPr>
          <a:xfrm>
            <a:off x="571680" y="871560"/>
            <a:ext cx="4686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Du hachage classique au hacha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3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dynam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571680" y="871560"/>
            <a:ext cx="4686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Quelques résultats remarquables</a:t>
            </a: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Diagramme 11" descr=""/>
          <p:cNvPicPr/>
          <p:nvPr/>
        </p:nvPicPr>
        <p:blipFill>
          <a:blip r:embed="rId1"/>
          <a:stretch/>
        </p:blipFill>
        <p:spPr>
          <a:xfrm>
            <a:off x="853920" y="1420920"/>
            <a:ext cx="7296480" cy="47307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12"/>
          <p:cNvSpPr/>
          <p:nvPr/>
        </p:nvSpPr>
        <p:spPr>
          <a:xfrm>
            <a:off x="5214960" y="1571760"/>
            <a:ext cx="3500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Times New Roman"/>
              </a:rPr>
              <a:t>Quelque soit le nombre d'insertions, Recherche = 1 accè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7215120" y="2620800"/>
            <a:ext cx="192888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Times New Roman"/>
              </a:rPr>
              <a:t>Quelque soit le nombre d'insertions, Recherche = 1 à 2 accè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Times New Roman"/>
              </a:rPr>
              <a:t>Facteur de chargement=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4572000" y="58579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Times New Roman"/>
              </a:rPr>
              <a:t>Fichiers dynamiques ordonnés et de fichiers multidimensionnels  sans index et une recherche prend 1 accè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0" y="1714680"/>
            <a:ext cx="32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Times New Roman"/>
              </a:rPr>
              <a:t>Très grands fichiers dynamiques et ordonnés dans lesquels une recherche prend au plus 2 accè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6"/>
          <p:cNvSpPr/>
          <p:nvPr/>
        </p:nvSpPr>
        <p:spPr>
          <a:xfrm>
            <a:off x="214200" y="4572000"/>
            <a:ext cx="2143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Times New Roman"/>
              </a:rPr>
              <a:t>Grands fichiers dynamiques et ordonnés dans lesquels une recherche prend au plus 1 accè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Défin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Technique plus complexe mais garantit l'équilibrage de l'arbre (donc recherche plus rapid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En plus, chaque nœud de l'arbre(sauf la racine) est au moins rempli à moitié (donc peu d'espace perdu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===&gt; reste encore très utilisée dans les systèmes de fichier actue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rbres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8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Hachage linéai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57200" y="1600200"/>
            <a:ext cx="82296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LH utilise les fonctions  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0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, 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, 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2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, … telles 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(fonctions de divis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- 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i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: C  </a:t>
            </a: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 {0, 1, ...,  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  <a:ea typeface="Courier New"/>
              </a:rPr>
              <a:t>i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.N - 1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- 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i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(c) = 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i-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(c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              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ou bi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    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- 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i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(c) = 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i-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(c) + 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  <a:ea typeface="Courier New"/>
              </a:rPr>
              <a:t>i-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.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liné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642960" y="4857840"/>
            <a:ext cx="4572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nctions couramment utilisée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i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c) = c Mod  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Times New Roman"/>
                <a:ea typeface="Courier New"/>
              </a:rPr>
              <a:t>i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.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28400" y="193356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Construction de la table avec la méthode class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L'insertion de 4900 provoque une collision sur la case 0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Pour le chainage séparé, la clé est rangée en débord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5072040" y="4857840"/>
            <a:ext cx="3691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h = c Mod N ;   N = 100, capacité b =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8" descr=""/>
          <p:cNvPicPr/>
          <p:nvPr/>
        </p:nvPicPr>
        <p:blipFill>
          <a:blip r:embed="rId1"/>
          <a:stretch/>
        </p:blipFill>
        <p:spPr>
          <a:xfrm>
            <a:off x="4572000" y="2214720"/>
            <a:ext cx="3876840" cy="2251080"/>
          </a:xfrm>
          <a:prstGeom prst="rect">
            <a:avLst/>
          </a:prstGeom>
          <a:ln w="0">
            <a:noFill/>
          </a:ln>
        </p:spPr>
      </p:pic>
      <p:cxnSp>
        <p:nvCxnSpPr>
          <p:cNvPr id="292" name="Connecteur droit avec flèche 15"/>
          <p:cNvCxnSpPr/>
          <p:nvPr/>
        </p:nvCxnSpPr>
        <p:spPr>
          <a:xfrm flipH="1">
            <a:off x="4928400" y="1643040"/>
            <a:ext cx="2520" cy="572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3" name="ZoneTexte 16"/>
          <p:cNvSpPr/>
          <p:nvPr/>
        </p:nvSpPr>
        <p:spPr>
          <a:xfrm>
            <a:off x="5002560" y="164304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49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7"/>
          <p:cNvSpPr/>
          <p:nvPr/>
        </p:nvSpPr>
        <p:spPr>
          <a:xfrm>
            <a:off x="6000840" y="1500120"/>
            <a:ext cx="1500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5" name="Connecteur droit avec flèche 19"/>
          <p:cNvCxnSpPr>
            <a:endCxn id="294" idx="1"/>
          </p:cNvCxnSpPr>
          <p:nvPr/>
        </p:nvCxnSpPr>
        <p:spPr>
          <a:xfrm flipV="1">
            <a:off x="5000760" y="1677240"/>
            <a:ext cx="1000800" cy="894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96" name="Rectangle 9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liné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5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8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1" dur="5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28760" y="2071440"/>
            <a:ext cx="40003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Construction de la table avec la méthode classique ( fonction 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0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L'insertion de 4900 provoque une collision sur la case 0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Le fichier est donc réorganisé selon la nouvelle fonction 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h(c) = 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(c) si 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0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(c) = 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h(c) = 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0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(c) sin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Picture 4" descr=""/>
          <p:cNvPicPr/>
          <p:nvPr/>
        </p:nvPicPr>
        <p:blipFill>
          <a:blip r:embed="rId1"/>
          <a:stretch/>
        </p:blipFill>
        <p:spPr>
          <a:xfrm>
            <a:off x="4857840" y="1544760"/>
            <a:ext cx="3786120" cy="19555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"/>
          <p:cNvPicPr/>
          <p:nvPr/>
        </p:nvPicPr>
        <p:blipFill>
          <a:blip r:embed="rId2"/>
          <a:stretch/>
        </p:blipFill>
        <p:spPr>
          <a:xfrm>
            <a:off x="4886280" y="3714840"/>
            <a:ext cx="4257720" cy="228600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6"/>
          <p:cNvSpPr/>
          <p:nvPr/>
        </p:nvSpPr>
        <p:spPr>
          <a:xfrm>
            <a:off x="5072040" y="6186600"/>
            <a:ext cx="3691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h0 = c Mod N ;   N = 100, capacité b =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1" name="Connecteur droit avec flèche 12"/>
          <p:cNvCxnSpPr/>
          <p:nvPr/>
        </p:nvCxnSpPr>
        <p:spPr>
          <a:xfrm flipH="1">
            <a:off x="5143320" y="928440"/>
            <a:ext cx="2160" cy="572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2" name="ZoneTexte 13"/>
          <p:cNvSpPr/>
          <p:nvPr/>
        </p:nvSpPr>
        <p:spPr>
          <a:xfrm>
            <a:off x="5216760" y="92880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49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orme libre 14"/>
          <p:cNvSpPr/>
          <p:nvPr/>
        </p:nvSpPr>
        <p:spPr>
          <a:xfrm>
            <a:off x="4853160" y="3610080"/>
            <a:ext cx="485640" cy="425520"/>
          </a:xfrm>
          <a:prstGeom prst="pi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orme libre 15"/>
          <p:cNvSpPr/>
          <p:nvPr/>
        </p:nvSpPr>
        <p:spPr>
          <a:xfrm>
            <a:off x="8429760" y="3643200"/>
            <a:ext cx="487080" cy="425520"/>
          </a:xfrm>
          <a:prstGeom prst="pi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1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liné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6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9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2" dur="5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5" dur="5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8" dur="5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Idée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princip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L'application des fonctions de division a résolu la collis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SANS création de déborde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SANS dégradation des performances d'accè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Le fichier est étendu d'une ca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liné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4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7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0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5" dur="5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Stratégie de divis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A chaque collision il y 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- Remplacement de la fonction couran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- Réorganisation correspondan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Le principe de LH est de diviser les cases dans un ordre prédéfin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P =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0, 1, 2, ...., N-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   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0, 1, 2, ...., 2N-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   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   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0, 1, ....., 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  <a:ea typeface="Courier New"/>
              </a:rPr>
              <a:t>i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.N-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3929040" y="5000760"/>
            <a:ext cx="238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  : Prochaine case à écl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liné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2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5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8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3" dur="5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6" dur="500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9" dur="500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2" dur="500"/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5" dur="500"/>
                                        <p:tgtEl>
                                          <p:spTgt spid="3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8" dur="500"/>
                                        <p:tgtEl>
                                          <p:spTgt spid="3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57200" y="1934640"/>
            <a:ext cx="5114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Stratégie de divis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Une séquence est dite "trip"  ou voyag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Le i-ème voyage utilise la fonction 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i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Le premier voyage remplace de gauche à droite 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0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par 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en étendant le fichier de 2N cas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Le second voyage remplace 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par 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2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en étendant le fichier avec 4N cas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Etc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6369480" y="275256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, 1, 2, ...., N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6370200" y="339552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, 1, 2, ...., 2N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6373800" y="4610160"/>
            <a:ext cx="20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, 1, ....., 2</a:t>
            </a:r>
            <a:r>
              <a:rPr b="1" lang="fr-FR" sz="2400" spc="-1" strike="noStrike" baseline="30000">
                <a:solidFill>
                  <a:srgbClr val="000000"/>
                </a:solidFill>
                <a:latin typeface="Times New Roman"/>
                <a:ea typeface="Courier New"/>
              </a:rPr>
              <a:t>i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.N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6361200" y="4038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liné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8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3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8" dur="50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3" dur="500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8" dur="500"/>
                                        <p:tgtEl>
                                          <p:spTgt spid="3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tratégie de résolution de collision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'adresse d'une collision est typiquement aléatoire (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a situation P=m est rare.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(P prochaine case à éclate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ègle de divis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haque collision sur m conduit à la division de la case P.                  ( Faire P </a:t>
            </a: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P+1 ou P </a:t>
            </a: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0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auf pour le cas où P=m, la  clé est rangée en débordement selon une méthode classique de résolu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liné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3" dur="5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8" dur="500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3" dur="500"/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6" dur="500"/>
                                        <p:tgtEl>
                                          <p:spTgt spid="3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1" dur="500"/>
                                        <p:tgtEl>
                                          <p:spTgt spid="3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Évolution du fich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Première collis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Quelque soit la valeur de m1, il y a division de la case 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Sauf pour m1 = 0, la nouvelle clé est rangée en déborde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Deuxième colli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Quelque soit la valeur de m2, il y a division de la case 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Sauf pour m2= 1, la nouvelle clé est rangée en déborde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Ce traitement continue jusqu'a N collis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5572080" y="1357200"/>
            <a:ext cx="32860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nitialement le fichier est vi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apacité de la case : b &gt;&gt;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oit mj l'adresse de la j-ième collision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liné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4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7" dur="5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0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3" dur="5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8" dur="500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1" dur="500"/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4" dur="500"/>
                                        <p:tgtEl>
                                          <p:spTgt spid="3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9" dur="500"/>
                                        <p:tgtEl>
                                          <p:spTgt spid="3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Évolution du fich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Après N divis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h0 est totalement remplacée par h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La situation est donc analogue à la situation initiale sauf que le fichier contient 2 fois plus de cas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Les 2N prochaines divisions utilisent la fonction 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2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P reprend la valeur 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liné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6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1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6" dur="5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1" dur="500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6" dur="500"/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Défini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arbre B d'ordre n est tel que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a racine a au moins 2 fi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haque nœud, autre que la racine, a entre n/2 et n fi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tous les nœuds feuilles sont au même nivea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Remarqu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B pour Bayer  / Boeing / Balanc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rbres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Calcul de l'adresse primai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i="1" lang="nl-NL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m </a:t>
            </a:r>
            <a:r>
              <a:rPr b="1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1" i="1" lang="nl-NL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  h</a:t>
            </a:r>
            <a:r>
              <a:rPr b="1" i="1" lang="nl-NL" sz="24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j</a:t>
            </a:r>
            <a:r>
              <a:rPr b="1" i="1" lang="nl-NL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 (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i="1" lang="nl-NL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Si m &lt; 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m </a:t>
            </a:r>
            <a:r>
              <a:rPr b="1" i="1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 h</a:t>
            </a:r>
            <a:r>
              <a:rPr b="1" i="1" lang="fr-FR" sz="24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j+1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 (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F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P étant l'adresse de la prochaine case à éclater.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572080" y="1357200"/>
            <a:ext cx="32860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oit j l'indice ( le niveau ) de la fonction de division courante. Soit c une c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liné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9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2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5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8" dur="5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1" dur="5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4" dur="500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Calcul de l'adresse primai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 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i="1" lang="nl-NL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m </a:t>
            </a:r>
            <a:r>
              <a:rPr b="1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1" i="1" lang="nl-NL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  h</a:t>
            </a:r>
            <a:r>
              <a:rPr b="1" i="1" lang="nl-NL" sz="24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j</a:t>
            </a:r>
            <a:r>
              <a:rPr b="1" i="1" lang="nl-NL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 (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Si m </a:t>
            </a:r>
            <a:r>
              <a:rPr b="1" i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i="1" lang="nl-NL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m </a:t>
            </a:r>
            <a:r>
              <a:rPr b="1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1" i="1" lang="nl-NL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 h</a:t>
            </a:r>
            <a:r>
              <a:rPr b="1" i="1" lang="nl-NL" sz="24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j-1</a:t>
            </a:r>
            <a:r>
              <a:rPr b="1" i="1" lang="nl-NL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 (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F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M étant le nombre courant de cases primair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5572080" y="1357200"/>
            <a:ext cx="32860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oit j l'indice ( le niveau ) de la fonction de division courante. Soit c une c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liné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7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0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3" dur="5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6" dur="500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9" dur="500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2" dur="500"/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3"/>
          <p:cNvSpPr/>
          <p:nvPr/>
        </p:nvSpPr>
        <p:spPr>
          <a:xfrm>
            <a:off x="457200" y="1935000"/>
            <a:ext cx="361476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Perform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b  : capacité de case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 : facteur de char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' : recherche avec succè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" : recherche sans succè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5" descr=""/>
          <p:cNvPicPr/>
          <p:nvPr/>
        </p:nvPicPr>
        <p:blipFill>
          <a:blip r:embed="rId1"/>
          <a:stretch/>
        </p:blipFill>
        <p:spPr>
          <a:xfrm>
            <a:off x="4357800" y="2808360"/>
            <a:ext cx="4005000" cy="204948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4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liné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-88920" algn="just">
              <a:lnSpc>
                <a:spcPct val="90000"/>
              </a:lnSpc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88920" indent="-88920" algn="just">
              <a:lnSpc>
                <a:spcPct val="90000"/>
              </a:lnSpc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L'éclatement d'une case est provoqué quand le facteur de chargement devient supérieur à un seuil s donné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88920" indent="-88920" algn="just">
              <a:lnSpc>
                <a:spcPct val="90000"/>
              </a:lnSpc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88920" indent="-88920" algn="just">
              <a:lnSpc>
                <a:spcPct val="90000"/>
              </a:lnSpc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Dans le cas de non éclatement : utilisation du chaînage sépar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88920" indent="-88920" algn="just">
              <a:lnSpc>
                <a:spcPct val="90000"/>
              </a:lnSpc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88920" indent="-88920" algn="just">
              <a:lnSpc>
                <a:spcPct val="90000"/>
              </a:lnSpc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Quand une donnée est supprimée, la contraction ( opération inverse de l'éclatement )sera faite quand le facteur de chargement devient inférieur ou égal à un seuil s' donné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88920" indent="-889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liné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500040" y="100008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H contrôlé /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rinci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1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6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1" dur="50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3"/>
          <p:cNvSpPr/>
          <p:nvPr/>
        </p:nvSpPr>
        <p:spPr>
          <a:xfrm>
            <a:off x="457200" y="1935000"/>
            <a:ext cx="2614680" cy="36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Exe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aramètr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N = 5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b = b' =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s=0.60, s'=0.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c) = c Mod 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</a:rPr>
              <a:t>i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.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i = 0, au dé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Picture 6" descr=""/>
          <p:cNvPicPr/>
          <p:nvPr/>
        </p:nvPicPr>
        <p:blipFill>
          <a:blip r:embed="rId1"/>
          <a:stretch/>
        </p:blipFill>
        <p:spPr>
          <a:xfrm>
            <a:off x="5114880" y="2949480"/>
            <a:ext cx="3029040" cy="3337200"/>
          </a:xfrm>
          <a:prstGeom prst="rect">
            <a:avLst/>
          </a:prstGeom>
          <a:ln w="0">
            <a:noFill/>
          </a:ln>
        </p:spPr>
      </p:pic>
      <p:sp>
        <p:nvSpPr>
          <p:cNvPr id="338" name="Flèche vers le bas 9"/>
          <p:cNvSpPr/>
          <p:nvPr/>
        </p:nvSpPr>
        <p:spPr>
          <a:xfrm>
            <a:off x="6286680" y="2286000"/>
            <a:ext cx="142560" cy="428760"/>
          </a:xfrm>
          <a:prstGeom prst="downArrow">
            <a:avLst>
              <a:gd name="adj1" fmla="val 50000"/>
              <a:gd name="adj2" fmla="val 5012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ZoneTexte 10"/>
          <p:cNvSpPr/>
          <p:nvPr/>
        </p:nvSpPr>
        <p:spPr>
          <a:xfrm>
            <a:off x="5286240" y="150012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ser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11, 0, 5, 6, 16, 31, 34, 5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liné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500040" y="100008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H contrôlé /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rinci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8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1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4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7" dur="5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0" dur="50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3" dur="500"/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6" dur="500"/>
                                        <p:tgtEl>
                                          <p:spTgt spid="3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5" descr=""/>
          <p:cNvPicPr/>
          <p:nvPr/>
        </p:nvPicPr>
        <p:blipFill>
          <a:blip r:embed="rId1"/>
          <a:stretch/>
        </p:blipFill>
        <p:spPr>
          <a:xfrm>
            <a:off x="5014800" y="2928960"/>
            <a:ext cx="3343320" cy="320508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3"/>
          <p:cNvSpPr/>
          <p:nvPr/>
        </p:nvSpPr>
        <p:spPr>
          <a:xfrm>
            <a:off x="457200" y="1935000"/>
            <a:ext cx="2614680" cy="36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Exe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aramètr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N = 5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b = b' =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s=0.60, s'=0.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c) = c Mod 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</a:rPr>
              <a:t>i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.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i = 0, au dé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ZoneTexte 10"/>
          <p:cNvSpPr/>
          <p:nvPr/>
        </p:nvSpPr>
        <p:spPr>
          <a:xfrm>
            <a:off x="5286240" y="1143000"/>
            <a:ext cx="30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sertion de 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Flèche vers le bas 11"/>
          <p:cNvSpPr/>
          <p:nvPr/>
        </p:nvSpPr>
        <p:spPr>
          <a:xfrm>
            <a:off x="6286680" y="2286000"/>
            <a:ext cx="142560" cy="428760"/>
          </a:xfrm>
          <a:prstGeom prst="downArrow">
            <a:avLst>
              <a:gd name="adj1" fmla="val 50000"/>
              <a:gd name="adj2" fmla="val 5012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2"/>
          <p:cNvSpPr/>
          <p:nvPr/>
        </p:nvSpPr>
        <p:spPr>
          <a:xfrm>
            <a:off x="4714920" y="1714680"/>
            <a:ext cx="287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acteur de chargement = 6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Picture 6" descr=""/>
          <p:cNvPicPr/>
          <p:nvPr/>
        </p:nvPicPr>
        <p:blipFill>
          <a:blip r:embed="rId2"/>
          <a:stretch/>
        </p:blipFill>
        <p:spPr>
          <a:xfrm>
            <a:off x="7429680" y="0"/>
            <a:ext cx="1714320" cy="188928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8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liné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500040" y="100008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H contrôlé /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rinci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8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1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4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7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0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3" dur="500"/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6" dur="500"/>
                                        <p:tgtEl>
                                          <p:spTgt spid="3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3"/>
          <p:cNvSpPr/>
          <p:nvPr/>
        </p:nvSpPr>
        <p:spPr>
          <a:xfrm>
            <a:off x="457200" y="1935000"/>
            <a:ext cx="2614680" cy="36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Exe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aramètr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N = 5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b = b' =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s=0.60, s'=0.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c) = c Mod 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</a:rPr>
              <a:t>i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.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i = 0, au dé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ZoneTexte 10"/>
          <p:cNvSpPr/>
          <p:nvPr/>
        </p:nvSpPr>
        <p:spPr>
          <a:xfrm>
            <a:off x="5143680" y="1143000"/>
            <a:ext cx="192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sertion de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Flèche vers le bas 11"/>
          <p:cNvSpPr/>
          <p:nvPr/>
        </p:nvSpPr>
        <p:spPr>
          <a:xfrm>
            <a:off x="6286680" y="2286000"/>
            <a:ext cx="142560" cy="428760"/>
          </a:xfrm>
          <a:prstGeom prst="downArrow">
            <a:avLst>
              <a:gd name="adj1" fmla="val 50000"/>
              <a:gd name="adj2" fmla="val 5012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12"/>
          <p:cNvSpPr/>
          <p:nvPr/>
        </p:nvSpPr>
        <p:spPr>
          <a:xfrm>
            <a:off x="4214880" y="1714680"/>
            <a:ext cx="30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acteur de chargement = 6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1"/>
          <a:stretch/>
        </p:blipFill>
        <p:spPr>
          <a:xfrm>
            <a:off x="6929280" y="0"/>
            <a:ext cx="2214720" cy="21240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"/>
          <p:cNvPicPr/>
          <p:nvPr/>
        </p:nvPicPr>
        <p:blipFill>
          <a:blip r:embed="rId2"/>
          <a:stretch/>
        </p:blipFill>
        <p:spPr>
          <a:xfrm>
            <a:off x="4214880" y="3071880"/>
            <a:ext cx="4714920" cy="250992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9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liné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13"/>
          <p:cNvSpPr/>
          <p:nvPr/>
        </p:nvSpPr>
        <p:spPr>
          <a:xfrm>
            <a:off x="500040" y="100008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H contrôlé /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rinci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6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9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2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5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8" dur="5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1" dur="500"/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4" dur="500"/>
                                        <p:tgtEl>
                                          <p:spTgt spid="3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3"/>
          <p:cNvSpPr/>
          <p:nvPr/>
        </p:nvSpPr>
        <p:spPr>
          <a:xfrm>
            <a:off x="457200" y="1935000"/>
            <a:ext cx="2614680" cy="36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Exe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aramètr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N = 5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b = b' =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s=0.60, s'=0.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c) = c Mod 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</a:rPr>
              <a:t>i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.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i = 0, au dé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ZoneTexte 10"/>
          <p:cNvSpPr/>
          <p:nvPr/>
        </p:nvSpPr>
        <p:spPr>
          <a:xfrm>
            <a:off x="5143680" y="1662120"/>
            <a:ext cx="20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Suppression de 6, 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lèche vers le bas 11"/>
          <p:cNvSpPr/>
          <p:nvPr/>
        </p:nvSpPr>
        <p:spPr>
          <a:xfrm>
            <a:off x="6286680" y="2286000"/>
            <a:ext cx="142560" cy="428760"/>
          </a:xfrm>
          <a:prstGeom prst="downArrow">
            <a:avLst>
              <a:gd name="adj1" fmla="val 50000"/>
              <a:gd name="adj2" fmla="val 5012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6215040" y="0"/>
            <a:ext cx="2928960" cy="15588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"/>
          <p:cNvPicPr/>
          <p:nvPr/>
        </p:nvPicPr>
        <p:blipFill>
          <a:blip r:embed="rId2"/>
          <a:stretch/>
        </p:blipFill>
        <p:spPr>
          <a:xfrm>
            <a:off x="3586320" y="3429000"/>
            <a:ext cx="5329080" cy="157176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7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liné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2"/>
          <p:cNvSpPr/>
          <p:nvPr/>
        </p:nvSpPr>
        <p:spPr>
          <a:xfrm>
            <a:off x="500040" y="100008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H contrôlé /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rinci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4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7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0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3" dur="5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6" dur="50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9" dur="500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2" dur="500"/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3"/>
          <p:cNvSpPr/>
          <p:nvPr/>
        </p:nvSpPr>
        <p:spPr>
          <a:xfrm>
            <a:off x="457200" y="1935000"/>
            <a:ext cx="2614680" cy="36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Exe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aramètr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N = 5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b = b' =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s=0.60, s'=0.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c) = c Mod 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</a:rPr>
              <a:t>i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.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i = 0, au dé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ZoneTexte 10"/>
          <p:cNvSpPr/>
          <p:nvPr/>
        </p:nvSpPr>
        <p:spPr>
          <a:xfrm>
            <a:off x="5143680" y="1214280"/>
            <a:ext cx="20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Suppression de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Flèche vers le bas 11"/>
          <p:cNvSpPr/>
          <p:nvPr/>
        </p:nvSpPr>
        <p:spPr>
          <a:xfrm>
            <a:off x="6286680" y="2786040"/>
            <a:ext cx="142560" cy="428760"/>
          </a:xfrm>
          <a:prstGeom prst="downArrow">
            <a:avLst>
              <a:gd name="adj1" fmla="val 50000"/>
              <a:gd name="adj2" fmla="val 5012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6086520" y="0"/>
            <a:ext cx="3057480" cy="90180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7"/>
          <p:cNvSpPr/>
          <p:nvPr/>
        </p:nvSpPr>
        <p:spPr>
          <a:xfrm>
            <a:off x="4500720" y="1928880"/>
            <a:ext cx="30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acteur de chargement = 5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2"/>
          <a:stretch/>
        </p:blipFill>
        <p:spPr>
          <a:xfrm>
            <a:off x="4429080" y="3500280"/>
            <a:ext cx="4000680" cy="280224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8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liné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500040" y="100008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H contrôlé /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rinci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1" dur="indefinite" restart="never" nodeType="tmRoot">
          <p:childTnLst>
            <p:seq>
              <p:cTn id="1312" dur="indefinite" nodeType="mainSeq">
                <p:childTnLst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7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0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3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6" dur="5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9" dur="5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2" dur="500"/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5" dur="500"/>
                                        <p:tgtEl>
                                          <p:spTgt spid="3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3"/>
          <p:cNvSpPr/>
          <p:nvPr/>
        </p:nvSpPr>
        <p:spPr>
          <a:xfrm>
            <a:off x="457200" y="1935000"/>
            <a:ext cx="2614680" cy="36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Exe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aramètr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N = 5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b = b' =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s=0.60, s'=0.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c) = c Mod 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</a:rPr>
              <a:t>i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.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i = 0, au dé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ZoneTexte 10"/>
          <p:cNvSpPr/>
          <p:nvPr/>
        </p:nvSpPr>
        <p:spPr>
          <a:xfrm>
            <a:off x="5143680" y="1214280"/>
            <a:ext cx="20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Suppression de 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lèche vers le bas 11"/>
          <p:cNvSpPr/>
          <p:nvPr/>
        </p:nvSpPr>
        <p:spPr>
          <a:xfrm>
            <a:off x="6286680" y="2786040"/>
            <a:ext cx="142560" cy="428760"/>
          </a:xfrm>
          <a:prstGeom prst="downArrow">
            <a:avLst>
              <a:gd name="adj1" fmla="val 50000"/>
              <a:gd name="adj2" fmla="val 5012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4500720" y="1928880"/>
            <a:ext cx="30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acteur de chargement = 5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1601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4429080" y="3643200"/>
            <a:ext cx="3600360" cy="242892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8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liné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12"/>
          <p:cNvSpPr/>
          <p:nvPr/>
        </p:nvSpPr>
        <p:spPr>
          <a:xfrm>
            <a:off x="500040" y="100008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H contrôlé /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rinci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9" dur="indefinite" restart="never" nodeType="tmRoot">
          <p:childTnLst>
            <p:seq>
              <p:cTn id="1360" dur="indefinite" nodeType="mainSeq">
                <p:childTnLst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5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8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1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4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7" dur="500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0" dur="500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3" dur="500"/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223920" y="4286160"/>
            <a:ext cx="8634240" cy="2214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142920" y="1714680"/>
            <a:ext cx="8790120" cy="16430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399960" y="1214280"/>
            <a:ext cx="33861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Exemple d’un B-arbre d’ordr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lèche droite 11"/>
          <p:cNvSpPr/>
          <p:nvPr/>
        </p:nvSpPr>
        <p:spPr>
          <a:xfrm rot="5400000">
            <a:off x="3643200" y="3714480"/>
            <a:ext cx="571320" cy="2858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ZoneTexte 12"/>
          <p:cNvSpPr/>
          <p:nvPr/>
        </p:nvSpPr>
        <p:spPr>
          <a:xfrm rot="5400000">
            <a:off x="3989520" y="3516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471600" y="3643200"/>
            <a:ext cx="33861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Mécanisme d’inser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rbres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934640"/>
            <a:ext cx="37576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Synthèse 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Fourni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facteur de chargement élevé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vec une légère détérioration des performances d'accè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4357800" y="1879560"/>
            <a:ext cx="435744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Quelques résultats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: ( b=20)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vec un chargement de 7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recherche avec succès 1.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recherche sans succès 1.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4357800" y="4451400"/>
            <a:ext cx="45720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Quelques résultats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: ( b=2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vec un chargement de 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recherche avec succès 1.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recherche sans succès 2.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5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liné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500040" y="100008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H contrôlé /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rinci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7" dur="indefinite" restart="never" nodeType="tmRoot">
          <p:childTnLst>
            <p:seq>
              <p:cTn id="1408" dur="indefinite" nodeType="mainSeq">
                <p:childTnLst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3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8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3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8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Dans LH, les cases éclatées sont moins remplies que les cases non encore éclaté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iformiser le chargement est un moyen d'améliorer les performances d'accè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vec deux expansions partielle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remière expansion: une moitié est rajouté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Deuxième expansion:  il dou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remière expansion :  éclater 2 cases . (Une nouvelle case est créé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Deuxième expansion : éclater 3 cases. (Une nouvelle case est créé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 algn="just"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remière expansion : transférer 1/3 de la cas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Deuxième expansion: transférer ¼ de la cas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Connecteur droit 4"/>
          <p:cNvSpPr/>
          <p:nvPr/>
        </p:nvSpPr>
        <p:spPr>
          <a:xfrm>
            <a:off x="1071720" y="3643200"/>
            <a:ext cx="0" cy="2500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5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liné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8"/>
          <p:cNvSpPr/>
          <p:nvPr/>
        </p:nvSpPr>
        <p:spPr>
          <a:xfrm>
            <a:off x="500040" y="100008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H contrôlé  avec expansion partielle/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ncep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0" dur="indefinite" restart="never" nodeType="tmRoot">
          <p:childTnLst>
            <p:seq>
              <p:cTn id="1441" dur="indefinite" nodeType="mainSeq">
                <p:childTnLst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6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1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6" dur="5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4" dur="50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7" dur="50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2" dur="500"/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5" dur="500"/>
                                        <p:tgtEl>
                                          <p:spTgt spid="3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0" dur="500"/>
                                        <p:tgtEl>
                                          <p:spTgt spid="3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3" dur="500"/>
                                        <p:tgtEl>
                                          <p:spTgt spid="3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On commence par un fichier de taille 2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Il est logiquement divisé en N group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(j, N+j)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j=0, 1, ..N-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On divise d'abord les cases du groupe 1,  puis les cases du groupe 2,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'éclatement du groupe j déplace à peu près 1/3 des clés des cases j et j+N dans la case nouvellement ajoutée j + 2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Quand le dernier groupe est éclaté, le fichier est étendu de 2N à 3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liné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500040" y="100008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H contrôlé  avec expansion partielle/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rinci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0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3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6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1" dur="5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6" dur="500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1" dur="500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ar la suite, on travaille sur des groupes de 3 pages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(j, N+j, 2N + j)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j=0, 1, 2...N-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'éclatement du groupe j déplace à peu près 1/4 des clés des cases j, j+N et j+2N dans la case nouvellement ajoutée j + 3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e fichier passe donc de 3N à 4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e processus recommence avec des groupes de 2 cases      (j, 2N +j ) j= 0, 1, ...N-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liné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4"/>
          <p:cNvSpPr/>
          <p:nvPr/>
        </p:nvSpPr>
        <p:spPr>
          <a:xfrm>
            <a:off x="500040" y="100008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H contrôlé  avec expansion partielle/ Principe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2" dur="indefinite" restart="never" nodeType="tmRoot">
          <p:childTnLst>
            <p:seq>
              <p:cTn id="1513" dur="indefinite" nodeType="mainSeq">
                <p:childTnLst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8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3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8" dur="5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3" dur="500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5" descr=""/>
          <p:cNvPicPr/>
          <p:nvPr/>
        </p:nvPicPr>
        <p:blipFill>
          <a:blip r:embed="rId1"/>
          <a:stretch/>
        </p:blipFill>
        <p:spPr>
          <a:xfrm>
            <a:off x="6581880" y="1785960"/>
            <a:ext cx="2562120" cy="10285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"/>
          <p:cNvPicPr/>
          <p:nvPr/>
        </p:nvPicPr>
        <p:blipFill>
          <a:blip r:embed="rId2"/>
          <a:stretch/>
        </p:blipFill>
        <p:spPr>
          <a:xfrm>
            <a:off x="5610240" y="3200400"/>
            <a:ext cx="3533760" cy="9428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"/>
          <p:cNvPicPr/>
          <p:nvPr/>
        </p:nvPicPr>
        <p:blipFill>
          <a:blip r:embed="rId3"/>
          <a:stretch/>
        </p:blipFill>
        <p:spPr>
          <a:xfrm>
            <a:off x="4486320" y="4581360"/>
            <a:ext cx="4657680" cy="990720"/>
          </a:xfrm>
          <a:prstGeom prst="rect">
            <a:avLst/>
          </a:prstGeom>
          <a:ln w="0">
            <a:noFill/>
          </a:ln>
        </p:spPr>
      </p:pic>
      <p:sp>
        <p:nvSpPr>
          <p:cNvPr id="399" name="ZoneTexte 9"/>
          <p:cNvSpPr/>
          <p:nvPr/>
        </p:nvSpPr>
        <p:spPr>
          <a:xfrm>
            <a:off x="4295160" y="2214720"/>
            <a:ext cx="189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Première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ZoneTexte 10"/>
          <p:cNvSpPr/>
          <p:nvPr/>
        </p:nvSpPr>
        <p:spPr>
          <a:xfrm>
            <a:off x="3155040" y="3571920"/>
            <a:ext cx="195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Deuxième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ZoneTexte 11"/>
          <p:cNvSpPr/>
          <p:nvPr/>
        </p:nvSpPr>
        <p:spPr>
          <a:xfrm>
            <a:off x="2080800" y="4857840"/>
            <a:ext cx="189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Première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ZoneTexte 12"/>
          <p:cNvSpPr/>
          <p:nvPr/>
        </p:nvSpPr>
        <p:spPr>
          <a:xfrm>
            <a:off x="8293320" y="5786280"/>
            <a:ext cx="79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.  .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3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liné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6"/>
          <p:cNvSpPr/>
          <p:nvPr/>
        </p:nvSpPr>
        <p:spPr>
          <a:xfrm>
            <a:off x="500040" y="1000080"/>
            <a:ext cx="557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H contrôlé  avec expansion partielle/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llustration avec 2 expansions partiel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4" dur="indefinite" restart="never" nodeType="tmRoot">
          <p:childTnLst>
            <p:seq>
              <p:cTn id="1535" dur="indefinite" nodeType="mainSeq">
                <p:childTnLst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28400" y="2499840"/>
            <a:ext cx="4143240" cy="200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Quelques résultats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 : ( b=2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vec un chargement de 7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700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recherche avec succès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1.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700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recherche sans succès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1.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2928960" y="4786200"/>
            <a:ext cx="4143240" cy="18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Quelques résultats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 : ( b=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vec un chargement de 9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recherche avec succès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1.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recherche sans succès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3.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5000760" y="2500200"/>
            <a:ext cx="4143240" cy="200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Quelques résultats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 : ( b=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vec un chargement de 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recherche avec succès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1.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recherche sans succès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1.9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6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liné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9"/>
          <p:cNvSpPr/>
          <p:nvPr/>
        </p:nvSpPr>
        <p:spPr>
          <a:xfrm>
            <a:off x="500040" y="1000080"/>
            <a:ext cx="557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H contrôlé  avec expansion partielle/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erform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1934640"/>
            <a:ext cx="4114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oncep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Dans le schéma de base, les débordements sont rangés dans une zone (fichier) à part ( chaînage séparé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On peut appliquer toute autre méthode  du hachage class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H  contrôlé avec essai linéaire : le plus intéressant ( Lectures de plusieurs cases en même temps (Contiguïté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5000760" y="3359160"/>
            <a:ext cx="4071960" cy="216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onstantia"/>
              </a:rPr>
              <a:t>Quelques résultats</a:t>
            </a:r>
            <a:r>
              <a:rPr b="1" lang="fr-FR" sz="2000" spc="-1" strike="noStrike">
                <a:solidFill>
                  <a:srgbClr val="000000"/>
                </a:solidFill>
                <a:latin typeface="Constantia"/>
              </a:rPr>
              <a:t> : ( b=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nstantia"/>
              </a:rPr>
              <a:t>Avec un chargement de 7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nstantia"/>
              </a:rPr>
              <a:t>recherche avec succès </a:t>
            </a:r>
            <a:r>
              <a:rPr b="1" lang="fr-FR" sz="2800" spc="-1" strike="noStrike">
                <a:solidFill>
                  <a:srgbClr val="000000"/>
                </a:solidFill>
                <a:latin typeface="Constantia"/>
              </a:rPr>
              <a:t>1.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nstantia"/>
              </a:rPr>
              <a:t>recherche sans succès </a:t>
            </a:r>
            <a:r>
              <a:rPr b="1" lang="fr-FR" sz="2800" spc="-1" strike="noStrike">
                <a:solidFill>
                  <a:srgbClr val="000000"/>
                </a:solidFill>
                <a:latin typeface="Constantia"/>
              </a:rPr>
              <a:t>1.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liné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500040" y="100008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H contrôlé  avec essai linéa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5" dur="indefinite" restart="never" nodeType="tmRoot">
          <p:childTnLst>
            <p:seq>
              <p:cTn id="1566" dur="indefinite" nodeType="mainSeq">
                <p:childTnLst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1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6" dur="5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1" dur="500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1934640"/>
            <a:ext cx="4114800" cy="32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oncep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Gérer les débordements de la même façon que le fichier princip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Généralement on va jusqu'au   3-ième nivea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4929120" y="2071800"/>
            <a:ext cx="4071960" cy="16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Quelques résultats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: ( b=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vec un chargement de 7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recherche avec succès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1.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recherche sans succès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1.2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4929120" y="4214880"/>
            <a:ext cx="4071960" cy="16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Quelques résultats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: ( b=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vec un chargement de 9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recherche avec succès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1.2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recherche sans succès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3.3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liné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500040" y="100008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H récurs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8" dur="indefinite" restart="never" nodeType="tmRoot">
          <p:childTnLst>
            <p:seq>
              <p:cTn id="1589" dur="indefinite" nodeType="mainSeq">
                <p:childTnLst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4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9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Nombre d’accès disque au voisinage de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quelque soit le nombre d’articles inséré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Fichiers dynamiques non ordonn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Facteur de chargement contrôl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liné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500040" y="100008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0" dur="indefinite" restart="never" nodeType="tmRoot">
          <p:childTnLst>
            <p:seq>
              <p:cTn id="1611" dur="indefinite" nodeType="mainSeq">
                <p:childTnLst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6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1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6" dur="5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8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Hachage digit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Suppre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ême principe que la suppression physique dans un A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En plus, si le nœud feuille qui contenait le successeur a moins de (n div 2) clés diverses  actions seront entrepris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rbres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6840" y="1934640"/>
            <a:ext cx="45435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Environnement du hachage digi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haque article est identifié par une clé primaire.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e fichier est constitué de cases numérotées 0, 1, 2, . .  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haque case contient au maximum b articles ( b : capacité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ase : unité de transfert entre la  RAM et le disqu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5786280" y="1928880"/>
            <a:ext cx="3071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C = d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1" lang="fr-FR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d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Constantia"/>
                <a:ea typeface="Times New Roman"/>
              </a:rPr>
              <a:t>1</a:t>
            </a:r>
            <a:r>
              <a:rPr b="1" lang="fr-FR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....d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Constantia"/>
                <a:ea typeface="Times New Roman"/>
              </a:rPr>
              <a:t>i</a:t>
            </a:r>
            <a:r>
              <a:rPr b="1" lang="fr-FR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....d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Constantia"/>
                <a:ea typeface="Times New Roman"/>
              </a:rPr>
              <a:t>k-1</a:t>
            </a:r>
            <a:r>
              <a:rPr b="1" lang="fr-FR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d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Constantia"/>
                <a:ea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5857920" y="2786040"/>
            <a:ext cx="2643120" cy="35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d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Constantia"/>
                <a:ea typeface="Times New Roman"/>
              </a:rPr>
              <a:t>i</a:t>
            </a:r>
            <a:r>
              <a:rPr b="1" lang="fr-FR" sz="1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: digits d'un alphabet donné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k+1</a:t>
            </a:r>
            <a:r>
              <a:rPr b="1" lang="fr-FR" sz="1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étant la longueur de la clé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i</a:t>
            </a:r>
            <a:r>
              <a:rPr b="1" lang="fr-FR" sz="1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est appelé le numéro (niveau) du dig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':'</a:t>
            </a:r>
            <a:r>
              <a:rPr b="1" lang="fr-FR" sz="1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désigne la valeur maximale du dig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'</a:t>
            </a:r>
            <a:r>
              <a:rPr b="1" lang="fr-FR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_'</a:t>
            </a:r>
            <a:r>
              <a:rPr b="1" lang="fr-FR" sz="1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représenté la valeur minimale du dig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7" dur="indefinite" restart="never" nodeType="tmRoot">
          <p:childTnLst>
            <p:seq>
              <p:cTn id="1628" dur="indefinite" nodeType="mainSeq">
                <p:childTnLst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3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6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1" dur="500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6" dur="500"/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llustration par un exemple 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( b = 4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équence des clés à insérer ( empruntée de KNUTH ) : 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  <a:ea typeface="Times New Roman"/>
              </a:rPr>
              <a:t>the, of, and, to, a, in, that, is, i, it, for, as, with, has, his, he, be, not, by, but, have, you, which, are, on, or, her, had, at, from, th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e fichier est supposé créé avec seulement la case 0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u départ,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f(clé) = 0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quelque soit la cl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onc, les 4 premières clés vont dans la case 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ase 0 : (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nd, of, the, to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7" dur="indefinite" restart="never" nodeType="tmRoot">
          <p:childTnLst>
            <p:seq>
              <p:cTn id="1658" dur="indefinite" nodeType="mainSeq">
                <p:childTnLst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3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8" dur="50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3" dur="500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8" dur="500"/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1" dur="500"/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6840" y="1935000"/>
            <a:ext cx="2328840" cy="4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llus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1071720" y="3000240"/>
            <a:ext cx="178596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nd, of, the,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Connecteur droit avec flèche 7"/>
          <p:cNvCxnSpPr/>
          <p:nvPr/>
        </p:nvCxnSpPr>
        <p:spPr>
          <a:xfrm flipH="1">
            <a:off x="1855440" y="2428560"/>
            <a:ext cx="2160" cy="500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2" name="ZoneTexte 8"/>
          <p:cNvSpPr/>
          <p:nvPr/>
        </p:nvSpPr>
        <p:spPr>
          <a:xfrm>
            <a:off x="1928880" y="24163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9"/>
          <p:cNvSpPr/>
          <p:nvPr/>
        </p:nvSpPr>
        <p:spPr>
          <a:xfrm>
            <a:off x="547560" y="3786120"/>
            <a:ext cx="27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a, and, of, the,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Connecteur droit avec flèche 11"/>
          <p:cNvCxnSpPr/>
          <p:nvPr/>
        </p:nvCxnSpPr>
        <p:spPr>
          <a:xfrm flipV="1">
            <a:off x="1855800" y="4285440"/>
            <a:ext cx="2160" cy="500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Connecteur droit avec flèche 12"/>
          <p:cNvCxnSpPr/>
          <p:nvPr/>
        </p:nvCxnSpPr>
        <p:spPr>
          <a:xfrm flipV="1">
            <a:off x="2928960" y="4285440"/>
            <a:ext cx="2160" cy="500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ZoneTexte 13"/>
          <p:cNvSpPr/>
          <p:nvPr/>
        </p:nvSpPr>
        <p:spPr>
          <a:xfrm>
            <a:off x="1714680" y="48578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ZoneTexte 14"/>
          <p:cNvSpPr/>
          <p:nvPr/>
        </p:nvSpPr>
        <p:spPr>
          <a:xfrm>
            <a:off x="2714760" y="48960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5"/>
          <p:cNvSpPr/>
          <p:nvPr/>
        </p:nvSpPr>
        <p:spPr>
          <a:xfrm>
            <a:off x="4357800" y="1928880"/>
            <a:ext cx="4357440" cy="17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f(clé) = 0 si clé &lt;= 'o::...  :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= 1 si clé  &gt;  'o::...  :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6"/>
          <p:cNvSpPr/>
          <p:nvPr/>
        </p:nvSpPr>
        <p:spPr>
          <a:xfrm>
            <a:off x="428760" y="5572080"/>
            <a:ext cx="38574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Sélectionner la plus petite séquence de digits dans C' telle que C' &lt; C'‘ : </a:t>
            </a:r>
            <a:r>
              <a:rPr b="1" lang="fr-FR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‘0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Picture 4" descr=""/>
          <p:cNvPicPr/>
          <p:nvPr/>
        </p:nvPicPr>
        <p:blipFill>
          <a:blip r:embed="rId1"/>
          <a:stretch/>
        </p:blipFill>
        <p:spPr>
          <a:xfrm>
            <a:off x="5715000" y="3305160"/>
            <a:ext cx="1643040" cy="140976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18"/>
          <p:cNvSpPr/>
          <p:nvPr/>
        </p:nvSpPr>
        <p:spPr>
          <a:xfrm>
            <a:off x="5786280" y="5214960"/>
            <a:ext cx="178596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 and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9"/>
          <p:cNvSpPr/>
          <p:nvPr/>
        </p:nvSpPr>
        <p:spPr>
          <a:xfrm>
            <a:off x="5786280" y="5929200"/>
            <a:ext cx="178596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he,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ZoneTexte 20"/>
          <p:cNvSpPr/>
          <p:nvPr/>
        </p:nvSpPr>
        <p:spPr>
          <a:xfrm>
            <a:off x="5430960" y="521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ZoneTexte 21"/>
          <p:cNvSpPr/>
          <p:nvPr/>
        </p:nvSpPr>
        <p:spPr>
          <a:xfrm>
            <a:off x="5430960" y="5929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22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2" dur="indefinite" restart="never" nodeType="tmRoot">
          <p:childTnLst>
            <p:seq>
              <p:cTn id="1683" dur="indefinite" nodeType="mainSeq">
                <p:childTnLst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456840" y="1934640"/>
            <a:ext cx="3328920" cy="42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llus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ar la suite, toutes les clés seront 'hachées' par la nouvelle fon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a clé 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in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est insérée dans la case 0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a clé 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that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dans la case 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'insertion de la clé 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provoque une collision sur la case 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Rectangle 15"/>
          <p:cNvSpPr/>
          <p:nvPr/>
        </p:nvSpPr>
        <p:spPr>
          <a:xfrm>
            <a:off x="4357800" y="1928880"/>
            <a:ext cx="4357440" cy="17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f(clé) = 0 si clé &lt;= 'o::...  :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= 1 si clé  &gt;  'o::...  :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Picture 4" descr=""/>
          <p:cNvPicPr/>
          <p:nvPr/>
        </p:nvPicPr>
        <p:blipFill>
          <a:blip r:embed="rId1"/>
          <a:stretch/>
        </p:blipFill>
        <p:spPr>
          <a:xfrm>
            <a:off x="5715000" y="3305160"/>
            <a:ext cx="1643040" cy="140976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18"/>
          <p:cNvSpPr/>
          <p:nvPr/>
        </p:nvSpPr>
        <p:spPr>
          <a:xfrm>
            <a:off x="5786280" y="5214960"/>
            <a:ext cx="178596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 and in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9"/>
          <p:cNvSpPr/>
          <p:nvPr/>
        </p:nvSpPr>
        <p:spPr>
          <a:xfrm>
            <a:off x="5786280" y="5929200"/>
            <a:ext cx="178596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he, that,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ZoneTexte 20"/>
          <p:cNvSpPr/>
          <p:nvPr/>
        </p:nvSpPr>
        <p:spPr>
          <a:xfrm>
            <a:off x="5430960" y="521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ZoneTexte 21"/>
          <p:cNvSpPr/>
          <p:nvPr/>
        </p:nvSpPr>
        <p:spPr>
          <a:xfrm>
            <a:off x="5430960" y="5929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9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0" dur="indefinite" restart="never" nodeType="tmRoot">
          <p:childTnLst>
            <p:seq>
              <p:cTn id="1751" dur="indefinite" nodeType="mainSeq">
                <p:childTnLst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6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7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2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1" dur="500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456840" y="1935000"/>
            <a:ext cx="2328840" cy="4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llus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1071720" y="3000240"/>
            <a:ext cx="178596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 and in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Connecteur droit avec flèche 7"/>
          <p:cNvCxnSpPr/>
          <p:nvPr/>
        </p:nvCxnSpPr>
        <p:spPr>
          <a:xfrm flipH="1">
            <a:off x="1855440" y="2428560"/>
            <a:ext cx="2160" cy="500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7" name="ZoneTexte 8"/>
          <p:cNvSpPr/>
          <p:nvPr/>
        </p:nvSpPr>
        <p:spPr>
          <a:xfrm>
            <a:off x="1928880" y="24163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9"/>
          <p:cNvSpPr/>
          <p:nvPr/>
        </p:nvSpPr>
        <p:spPr>
          <a:xfrm>
            <a:off x="538920" y="37861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a, and, in, is,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9" name="Connecteur droit avec flèche 11"/>
          <p:cNvCxnSpPr/>
          <p:nvPr/>
        </p:nvCxnSpPr>
        <p:spPr>
          <a:xfrm flipV="1">
            <a:off x="1855800" y="4285440"/>
            <a:ext cx="2160" cy="500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Connecteur droit avec flèche 12"/>
          <p:cNvCxnSpPr/>
          <p:nvPr/>
        </p:nvCxnSpPr>
        <p:spPr>
          <a:xfrm flipV="1">
            <a:off x="2714760" y="4285440"/>
            <a:ext cx="2160" cy="500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1" name="ZoneTexte 13"/>
          <p:cNvSpPr/>
          <p:nvPr/>
        </p:nvSpPr>
        <p:spPr>
          <a:xfrm>
            <a:off x="1714680" y="48578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ZoneTexte 14"/>
          <p:cNvSpPr/>
          <p:nvPr/>
        </p:nvSpPr>
        <p:spPr>
          <a:xfrm>
            <a:off x="2500200" y="48960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15"/>
          <p:cNvSpPr/>
          <p:nvPr/>
        </p:nvSpPr>
        <p:spPr>
          <a:xfrm>
            <a:off x="4357800" y="1928880"/>
            <a:ext cx="4786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f(clé) = 0  si clé &lt;= 'i::... :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= 2  si 'i::. :' &lt; clé &lt;= 'o::... :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= 3  si clé &gt; 'o::...  :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16"/>
          <p:cNvSpPr/>
          <p:nvPr/>
        </p:nvSpPr>
        <p:spPr>
          <a:xfrm>
            <a:off x="428760" y="5572080"/>
            <a:ext cx="38574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Sélectionner la plus petite séquence de digits dans C' telle que C' &lt; C'‘ : </a:t>
            </a:r>
            <a:r>
              <a:rPr b="1" lang="fr-FR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‘i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18"/>
          <p:cNvSpPr/>
          <p:nvPr/>
        </p:nvSpPr>
        <p:spPr>
          <a:xfrm>
            <a:off x="5786280" y="5143680"/>
            <a:ext cx="178596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 and in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19"/>
          <p:cNvSpPr/>
          <p:nvPr/>
        </p:nvSpPr>
        <p:spPr>
          <a:xfrm>
            <a:off x="5786280" y="5715000"/>
            <a:ext cx="178596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ZoneTexte 20"/>
          <p:cNvSpPr/>
          <p:nvPr/>
        </p:nvSpPr>
        <p:spPr>
          <a:xfrm>
            <a:off x="5430960" y="521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ZoneTexte 21"/>
          <p:cNvSpPr/>
          <p:nvPr/>
        </p:nvSpPr>
        <p:spPr>
          <a:xfrm>
            <a:off x="5430960" y="5786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5715000" y="3143160"/>
            <a:ext cx="1571760" cy="182088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22"/>
          <p:cNvSpPr/>
          <p:nvPr/>
        </p:nvSpPr>
        <p:spPr>
          <a:xfrm>
            <a:off x="5786280" y="6286680"/>
            <a:ext cx="178596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he,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ZoneTexte 23"/>
          <p:cNvSpPr/>
          <p:nvPr/>
        </p:nvSpPr>
        <p:spPr>
          <a:xfrm>
            <a:off x="5430960" y="6243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24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2" dur="indefinite" restart="never" nodeType="tmRoot">
          <p:childTnLst>
            <p:seq>
              <p:cTn id="1793" dur="indefinite" nodeType="mainSeq">
                <p:childTnLst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456840" y="1935000"/>
            <a:ext cx="2328840" cy="4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llus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1071720" y="3000240"/>
            <a:ext cx="178596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 and in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5" name="Connecteur droit avec flèche 7"/>
          <p:cNvCxnSpPr/>
          <p:nvPr/>
        </p:nvCxnSpPr>
        <p:spPr>
          <a:xfrm flipH="1">
            <a:off x="1855440" y="2428560"/>
            <a:ext cx="2160" cy="500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6" name="ZoneTexte 8"/>
          <p:cNvSpPr/>
          <p:nvPr/>
        </p:nvSpPr>
        <p:spPr>
          <a:xfrm>
            <a:off x="1928880" y="24163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9"/>
          <p:cNvSpPr/>
          <p:nvPr/>
        </p:nvSpPr>
        <p:spPr>
          <a:xfrm>
            <a:off x="617040" y="378612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a, and, i, in,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Connecteur droit avec flèche 11"/>
          <p:cNvCxnSpPr/>
          <p:nvPr/>
        </p:nvCxnSpPr>
        <p:spPr>
          <a:xfrm flipV="1">
            <a:off x="1855800" y="4285440"/>
            <a:ext cx="2160" cy="500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9" name="Connecteur droit avec flèche 12"/>
          <p:cNvCxnSpPr/>
          <p:nvPr/>
        </p:nvCxnSpPr>
        <p:spPr>
          <a:xfrm flipV="1">
            <a:off x="2714760" y="4285440"/>
            <a:ext cx="2160" cy="500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0" name="ZoneTexte 13"/>
          <p:cNvSpPr/>
          <p:nvPr/>
        </p:nvSpPr>
        <p:spPr>
          <a:xfrm>
            <a:off x="1714680" y="48578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ZoneTexte 14"/>
          <p:cNvSpPr/>
          <p:nvPr/>
        </p:nvSpPr>
        <p:spPr>
          <a:xfrm>
            <a:off x="2500200" y="48960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5"/>
          <p:cNvSpPr/>
          <p:nvPr/>
        </p:nvSpPr>
        <p:spPr>
          <a:xfrm>
            <a:off x="4357800" y="1143000"/>
            <a:ext cx="47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f(clé)= 0  si clé &lt;= 'i_::... :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= 3  si 'i_::... :' &lt; clé &lt;= 'i::... :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= 2  si 'i::... :' &lt;  clé &lt;= 'o::... :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= 1  si clé &gt; 'o::... :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6"/>
          <p:cNvSpPr/>
          <p:nvPr/>
        </p:nvSpPr>
        <p:spPr>
          <a:xfrm>
            <a:off x="428760" y="5572080"/>
            <a:ext cx="38574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Sélectionner la plus petite séquence de digits dans C' telle que C' &lt; C'‘ : </a:t>
            </a:r>
            <a:r>
              <a:rPr b="1" lang="fr-FR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‘i_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8"/>
          <p:cNvSpPr/>
          <p:nvPr/>
        </p:nvSpPr>
        <p:spPr>
          <a:xfrm>
            <a:off x="6643800" y="4643280"/>
            <a:ext cx="178596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 and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9"/>
          <p:cNvSpPr/>
          <p:nvPr/>
        </p:nvSpPr>
        <p:spPr>
          <a:xfrm>
            <a:off x="6643800" y="5214960"/>
            <a:ext cx="178596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ZoneTexte 20"/>
          <p:cNvSpPr/>
          <p:nvPr/>
        </p:nvSpPr>
        <p:spPr>
          <a:xfrm>
            <a:off x="6288480" y="4714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ZoneTexte 21"/>
          <p:cNvSpPr/>
          <p:nvPr/>
        </p:nvSpPr>
        <p:spPr>
          <a:xfrm>
            <a:off x="6288480" y="5286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22"/>
          <p:cNvSpPr/>
          <p:nvPr/>
        </p:nvSpPr>
        <p:spPr>
          <a:xfrm>
            <a:off x="6643800" y="5786280"/>
            <a:ext cx="178596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he,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ZoneTexte 23"/>
          <p:cNvSpPr/>
          <p:nvPr/>
        </p:nvSpPr>
        <p:spPr>
          <a:xfrm>
            <a:off x="6288480" y="5743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Picture 2" descr=""/>
          <p:cNvPicPr/>
          <p:nvPr/>
        </p:nvPicPr>
        <p:blipFill>
          <a:blip r:embed="rId1"/>
          <a:stretch/>
        </p:blipFill>
        <p:spPr>
          <a:xfrm>
            <a:off x="5214960" y="2786040"/>
            <a:ext cx="1785960" cy="181296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24"/>
          <p:cNvSpPr/>
          <p:nvPr/>
        </p:nvSpPr>
        <p:spPr>
          <a:xfrm>
            <a:off x="6643800" y="6357960"/>
            <a:ext cx="178596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in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ZoneTexte 25"/>
          <p:cNvSpPr/>
          <p:nvPr/>
        </p:nvSpPr>
        <p:spPr>
          <a:xfrm>
            <a:off x="6288480" y="6315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26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8" dur="indefinite" restart="never" nodeType="tmRoot">
          <p:childTnLst>
            <p:seq>
              <p:cTn id="1869" dur="indefinite" nodeType="mainSeq">
                <p:childTnLst>
                  <p:par>
                    <p:cTn id="1870" fill="hold">
                      <p:stCondLst>
                        <p:cond delay="indefinite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fill="hold">
                      <p:stCondLst>
                        <p:cond delay="indefinite"/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Transformation : clé ---&gt; adres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 Clé = c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….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i  c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&gt; 'o' : m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in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i c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&gt; 'i' : m =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in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i c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&gt; 'i_' : m =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in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 = 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fin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fin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fin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5143680" y="2500200"/>
            <a:ext cx="2857320" cy="290052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4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0" dur="indefinite" restart="never" nodeType="tmRoot">
          <p:childTnLst>
            <p:seq>
              <p:cTn id="1951" dur="indefinite" nodeType="mainSeq">
                <p:childTnLst>
                  <p:par>
                    <p:cTn id="1952" fill="hold">
                      <p:stCondLst>
                        <p:cond delay="indefinite"/>
                      </p:stCondLst>
                      <p:childTnLst>
                        <p:par>
                          <p:cTn id="1953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2" dur="500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7" dur="500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0" dur="500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5" dur="500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8" dur="500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3" dur="500"/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6" dur="500"/>
                                        <p:tgtEl>
                                          <p:spTgt spid="4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9" dur="500"/>
                                        <p:tgtEl>
                                          <p:spTgt spid="4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2" dur="500"/>
                                        <p:tgtEl>
                                          <p:spTgt spid="4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5" dur="500"/>
                                        <p:tgtEl>
                                          <p:spTgt spid="4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3"/>
          <p:cNvSpPr/>
          <p:nvPr/>
        </p:nvSpPr>
        <p:spPr>
          <a:xfrm>
            <a:off x="457200" y="1935000"/>
            <a:ext cx="2328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llu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Picture 9" descr=""/>
          <p:cNvPicPr/>
          <p:nvPr/>
        </p:nvPicPr>
        <p:blipFill>
          <a:blip r:embed="rId1"/>
          <a:stretch/>
        </p:blipFill>
        <p:spPr>
          <a:xfrm>
            <a:off x="2414520" y="1933560"/>
            <a:ext cx="5086440" cy="35258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0" descr=""/>
          <p:cNvPicPr/>
          <p:nvPr/>
        </p:nvPicPr>
        <p:blipFill>
          <a:blip r:embed="rId2"/>
          <a:stretch/>
        </p:blipFill>
        <p:spPr>
          <a:xfrm>
            <a:off x="1709640" y="5810400"/>
            <a:ext cx="7077240" cy="90468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6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56840" y="1935000"/>
            <a:ext cx="2328840" cy="4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llus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5"/>
          <p:cNvSpPr/>
          <p:nvPr/>
        </p:nvSpPr>
        <p:spPr>
          <a:xfrm>
            <a:off x="857160" y="3000240"/>
            <a:ext cx="26431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at  mile  monk  m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4" name="Connecteur droit avec flèche 7"/>
          <p:cNvCxnSpPr/>
          <p:nvPr/>
        </p:nvCxnSpPr>
        <p:spPr>
          <a:xfrm flipH="1">
            <a:off x="1855440" y="2428560"/>
            <a:ext cx="2160" cy="500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ZoneTexte 8"/>
          <p:cNvSpPr/>
          <p:nvPr/>
        </p:nvSpPr>
        <p:spPr>
          <a:xfrm>
            <a:off x="1928880" y="241632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e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9"/>
          <p:cNvSpPr/>
          <p:nvPr/>
        </p:nvSpPr>
        <p:spPr>
          <a:xfrm>
            <a:off x="535680" y="3786120"/>
            <a:ext cx="41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mat  meet mile monk m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7" name="Connecteur droit avec flèche 11"/>
          <p:cNvCxnSpPr/>
          <p:nvPr/>
        </p:nvCxnSpPr>
        <p:spPr>
          <a:xfrm flipV="1">
            <a:off x="2498760" y="4285440"/>
            <a:ext cx="2160" cy="500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Connecteur droit avec flèche 12"/>
          <p:cNvCxnSpPr/>
          <p:nvPr/>
        </p:nvCxnSpPr>
        <p:spPr>
          <a:xfrm flipV="1">
            <a:off x="4071960" y="4285440"/>
            <a:ext cx="2160" cy="500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9" name="ZoneTexte 13"/>
          <p:cNvSpPr/>
          <p:nvPr/>
        </p:nvSpPr>
        <p:spPr>
          <a:xfrm>
            <a:off x="2286000" y="48578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ZoneTexte 14"/>
          <p:cNvSpPr/>
          <p:nvPr/>
        </p:nvSpPr>
        <p:spPr>
          <a:xfrm>
            <a:off x="3857760" y="48960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15"/>
          <p:cNvSpPr/>
          <p:nvPr/>
        </p:nvSpPr>
        <p:spPr>
          <a:xfrm>
            <a:off x="4357800" y="1285920"/>
            <a:ext cx="4357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f(clé) = 0  si clé &lt;= ‘mi::... :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= 1  si ‘mi::. :' &lt; clé &lt;= ‘m::... :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=  indéfini  si clé &gt; ‘m::...  :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16"/>
          <p:cNvSpPr/>
          <p:nvPr/>
        </p:nvSpPr>
        <p:spPr>
          <a:xfrm>
            <a:off x="428760" y="5572080"/>
            <a:ext cx="38574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Sélectionner la plus petite séquence de digits dans C' telle que C' &lt; C'‘ : </a:t>
            </a:r>
            <a:r>
              <a:rPr b="1" lang="fr-FR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‘mi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18"/>
          <p:cNvSpPr/>
          <p:nvPr/>
        </p:nvSpPr>
        <p:spPr>
          <a:xfrm>
            <a:off x="5786280" y="5214960"/>
            <a:ext cx="178596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at meet m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19"/>
          <p:cNvSpPr/>
          <p:nvPr/>
        </p:nvSpPr>
        <p:spPr>
          <a:xfrm>
            <a:off x="5786280" y="5929200"/>
            <a:ext cx="178596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onk  m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ZoneTexte 20"/>
          <p:cNvSpPr/>
          <p:nvPr/>
        </p:nvSpPr>
        <p:spPr>
          <a:xfrm>
            <a:off x="5430960" y="521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ZoneTexte 21"/>
          <p:cNvSpPr/>
          <p:nvPr/>
        </p:nvSpPr>
        <p:spPr>
          <a:xfrm>
            <a:off x="5430960" y="5929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5357880" y="2786040"/>
            <a:ext cx="1995480" cy="1751040"/>
          </a:xfrm>
          <a:prstGeom prst="rect">
            <a:avLst/>
          </a:prstGeom>
          <a:ln w="0">
            <a:noFill/>
          </a:ln>
        </p:spPr>
      </p:pic>
      <p:sp>
        <p:nvSpPr>
          <p:cNvPr id="518" name="Rectangle 22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6" dur="indefinite" restart="never" nodeType="tmRoot">
          <p:childTnLst>
            <p:seq>
              <p:cTn id="1997" dur="indefinite" nodeType="mainSeq">
                <p:childTnLst>
                  <p:par>
                    <p:cTn id="1998" fill="hold">
                      <p:stCondLst>
                        <p:cond delay="indefinite"/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fill="hold">
                      <p:stCondLst>
                        <p:cond delay="indefinite"/>
                      </p:stCondLst>
                      <p:childTnLst>
                        <p:par>
                          <p:cTn id="2015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8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fill="hold">
                      <p:stCondLst>
                        <p:cond delay="indefinite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fill="hold">
                      <p:stCondLst>
                        <p:cond delay="indefinite"/>
                      </p:stCondLst>
                      <p:childTnLst>
                        <p:par>
                          <p:cTn id="2041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7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Propriété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e graphe généré par la méthode est appelé 'trie' ou arbre digita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'arbre digital représente une fonction de hachage qui est modifiée dynamiquement.  </a:t>
            </a: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l'appellation 'trie hashing' (hachage digital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Fichier trié en ordre ascendant des clé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e fichier s'étend linéairement avec l'arbre à raison d'un nœud interne par cas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as de débordement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Toute recherche de clé avec ou sans succès coûte au plus un accès disqu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Picture 9" descr=""/>
          <p:cNvPicPr/>
          <p:nvPr/>
        </p:nvPicPr>
        <p:blipFill>
          <a:blip r:embed="rId1"/>
          <a:stretch/>
        </p:blipFill>
        <p:spPr>
          <a:xfrm>
            <a:off x="6772320" y="0"/>
            <a:ext cx="2371680" cy="164448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4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2" dur="indefinite" restart="never" nodeType="tmRoot">
          <p:childTnLst>
            <p:seq>
              <p:cTn id="2063" dur="indefinite" nodeType="mainSeq">
                <p:childTnLst>
                  <p:par>
                    <p:cTn id="2064" fill="hold">
                      <p:stCondLst>
                        <p:cond delay="indefinite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8" dur="5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fill="hold">
                      <p:stCondLst>
                        <p:cond delay="indefinite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3" dur="5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8" dur="500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3" dur="500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4" fill="hold">
                      <p:stCondLst>
                        <p:cond delay="indefinite"/>
                      </p:stCondLst>
                      <p:childTnLst>
                        <p:par>
                          <p:cTn id="2085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8" dur="500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3" dur="500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457200" y="1935000"/>
            <a:ext cx="3828960" cy="30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Sup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Examiner les frères à droite et à gauch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i l'un des  frères(gauche ou droit) contient plus de  n div 2 clés,  EMPR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4429080" y="1500120"/>
            <a:ext cx="4714920" cy="1500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2"/>
          <a:stretch/>
        </p:blipFill>
        <p:spPr>
          <a:xfrm>
            <a:off x="4452840" y="4357800"/>
            <a:ext cx="4691160" cy="13572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5072040" y="6543720"/>
            <a:ext cx="4071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Ordre=5; Max=4 données; Min = 2 donné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lèche droite 10"/>
          <p:cNvSpPr/>
          <p:nvPr/>
        </p:nvSpPr>
        <p:spPr>
          <a:xfrm rot="5400000">
            <a:off x="6429240" y="3500280"/>
            <a:ext cx="571320" cy="2858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ZoneTexte 11"/>
          <p:cNvSpPr/>
          <p:nvPr/>
        </p:nvSpPr>
        <p:spPr>
          <a:xfrm>
            <a:off x="6770160" y="3300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rbres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456840" y="1934640"/>
            <a:ext cx="33289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Opé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alibri"/>
                <a:ea typeface="Courier New"/>
              </a:rPr>
              <a:t>Recherche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: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A chaque comparaison , choisir soit la branche gauche, soit la branche droit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Le parcours s'arrête quand une feuille est trouvé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4" dur="indefinite" restart="never" nodeType="tmRoot">
          <p:childTnLst>
            <p:seq>
              <p:cTn id="2095" dur="indefinite" nodeType="mainSeq">
                <p:childTnLst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0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3" dur="500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Opé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Suppre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eut entraîner une fusion de cases dans les cas suivants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(i)  La case sœur exis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(ii) Le nombre des articles dans les deux cases sœurs est au plus égal à b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a fusion consiste à grouper tous les articles dans la case de gauche. La case droite est libérée et les articles de la dernière case N sont alors transférés vers cette case.  (Éliminer les trou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ne façon de retrouver le parent de la case N est de rechercher un élément quelconque se trouvant dans la case 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5" name="Picture 9" descr=""/>
          <p:cNvPicPr/>
          <p:nvPr/>
        </p:nvPicPr>
        <p:blipFill>
          <a:blip r:embed="rId1"/>
          <a:stretch/>
        </p:blipFill>
        <p:spPr>
          <a:xfrm>
            <a:off x="6772320" y="0"/>
            <a:ext cx="2371680" cy="164448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4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4" dur="indefinite" restart="never" nodeType="tmRoot">
          <p:childTnLst>
            <p:seq>
              <p:cTn id="2105" dur="indefinite" nodeType="mainSeq">
                <p:childTnLst>
                  <p:par>
                    <p:cTn id="2106" fill="hold">
                      <p:stCondLst>
                        <p:cond delay="indefinite"/>
                      </p:stCondLst>
                      <p:childTnLst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0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3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6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1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fill="hold">
                      <p:stCondLst>
                        <p:cond delay="indefinite"/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6" dur="500"/>
                                        <p:tgtEl>
                                          <p:spTgt spid="5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Opé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Suppression ( sui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e test des conditions (i) et (ii) se fait uniquement quand la case subissant la division aura un nombre d'articles proche de b/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'opération de suppression est une opération inverse à l'opération d'insert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lle permet de contracter l'arbre digita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i une case devient vide avant qu'une case sœur apparaisse, alors cette case est remplacée par Ni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ossibilité de fusions en casca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8" name="Picture 9" descr=""/>
          <p:cNvPicPr/>
          <p:nvPr/>
        </p:nvPicPr>
        <p:blipFill>
          <a:blip r:embed="rId1"/>
          <a:stretch/>
        </p:blipFill>
        <p:spPr>
          <a:xfrm>
            <a:off x="6772320" y="0"/>
            <a:ext cx="2371680" cy="164448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4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7" dur="indefinite" restart="never" nodeType="tmRoot">
          <p:childTnLst>
            <p:seq>
              <p:cTn id="2128" dur="indefinite" nodeType="mainSeq">
                <p:childTnLst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3" dur="5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fill="hold">
                      <p:stCondLst>
                        <p:cond delay="indefinite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8" dur="500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3" dur="500"/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4" fill="hold">
                      <p:stCondLst>
                        <p:cond delay="indefinite"/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8" dur="500"/>
                                        <p:tgtEl>
                                          <p:spTgt spid="5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9" fill="hold">
                      <p:stCondLst>
                        <p:cond delay="indefinite"/>
                      </p:stCondLst>
                      <p:childTnLst>
                        <p:par>
                          <p:cTn id="2150" fill="hold">
                            <p:stCondLst>
                              <p:cond delay="0"/>
                            </p:stCondLst>
                            <p:childTnLst>
                              <p:par>
                                <p:cTn id="2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3" dur="500"/>
                                        <p:tgtEl>
                                          <p:spTgt spid="5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Opé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Requête par interval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n fichier construit par la technique du hachage digital est ordonné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ans l'arbre digital, les cases sont ordonnées de la gauche vers la droit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ne requête par intervalle consiste à trouver toutes les clés comprises entre 2 clés a et b données (a &lt; b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ne façon simple consiste à parcourir l'arbre digital en inordre, préordre ou postord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ne autre façon de réaliser cette opération est de chaîner les cas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n peut aussi examiner les clés en ordre décroissant. dans ce cas, on utilisera l'inordre inverse( preordre inverse ou postordre inverse) ou chaîner les cases en sens inver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1" name="Picture 9" descr=""/>
          <p:cNvPicPr/>
          <p:nvPr/>
        </p:nvPicPr>
        <p:blipFill>
          <a:blip r:embed="rId1"/>
          <a:stretch/>
        </p:blipFill>
        <p:spPr>
          <a:xfrm>
            <a:off x="6772320" y="0"/>
            <a:ext cx="2371680" cy="164448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4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4" dur="indefinite" restart="never" nodeType="tmRoot">
          <p:childTnLst>
            <p:seq>
              <p:cTn id="2155" dur="indefinite" nodeType="mainSeq">
                <p:childTnLst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0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5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0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fill="hold">
                      <p:stCondLst>
                        <p:cond delay="indefinite"/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0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5" dur="500"/>
                                        <p:tgtEl>
                                          <p:spTgt spid="5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8" descr="C:\sdd-avancées\image41.gif"/>
          <p:cNvPicPr/>
          <p:nvPr/>
        </p:nvPicPr>
        <p:blipFill>
          <a:blip r:embed="rId1"/>
          <a:stretch/>
        </p:blipFill>
        <p:spPr>
          <a:xfrm>
            <a:off x="1285920" y="2500200"/>
            <a:ext cx="1054080" cy="13050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5" descr="C:\sdd-avancées\image42.gif"/>
          <p:cNvPicPr/>
          <p:nvPr/>
        </p:nvPicPr>
        <p:blipFill>
          <a:blip r:embed="rId2"/>
          <a:stretch/>
        </p:blipFill>
        <p:spPr>
          <a:xfrm>
            <a:off x="714240" y="4143240"/>
            <a:ext cx="7239240" cy="1676520"/>
          </a:xfrm>
          <a:prstGeom prst="rect">
            <a:avLst/>
          </a:prstGeom>
          <a:ln w="0">
            <a:noFill/>
          </a:ln>
        </p:spPr>
      </p:pic>
      <p:sp>
        <p:nvSpPr>
          <p:cNvPr id="535" name="Rectangle 9"/>
          <p:cNvSpPr/>
          <p:nvPr/>
        </p:nvSpPr>
        <p:spPr>
          <a:xfrm>
            <a:off x="2357280" y="2857680"/>
            <a:ext cx="20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Structure d'un noe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10"/>
          <p:cNvSpPr/>
          <p:nvPr/>
        </p:nvSpPr>
        <p:spPr>
          <a:xfrm>
            <a:off x="3007800" y="5786280"/>
            <a:ext cx="308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Table représentant l'arbre dig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457200" y="1935000"/>
            <a:ext cx="41148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66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Représentation mém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9" descr=""/>
          <p:cNvPicPr/>
          <p:nvPr/>
        </p:nvPicPr>
        <p:blipFill>
          <a:blip r:embed="rId3"/>
          <a:stretch/>
        </p:blipFill>
        <p:spPr>
          <a:xfrm>
            <a:off x="6772320" y="0"/>
            <a:ext cx="2371680" cy="164448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8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6" dur="indefinite" restart="never" nodeType="tmRoot">
          <p:childTnLst>
            <p:seq>
              <p:cTn id="2187" dur="indefinite" nodeType="mainSeq">
                <p:childTnLst>
                  <p:par>
                    <p:cTn id="2188" fill="hold">
                      <p:stCondLst>
                        <p:cond delay="indefinite"/>
                      </p:stCondLst>
                      <p:childTnLst>
                        <p:par>
                          <p:cTn id="2189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Calibri"/>
              </a:rPr>
              <a:t>Encombr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Calibri"/>
              </a:rPr>
              <a:t>6 octets par nœud. ( si fichier de l'ordre de 2</a:t>
            </a:r>
            <a:r>
              <a:rPr b="1" lang="fr-FR" sz="1900" spc="-1" strike="noStrike" baseline="30000">
                <a:solidFill>
                  <a:srgbClr val="000000"/>
                </a:solidFill>
                <a:latin typeface="Calibri"/>
              </a:rPr>
              <a:t>15</a:t>
            </a:r>
            <a:r>
              <a:rPr b="1" lang="fr-FR" sz="1900" spc="-1" strike="noStrike">
                <a:solidFill>
                  <a:srgbClr val="000000"/>
                </a:solidFill>
                <a:latin typeface="Calibri"/>
              </a:rPr>
              <a:t> cases 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Calibri"/>
              </a:rPr>
              <a:t>Quelques raffinements 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 u="sng">
                <a:solidFill>
                  <a:srgbClr val="000000"/>
                </a:solidFill>
                <a:uFillTx/>
                <a:latin typeface="Calibri"/>
              </a:rPr>
              <a:t>Optimisation sur DV et D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buClr>
                <a:srgbClr val="9bbb59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Calibri"/>
              </a:rPr>
              <a:t>Si le digit est un bit, le champ DV n'est pas nécessaire. Comme une clé ne dépasse pas 16 digits quatre bits suffisent pour DN. Donc, au total 4,5 ou 5 octe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buClr>
                <a:srgbClr val="9bbb59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Calibri"/>
              </a:rPr>
              <a:t>Si digit numérique : 4 bits suffisent pour DV et DN chacun. Donc, chaque élément occupe 5 octet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 u="sng">
                <a:solidFill>
                  <a:srgbClr val="000000"/>
                </a:solidFill>
                <a:uFillTx/>
                <a:latin typeface="Calibri"/>
              </a:rPr>
              <a:t>Optimisation sur les pointeu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buClr>
                <a:srgbClr val="9bbb59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Calibri"/>
              </a:rPr>
              <a:t>Si fichier ne dépasse pas 2</a:t>
            </a:r>
            <a:r>
              <a:rPr b="1" lang="fr-FR" sz="1900" spc="-1" strike="noStrike" baseline="30000">
                <a:solidFill>
                  <a:srgbClr val="000000"/>
                </a:solidFill>
                <a:latin typeface="Calibri"/>
              </a:rPr>
              <a:t>l</a:t>
            </a:r>
            <a:r>
              <a:rPr b="1" lang="fr-FR" sz="1900" spc="-1" strike="noStrike">
                <a:solidFill>
                  <a:srgbClr val="000000"/>
                </a:solidFill>
                <a:latin typeface="Calibri"/>
              </a:rPr>
              <a:t> cases alors l+1 bits suffisent pour chaque pointeur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buClr>
                <a:srgbClr val="9bbb59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Calibri"/>
              </a:rPr>
              <a:t>Si fichier n'excède pas 2K cases (K = 1024 ), trois octets suffisent pour représenter à la fois LP et UP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6" dur="indefinite" restart="never" nodeType="tmRoot">
          <p:childTnLst>
            <p:seq>
              <p:cTn id="2207" dur="indefinite" nodeType="mainSeq">
                <p:childTnLst>
                  <p:par>
                    <p:cTn id="2208" fill="hold">
                      <p:stCondLst>
                        <p:cond delay="indefinite"/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2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3" fill="hold">
                      <p:stCondLst>
                        <p:cond delay="indefinite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7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0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6" dur="500"/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1" dur="500"/>
                                        <p:tgtEl>
                                          <p:spTgt spid="5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4" dur="500"/>
                                        <p:tgtEl>
                                          <p:spTgt spid="5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7" dur="500"/>
                                        <p:tgtEl>
                                          <p:spTgt spid="5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Autres représen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tiliser des représentations mémoire beaucoup plus compactes appelées  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représentations séquentielles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es nœuds internes suivent un ordre prédéfin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Éviter la représentations des pointeurs internes, donc on peut gagner beaucoup d'espace mémoi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En contrepartie, l'algorithmique est plus complexe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8" dur="indefinite" restart="never" nodeType="tmRoot">
          <p:childTnLst>
            <p:seq>
              <p:cTn id="2239" dur="indefinite" nodeType="mainSeq">
                <p:childTnLst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4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fill="hold">
                      <p:stCondLst>
                        <p:cond delay="indefinite"/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9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4" dur="500"/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9" dur="500"/>
                                        <p:tgtEl>
                                          <p:spTgt spid="5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Exemple de repré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a  r &lt;0&gt; &lt;9&gt; b &lt;4&gt; f &lt;10&gt; h e &lt;7&gt; &lt; 8&gt; i _ &lt;6&gt; &lt;3&gt; o &lt;2&gt; t &lt;1&gt; &lt; 5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&lt;= ‘ar:…’ c’est 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&gt; ‘ar:’ et &lt;= ‘a:’ c’est 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&gt; ‘a:’ et &lt; ‘b:’ c’es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Etc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9" descr=""/>
          <p:cNvPicPr/>
          <p:nvPr/>
        </p:nvPicPr>
        <p:blipFill>
          <a:blip r:embed="rId1"/>
          <a:stretch/>
        </p:blipFill>
        <p:spPr>
          <a:xfrm>
            <a:off x="6772320" y="0"/>
            <a:ext cx="2371680" cy="1644480"/>
          </a:xfrm>
          <a:prstGeom prst="rect">
            <a:avLst/>
          </a:prstGeom>
          <a:ln w="0">
            <a:noFill/>
          </a:ln>
        </p:spPr>
      </p:pic>
      <p:sp>
        <p:nvSpPr>
          <p:cNvPr id="546" name="Rectangle 4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0" dur="indefinite" restart="never" nodeType="tmRoot">
          <p:childTnLst>
            <p:seq>
              <p:cTn id="2261" dur="indefinite" nodeType="mainSeq">
                <p:childTnLst>
                  <p:par>
                    <p:cTn id="2262" fill="hold">
                      <p:stCondLst>
                        <p:cond delay="indefinite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6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fill="hold">
                      <p:stCondLst>
                        <p:cond delay="indefinite"/>
                      </p:stCondLst>
                      <p:childTnLst>
                        <p:par>
                          <p:cTn id="2268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1" dur="500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2" fill="hold">
                      <p:stCondLst>
                        <p:cond delay="indefinite"/>
                      </p:stCondLst>
                      <p:childTnLst>
                        <p:par>
                          <p:cTn id="2273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6" dur="500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1" dur="500"/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fill="hold">
                      <p:stCondLst>
                        <p:cond delay="indefinite"/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6" dur="500"/>
                                        <p:tgtEl>
                                          <p:spTgt spid="5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Analyse des perform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Facteur de char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imilaire à celui des arbres-B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70% : insertions aléatoir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50% : insertions en ordre ascenda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Taille de la fonction d'accè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e nombre de cases est pratiquement égal au nombre de nœuds inter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i M désigne le nombre d'octets nécessaires pour l'arbre digital on aura  M=6n dans le cas des digits alphabét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Donc pour M=3K, on peut avoir un fichier de 35 000 articles si on prend b=10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our des mémoires de 12 et 64K, on peut construire des fichiers de 140000 et de 760000 articles respectivement pour la même valeur de  b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7" dur="indefinite" restart="never" nodeType="tmRoot">
          <p:childTnLst>
            <p:seq>
              <p:cTn id="2288" dur="indefinite" nodeType="mainSeq">
                <p:childTnLst>
                  <p:par>
                    <p:cTn id="2289" fill="hold">
                      <p:stCondLst>
                        <p:cond delay="indefinite"/>
                      </p:stCondLst>
                      <p:childTnLst>
                        <p:par>
                          <p:cTn id="2290" fill="hold">
                            <p:stCondLst>
                              <p:cond delay="0"/>
                            </p:stCondLst>
                            <p:childTnLst>
                              <p:par>
                                <p:cTn id="2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3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6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9" dur="500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2" dur="500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3" fill="hold">
                      <p:stCondLst>
                        <p:cond delay="indefinite"/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7" dur="500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0" dur="500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3" dur="500"/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8" dur="500"/>
                                        <p:tgtEl>
                                          <p:spTgt spid="5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3" dur="500"/>
                                        <p:tgtEl>
                                          <p:spTgt spid="5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Analyse des perform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vec l'hypothèse que l'arbre digital peut résider en mémoire, toute recherche de clé est exécuté en un accès disque au plu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e insertion coûte 2 accès s'il elle n'entraîne pas une collision et 3 accès si elle  l'entraî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our b=100, une insertion coûte en moyenne  2,03 accè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4" dur="indefinite" restart="never" nodeType="tmRoot">
          <p:childTnLst>
            <p:seq>
              <p:cTn id="2325" dur="indefinite" nodeType="mainSeq">
                <p:childTnLst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0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5" dur="500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6" fill="hold">
                      <p:stCondLst>
                        <p:cond delay="indefinite"/>
                      </p:stCondLst>
                      <p:childTnLst>
                        <p:par>
                          <p:cTn id="2337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0" dur="500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457200" y="1935000"/>
            <a:ext cx="3543480" cy="24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Sup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i les deux frères contiennent exactement n div 2 clés, 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4714920" y="1252440"/>
            <a:ext cx="4143240" cy="1435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"/>
          <p:cNvPicPr/>
          <p:nvPr/>
        </p:nvPicPr>
        <p:blipFill>
          <a:blip r:embed="rId2"/>
          <a:stretch/>
        </p:blipFill>
        <p:spPr>
          <a:xfrm>
            <a:off x="4836960" y="4286160"/>
            <a:ext cx="3735720" cy="13226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5072040" y="6543720"/>
            <a:ext cx="4071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Ordre=5; Max=4 données; Min = 2 donné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lèche droite 10"/>
          <p:cNvSpPr/>
          <p:nvPr/>
        </p:nvSpPr>
        <p:spPr>
          <a:xfrm rot="5400000">
            <a:off x="6429240" y="3500280"/>
            <a:ext cx="571320" cy="2858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ZoneTexte 11"/>
          <p:cNvSpPr/>
          <p:nvPr/>
        </p:nvSpPr>
        <p:spPr>
          <a:xfrm>
            <a:off x="6776280" y="3300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rbres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Conclusion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e hachage digital est une technique d'accès aux fichiers conçue en 198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a technique est aussi bien consacrée aux 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fichiers statiques qu'aux fichiers dynam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e 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fichier est ordonné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on facteur de 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chargement est de 70%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pour des insertions aléatoi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On peut construire des fichiers de quelques millions d'articles et dans lesquels toute recherche de clé est exécutée en 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un accès disque au plus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achage 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1" dur="indefinite" restart="never" nodeType="tmRoot">
          <p:childTnLst>
            <p:seq>
              <p:cTn id="2342" dur="indefinite" nodeType="mainSeq">
                <p:childTnLst>
                  <p:par>
                    <p:cTn id="2343" fill="hold">
                      <p:stCondLst>
                        <p:cond delay="indefinite"/>
                      </p:stCondLst>
                      <p:childTnLst>
                        <p:par>
                          <p:cTn id="2344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7" dur="500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fill="hold">
                      <p:stCondLst>
                        <p:cond delay="indefinite"/>
                      </p:stCondLst>
                      <p:childTnLst>
                        <p:par>
                          <p:cTn id="2349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2" dur="5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3" fill="hold">
                      <p:stCondLst>
                        <p:cond delay="indefinite"/>
                      </p:stCondLst>
                      <p:childTnLst>
                        <p:par>
                          <p:cTn id="2354" fill="hold">
                            <p:stCondLst>
                              <p:cond delay="0"/>
                            </p:stCondLst>
                            <p:childTnLst>
                              <p:par>
                                <p:cTn id="23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7" dur="500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fill="hold">
                      <p:stCondLst>
                        <p:cond delay="indefinite"/>
                      </p:stCondLst>
                      <p:childTnLst>
                        <p:par>
                          <p:cTn id="2359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2" dur="500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fill="hold">
                      <p:stCondLst>
                        <p:cond delay="indefinite"/>
                      </p:stCondLst>
                      <p:childTnLst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7" dur="500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457200" y="1935000"/>
            <a:ext cx="354348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Suppression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as où le père contient seulement n div 2 clés et par conséquent il n'a pas de clé à  donner. </a:t>
            </a: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il peut  emprunter de son père et frè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8" descr=""/>
          <p:cNvPicPr/>
          <p:nvPr/>
        </p:nvPicPr>
        <p:blipFill>
          <a:blip r:embed="rId1"/>
          <a:stretch/>
        </p:blipFill>
        <p:spPr>
          <a:xfrm>
            <a:off x="4030560" y="428760"/>
            <a:ext cx="5113440" cy="2500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"/>
          <p:cNvPicPr/>
          <p:nvPr/>
        </p:nvPicPr>
        <p:blipFill>
          <a:blip r:embed="rId2"/>
          <a:stretch/>
        </p:blipFill>
        <p:spPr>
          <a:xfrm>
            <a:off x="3929040" y="3571920"/>
            <a:ext cx="5214960" cy="28288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5072040" y="6543720"/>
            <a:ext cx="4071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Ordre=5; Max=4 données; Min = 2 donné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lèche droite 11"/>
          <p:cNvSpPr/>
          <p:nvPr/>
        </p:nvSpPr>
        <p:spPr>
          <a:xfrm rot="5400000">
            <a:off x="6808680" y="3286080"/>
            <a:ext cx="5716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ZoneTexte 12"/>
          <p:cNvSpPr/>
          <p:nvPr/>
        </p:nvSpPr>
        <p:spPr>
          <a:xfrm>
            <a:off x="7155000" y="3087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rbres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07:58:47Z</dcterms:created>
  <dc:creator>zegour</dc:creator>
  <dc:description/>
  <dc:language>en-US</dc:language>
  <cp:lastModifiedBy>ALGER</cp:lastModifiedBy>
  <dcterms:modified xsi:type="dcterms:W3CDTF">2014-05-20T19:02:41Z</dcterms:modified>
  <cp:revision>46</cp:revision>
  <dc:subject/>
  <dc:title>Structures de données avancées</dc:title>
</cp:coreProperties>
</file>