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95A-888F-40BF-AE72-4789243D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1A7-2D6E-4622-ABEF-77561B4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E0C-C123-45F8-BBE5-70737C93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ECC-903E-4DAD-BD2C-C9C9A69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CD8B-9C48-4E02-BF2D-6B6A327C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467C-6214-431F-A899-D931C73B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AC11-DD6B-4AF9-B3F3-C314C4BC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93B2-069D-4A9E-9592-0C80EE6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7A45-2A68-4197-91F6-E23FAC8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C9D7-4B00-423B-9482-27CA8BC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43CF-5CA9-4990-B5A3-BFF1B370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754-7886-4937-A28E-B974584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CBF1-72B3-46C4-A2D6-7C8ABA5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BE3C-1979-44A2-92FA-AE8B990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580D-8BEC-44F8-A5E2-07CB0E1A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DE06-57A2-4F0B-9430-25AD7371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FE9E-BAE0-41E1-BBF5-9E307553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352-2D24-4E4D-8163-2571F118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344-CD46-4DF5-83BF-02EC3D8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919-3D55-44BF-BA0B-5830A918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EF8-A49A-4D93-AD9F-461F905B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16D-6773-4DCF-8FC4-2FA321BD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978-F437-4E5D-9090-FB58310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834-73C6-44CA-816B-F4EBDEF8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2AA7-E1C4-4FF6-8F99-7293DE28D00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D52-C52C-4808-873C-7CEA7936B05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egour.esi.dz/" TargetMode="External"/><Relationship Id="rId2" Type="http://schemas.openxmlformats.org/officeDocument/2006/relationships/hyperlink" Target="mailto:d_zegour@esi.dz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tructures de données avancées : </a:t>
            </a:r>
            <a:br>
              <a:rPr sz="4000"/>
            </a:br>
            <a:r>
              <a:rPr b="0" i="1" lang="fr-FR" sz="2900" spc="-1" strike="noStrike">
                <a:solidFill>
                  <a:srgbClr val="000000"/>
                </a:solidFill>
                <a:latin typeface="Calibri"/>
              </a:rPr>
              <a:t>Fichiers multidimensionne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Pr ZEGOUR DJAMEL EDD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Ecole Supérieure d’Informatique (ES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zegour.esi.dz</a:t>
            </a: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email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_zegour@esi.d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7" name="Connecteur droit avec flèche 7"/>
          <p:cNvCxnSpPr/>
          <p:nvPr/>
        </p:nvCxnSpPr>
        <p:spPr>
          <a:xfrm flipV="1">
            <a:off x="4785120" y="1285560"/>
            <a:ext cx="3960" cy="335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Connecteur droit avec flèche 10"/>
          <p:cNvCxnSpPr/>
          <p:nvPr/>
        </p:nvCxnSpPr>
        <p:spPr>
          <a:xfrm>
            <a:off x="4788000" y="4640400"/>
            <a:ext cx="407088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ZoneTexte 7"/>
          <p:cNvSpPr/>
          <p:nvPr/>
        </p:nvSpPr>
        <p:spPr>
          <a:xfrm>
            <a:off x="7718040" y="40006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ZoneTexte 32"/>
          <p:cNvSpPr/>
          <p:nvPr/>
        </p:nvSpPr>
        <p:spPr>
          <a:xfrm>
            <a:off x="7143840" y="2357280"/>
            <a:ext cx="571320" cy="2228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oneTexte 33"/>
          <p:cNvSpPr/>
          <p:nvPr/>
        </p:nvSpPr>
        <p:spPr>
          <a:xfrm>
            <a:off x="6500880" y="2928960"/>
            <a:ext cx="500040" cy="1618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ZoneTexte 34"/>
          <p:cNvSpPr/>
          <p:nvPr/>
        </p:nvSpPr>
        <p:spPr>
          <a:xfrm>
            <a:off x="4929120" y="2357280"/>
            <a:ext cx="207180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2     13   14   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ZoneTexte 35"/>
          <p:cNvSpPr/>
          <p:nvPr/>
        </p:nvSpPr>
        <p:spPr>
          <a:xfrm>
            <a:off x="4929120" y="2928960"/>
            <a:ext cx="14288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        7   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oneTexte 36"/>
          <p:cNvSpPr/>
          <p:nvPr/>
        </p:nvSpPr>
        <p:spPr>
          <a:xfrm>
            <a:off x="4929120" y="3500280"/>
            <a:ext cx="14288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       4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ZoneTexte 37"/>
          <p:cNvSpPr/>
          <p:nvPr/>
        </p:nvSpPr>
        <p:spPr>
          <a:xfrm>
            <a:off x="4929120" y="4071960"/>
            <a:ext cx="35712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ZoneTexte 39"/>
          <p:cNvSpPr/>
          <p:nvPr/>
        </p:nvSpPr>
        <p:spPr>
          <a:xfrm>
            <a:off x="5500800" y="4071960"/>
            <a:ext cx="35712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oneTexte 40"/>
          <p:cNvSpPr/>
          <p:nvPr/>
        </p:nvSpPr>
        <p:spPr>
          <a:xfrm>
            <a:off x="6000840" y="4071960"/>
            <a:ext cx="35712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ZoneTexte 42"/>
          <p:cNvSpPr/>
          <p:nvPr/>
        </p:nvSpPr>
        <p:spPr>
          <a:xfrm>
            <a:off x="3143160" y="414324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ZoneTexte 43"/>
          <p:cNvSpPr/>
          <p:nvPr/>
        </p:nvSpPr>
        <p:spPr>
          <a:xfrm>
            <a:off x="3714840" y="414324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oneTexte 44"/>
          <p:cNvSpPr/>
          <p:nvPr/>
        </p:nvSpPr>
        <p:spPr>
          <a:xfrm>
            <a:off x="4857840" y="517212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oneTexte 45"/>
          <p:cNvSpPr/>
          <p:nvPr/>
        </p:nvSpPr>
        <p:spPr>
          <a:xfrm>
            <a:off x="4857840" y="567216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ZoneTexte 46"/>
          <p:cNvSpPr/>
          <p:nvPr/>
        </p:nvSpPr>
        <p:spPr>
          <a:xfrm>
            <a:off x="3143160" y="350028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oneTexte 47"/>
          <p:cNvSpPr/>
          <p:nvPr/>
        </p:nvSpPr>
        <p:spPr>
          <a:xfrm>
            <a:off x="3714840" y="350028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ZoneTexte 48"/>
          <p:cNvSpPr/>
          <p:nvPr/>
        </p:nvSpPr>
        <p:spPr>
          <a:xfrm>
            <a:off x="3143160" y="292896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ZoneTexte 49"/>
          <p:cNvSpPr/>
          <p:nvPr/>
        </p:nvSpPr>
        <p:spPr>
          <a:xfrm>
            <a:off x="3714840" y="292896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ZoneTexte 50"/>
          <p:cNvSpPr/>
          <p:nvPr/>
        </p:nvSpPr>
        <p:spPr>
          <a:xfrm>
            <a:off x="3143160" y="235728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ZoneTexte 51"/>
          <p:cNvSpPr/>
          <p:nvPr/>
        </p:nvSpPr>
        <p:spPr>
          <a:xfrm>
            <a:off x="3714840" y="235728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ZoneTexte 52"/>
          <p:cNvSpPr/>
          <p:nvPr/>
        </p:nvSpPr>
        <p:spPr>
          <a:xfrm>
            <a:off x="5429160" y="517212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ZoneTexte 53"/>
          <p:cNvSpPr/>
          <p:nvPr/>
        </p:nvSpPr>
        <p:spPr>
          <a:xfrm>
            <a:off x="5429160" y="567216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oneTexte 54"/>
          <p:cNvSpPr/>
          <p:nvPr/>
        </p:nvSpPr>
        <p:spPr>
          <a:xfrm>
            <a:off x="6000840" y="517212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ZoneTexte 55"/>
          <p:cNvSpPr/>
          <p:nvPr/>
        </p:nvSpPr>
        <p:spPr>
          <a:xfrm>
            <a:off x="6000840" y="567216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ZoneTexte 56"/>
          <p:cNvSpPr/>
          <p:nvPr/>
        </p:nvSpPr>
        <p:spPr>
          <a:xfrm>
            <a:off x="6572160" y="517212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oneTexte 57"/>
          <p:cNvSpPr/>
          <p:nvPr/>
        </p:nvSpPr>
        <p:spPr>
          <a:xfrm>
            <a:off x="6572160" y="567216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ZoneTexte 58"/>
          <p:cNvSpPr/>
          <p:nvPr/>
        </p:nvSpPr>
        <p:spPr>
          <a:xfrm>
            <a:off x="7143840" y="517212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oneTexte 59"/>
          <p:cNvSpPr/>
          <p:nvPr/>
        </p:nvSpPr>
        <p:spPr>
          <a:xfrm>
            <a:off x="7143840" y="5672160"/>
            <a:ext cx="5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oneTexte 60"/>
          <p:cNvSpPr/>
          <p:nvPr/>
        </p:nvSpPr>
        <p:spPr>
          <a:xfrm>
            <a:off x="4857840" y="135720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J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ZoneTexte 61"/>
          <p:cNvSpPr/>
          <p:nvPr/>
        </p:nvSpPr>
        <p:spPr>
          <a:xfrm>
            <a:off x="8286840" y="4286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J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5"/>
          <p:cNvSpPr/>
          <p:nvPr/>
        </p:nvSpPr>
        <p:spPr>
          <a:xfrm>
            <a:off x="4801320" y="46432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      1    2     3      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4286160" y="2357280"/>
            <a:ext cx="42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57120" y="857160"/>
            <a:ext cx="240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écanisme d'expansion dans le cas d'un 2D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 U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U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438120" y="5059440"/>
            <a:ext cx="1858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(3, 4)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[Axe  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438120" y="4714920"/>
            <a:ext cx="1858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(3, 3) </a:t>
            </a: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[Axe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438120" y="4357800"/>
            <a:ext cx="1858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(2, 3) </a:t>
            </a: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[Axe  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9"/>
          <p:cNvSpPr/>
          <p:nvPr/>
        </p:nvSpPr>
        <p:spPr>
          <a:xfrm>
            <a:off x="438120" y="3987720"/>
            <a:ext cx="1858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(2, 2) </a:t>
            </a: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[Axe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0"/>
          <p:cNvSpPr/>
          <p:nvPr/>
        </p:nvSpPr>
        <p:spPr>
          <a:xfrm>
            <a:off x="438120" y="3571920"/>
            <a:ext cx="1858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(1, 2) </a:t>
            </a: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[Axe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1"/>
          <p:cNvSpPr/>
          <p:nvPr/>
        </p:nvSpPr>
        <p:spPr>
          <a:xfrm>
            <a:off x="438120" y="3143160"/>
            <a:ext cx="185868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(0, 2)  </a:t>
            </a: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[Axe  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2"/>
          <p:cNvSpPr/>
          <p:nvPr/>
        </p:nvSpPr>
        <p:spPr>
          <a:xfrm>
            <a:off x="379080" y="2714760"/>
            <a:ext cx="1982160" cy="368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(0, 1) </a:t>
            </a: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nstantia"/>
              </a:rPr>
              <a:t>[Axe  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oneTexte 54"/>
          <p:cNvSpPr/>
          <p:nvPr/>
        </p:nvSpPr>
        <p:spPr>
          <a:xfrm>
            <a:off x="3429000" y="46432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ZoneTexte 55"/>
          <p:cNvSpPr/>
          <p:nvPr/>
        </p:nvSpPr>
        <p:spPr>
          <a:xfrm>
            <a:off x="4214880" y="5357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0" y="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500040" y="3929040"/>
            <a:ext cx="7829640" cy="5000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onc il suffit de prendre le Max entre  B2(5,2) et B1 (1,1).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6321600" y="0"/>
            <a:ext cx="2822400" cy="2000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28760" y="630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omment calculer l‘adresse d'un élément arbitraire soit A (1, 5) ?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457200" y="1928880"/>
            <a:ext cx="51865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Est-ce que A(1, 5) appartient à une ligne ou une colonn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500040" y="2857680"/>
            <a:ext cx="738684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i A(1, 5) a été ajouté à la ligne 1, B2 (5,2) devrait avoir une valeur inférieure à l‘adresse début de la ligne 1 qui est B1 (1, 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2099880"/>
            <a:ext cx="3400560" cy="3257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1. Étendre 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[0:U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, 1..K] à  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[0:U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+ 1, 1..K 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2. 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[U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+1,t] </a:t>
            </a:r>
            <a:r>
              <a:rPr b="1" lang="fr-FR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 (U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+1)* </a:t>
            </a:r>
            <a:r>
              <a:rPr b="1" lang="fr-FR" sz="2000" spc="-1" strike="noStrike">
                <a:solidFill>
                  <a:srgbClr val="0070c0"/>
                </a:solidFill>
                <a:latin typeface="Symbol"/>
                <a:ea typeface="Symbol"/>
              </a:rPr>
              <a:t>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r=1, k et r # t.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(U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+ 1)  [bas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3. 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(U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+1, q] </a:t>
            </a:r>
            <a:r>
              <a:rPr b="1" lang="fr-FR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fr-FR" sz="2000" spc="-1" strike="noStrike">
                <a:solidFill>
                  <a:srgbClr val="0070c0"/>
                </a:solidFill>
                <a:latin typeface="Symbol"/>
                <a:ea typeface="Symbol"/>
              </a:rPr>
              <a:t>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r=q+1, ..., k et r # 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( U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+ 1)     [facteurs multiplicatifs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q=1, K et q &lt;&gt; 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57120" y="1214280"/>
            <a:ext cx="30006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Procédure d'allo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tendre(t) : t index, t =1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714920" y="2193840"/>
            <a:ext cx="3757680" cy="2428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1. Déterminer l'indice t tel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[j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, t] </a:t>
            </a:r>
            <a:r>
              <a:rPr b="1" lang="fr-FR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Max { 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[j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, i], i=1, ..,K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2. Adresse </a:t>
            </a:r>
            <a:r>
              <a:rPr b="1" lang="fr-FR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[j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,t]+ </a:t>
            </a:r>
            <a:r>
              <a:rPr b="1" lang="fr-FR" sz="2000" spc="-1" strike="noStrike">
                <a:solidFill>
                  <a:srgbClr val="0070c0"/>
                </a:solidFill>
                <a:latin typeface="Symbol"/>
                <a:ea typeface="Symbol"/>
              </a:rPr>
              <a:t>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r = 1, ...,K et  r # 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( B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[j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t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, r] * j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643280" y="1143000"/>
            <a:ext cx="3143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Fonction d'accè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dresse de A(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, 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) 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nnecteur droit 10"/>
          <p:cNvSpPr/>
          <p:nvPr/>
        </p:nvSpPr>
        <p:spPr>
          <a:xfrm>
            <a:off x="4143240" y="8571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714560" y="121932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alcul des adr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0,0)=0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0,1)=3 Adr(0,2)=6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0,3)=12 Adr(0,4)=24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1,0)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1,1)=4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1,2)=7 Adr(1,3)=13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1,4)=25 Adr(2,0)=2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2,1)=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2,2)=8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2,3)=14 Adr(2,4)=26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3,0)=9 Adr(3,1)=10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3,2)=11 Adr(3,3)=15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3,4)=27 Adr(4,0)=16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4,1)=17 Adr(4,2)=18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4,3)=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4,4)=28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5,0)=20 Adr(5,1)=21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5,2)=22 Adr(5,3)=23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dr(5,4)=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14200" y="1071720"/>
            <a:ext cx="35006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xemple Calcul d’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k=2 ; E= 1, 1, 2, 2, 1, 2, 1, 1,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88720" y="24289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85840" y="2798640"/>
            <a:ext cx="2286000" cy="10756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  : 0  1  2  9  16  2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2  : 1  1  1  1  1    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85840" y="4284720"/>
            <a:ext cx="2286000" cy="801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  : 1  1  1   1   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2  : 0  3  6  12 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288720" y="39276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nnecteur droit 11"/>
          <p:cNvSpPr/>
          <p:nvPr/>
        </p:nvSpPr>
        <p:spPr>
          <a:xfrm>
            <a:off x="4143240" y="8571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5572080" y="2928960"/>
            <a:ext cx="1814400" cy="1062000"/>
          </a:xfrm>
          <a:prstGeom prst="rect">
            <a:avLst/>
          </a:prstGeom>
          <a:noFill/>
          <a:ln cap="sq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  : 1  2  3  4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2  : 1  1  1  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3  : 0  4  18  4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28760" y="1143000"/>
            <a:ext cx="4114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xemple Calcul d’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k=3;    E=1, 2, 3, 1, 2, 3, 1, 2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00040" y="2901960"/>
            <a:ext cx="1571760" cy="18666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1  : 0  1  8  27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2  : 1  1  2  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3  : 1  1  1  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000240" y="2928960"/>
            <a:ext cx="1714680" cy="18666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1  : 1  1   2   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2  : 0  2  12  3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3  : 1  1  1    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04480" y="2500200"/>
            <a:ext cx="10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720520" y="2571840"/>
            <a:ext cx="10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5317200" y="2562120"/>
            <a:ext cx="10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0" y="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2356920"/>
            <a:ext cx="6286680" cy="428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tableau d-dim contenant le seul élément A(0, 0, ...,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linéair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57120" y="785880"/>
            <a:ext cx="8172360" cy="139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tableau d-dimensionnel est dit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tableau linéaire dynamiqu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s'il peut être généré récursivement comme su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{ A(0, 0, ..., 0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U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57120" y="3000240"/>
            <a:ext cx="5072040" cy="780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et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‘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sont des ensembles ordonnés tel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1)  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‘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57120" y="3922560"/>
            <a:ext cx="7643880" cy="2484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2)   Pour chaque élément A(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...,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de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ans un ordre linéaire ajouter A(i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i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,i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)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o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pour tout j, j#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l = L.d + r  (d : dimension  ; L : nombre de cycles;  l : nombre d’extension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85480" y="3857760"/>
            <a:ext cx="3686040" cy="2388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.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 A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=1 ==&gt; L=0 et r=1 donc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{  A(0, 0), A(1, 0) , A(0, 1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(1, 1)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Ajouter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1 à la composa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=1 des éléments de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886280" y="1285920"/>
            <a:ext cx="3686400" cy="2531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4.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 A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=2 ==&gt; L=1 et r=0 donc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{ A(0, 0), A(1, 0) , A(0, 1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(1, 1), A(2, 0), A(3, 0)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(2, 1), A(3, 1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jouter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2 à la compos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=0 des éléments de 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282800" y="0"/>
            <a:ext cx="191952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nstantia"/>
              </a:rPr>
              <a:t>l = L.d +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linéair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85840" y="7016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xemple pour d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25920" y="1357200"/>
            <a:ext cx="2322000" cy="405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. 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{A(0, 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85840" y="1857240"/>
            <a:ext cx="3357360" cy="1793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. 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 A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=0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L = 0 et r=0 donc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{ A(0, 0), A(1, 0) 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Ajouter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à la compos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20880" y="41432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c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C:\sdd-avancées\Images\image54.gif"/>
          <p:cNvPicPr/>
          <p:nvPr/>
        </p:nvPicPr>
        <p:blipFill>
          <a:blip r:embed="rId1"/>
          <a:stretch/>
        </p:blipFill>
        <p:spPr>
          <a:xfrm>
            <a:off x="3008160" y="1071720"/>
            <a:ext cx="4124520" cy="2000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0" y="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linéair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85840" y="157176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Évolution du fichier ( vue par nivea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5" descr="C:\sdd-avancées\Images\image55.gif"/>
          <p:cNvPicPr/>
          <p:nvPr/>
        </p:nvPicPr>
        <p:blipFill>
          <a:blip r:embed="rId2"/>
          <a:stretch/>
        </p:blipFill>
        <p:spPr>
          <a:xfrm>
            <a:off x="2651040" y="3929040"/>
            <a:ext cx="5921640" cy="2720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"/>
          <p:cNvSpPr/>
          <p:nvPr/>
        </p:nvSpPr>
        <p:spPr>
          <a:xfrm>
            <a:off x="357120" y="477036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dresses logiques des cases pour l =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000" y="287928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Hachage linéaire multidimensionnel (ML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2714760"/>
            <a:ext cx="8229600" cy="1000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e clé k =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...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 peut être vue comme un vecteur dans un espace D-dimensionnel, où chaque axe correspond à un attribut différ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 : Considé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71680" y="1373040"/>
            <a:ext cx="7715160" cy="85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oit K =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X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X.....X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l’espace des c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est le domaine correspondant à l'attribut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571680" y="4500720"/>
            <a:ext cx="471456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tilise les tableaux linéaires dyna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360" y="28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3071880"/>
            <a:ext cx="6715080" cy="642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En fin de cette séquence de division, le nombre de cases dou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Princ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57120" y="714240"/>
            <a:ext cx="521496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ppliquer LH consécutivement sur chaque ax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57120" y="1214280"/>
            <a:ext cx="60008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haque division dépend seulement de l'axe cour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57120" y="1785960"/>
            <a:ext cx="7543800" cy="617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s N premières collisions sont résolues selon uniquement l'axe 0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(comme si les clés ne sont composées que d'une seule composante k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57120" y="2500200"/>
            <a:ext cx="34862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En général, N=1 au dé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57120" y="3862440"/>
            <a:ext cx="657216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 la suite, si des collisions apparaissent, elles sont résolues le long de l'axe 1, jusqu'à ce que le fichier double de nouvea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2600" y="4844880"/>
            <a:ext cx="1113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57120" y="5429160"/>
            <a:ext cx="3000600" cy="91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ur chaque séquence, on éclate à partir de la case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4357800" y="5429160"/>
            <a:ext cx="3571920" cy="703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ur chaque séquence, le niveau est incrémen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57120" y="1076040"/>
            <a:ext cx="8229600" cy="11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a case rajoutée est donnée pa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P + 2</a:t>
            </a:r>
            <a:r>
              <a:rPr b="1" lang="fr-FR" sz="28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Si N=1, Sinon P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N)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 pointeur de la case à éclater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 : niveau de la fon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Remarqu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57120" y="3505320"/>
            <a:ext cx="75726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En général, le prochain axe sur lequel les éclatements sont réalisés est déterminé de manière cyclique : (i+1) Mod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 i est l'axe courant, d : nombre de dimen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57120" y="2430360"/>
            <a:ext cx="70009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ans la formule P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représente la taille du fichier avant les éclatements le long d'un ax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57120" y="4719600"/>
            <a:ext cx="792972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 la fin d'un cycle ( d séquences d'éclatements), l'espace des adresses est incrémenté par un facteur de 2d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au départ c'est 1.N,  après axe 1 :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,  après axe 2 :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N,  ...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28440" y="3499920"/>
            <a:ext cx="5143320" cy="1357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 'ensemble des cases a été éclat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L+1) fois le long des axes {0, 1, ...r-1} 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 fois le long des axes {r, ...d-1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Proprié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28800" y="1357200"/>
            <a:ext cx="6586560" cy="1587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i l désigne le nombre total de séquences de divisions réalisées sur tous les axes, al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 = Ld +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 : nombre de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275840"/>
            <a:ext cx="8229600" cy="1971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pour le niveau l (avec l = Ld+r) , sera définie comme une fonction d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X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X...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R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X R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X ....R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ve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R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= I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+1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ur i &lt; r 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R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= I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ur i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de hach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71680" y="611280"/>
            <a:ext cx="655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upposons N = 1 ( au départ ) et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= {0, 1, ...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- 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500040" y="3576600"/>
            <a:ext cx="7358040" cy="954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ur une clé 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) = (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, 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, .....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r-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, ...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00040" y="5014800"/>
            <a:ext cx="8286840" cy="1228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a prochaine séquence de division s'effectuera le long de l'axe r, on utilisera alo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) = (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, 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,.., 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r-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, 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r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r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, …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...sont des fonctions de division pour MLH si elles satisfont les deux   conditions suiv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s de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500040" y="2286000"/>
            <a:ext cx="5786640" cy="440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: K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{0, 1, ..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-1} (par proj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00040" y="3643200"/>
            <a:ext cx="7358040" cy="1577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ur chaque niveau l du fichier avec l = L d + r et pour chaque clé k de K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) =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) ou bie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) =(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, ..., h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L+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70c0"/>
                </a:solidFill>
                <a:latin typeface="Calibri"/>
                <a:ea typeface="Courier New"/>
              </a:rPr>
              <a:t>r-1</a:t>
            </a:r>
            <a:r>
              <a:rPr b="1" lang="fr-FR" sz="2000" spc="-1" strike="noStrike">
                <a:solidFill>
                  <a:srgbClr val="0070c0"/>
                </a:solidFill>
                <a:latin typeface="Calibri"/>
                <a:ea typeface="Courier New"/>
              </a:rPr>
              <a:t>)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+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r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 ...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= H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(k) + ( 0, 0, ...,2</a:t>
            </a:r>
            <a:r>
              <a:rPr b="1" lang="de-DE" sz="2000" spc="-1" strike="noStrike" baseline="30000">
                <a:solidFill>
                  <a:srgbClr val="000000"/>
                </a:solidFill>
                <a:latin typeface="Calibri"/>
                <a:ea typeface="Courier New"/>
              </a:rPr>
              <a:t>L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0, 0,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506880" y="185724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ondition de ra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508320" y="32432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ondition de divi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500040" y="5572080"/>
            <a:ext cx="6286680" cy="51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Noter que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</a:t>
            </a:r>
            <a:r>
              <a:rPr b="1" lang="nl-NL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L+1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k</a:t>
            </a:r>
            <a:r>
              <a:rPr b="1" lang="nl-NL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= h</a:t>
            </a:r>
            <a:r>
              <a:rPr b="1" lang="nl-NL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L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k</a:t>
            </a:r>
            <a:r>
              <a:rPr b="1" lang="nl-NL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r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+ 2</a:t>
            </a:r>
            <a:r>
              <a:rPr b="1" lang="nl-NL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286080" y="1785600"/>
            <a:ext cx="4857840" cy="2071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   : nombre d'articles insér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   : nombre de cases prim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'  : nombre de cases en débord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   : capacité case prim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'  : capacité case de débord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Exemple (d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00040" y="596880"/>
            <a:ext cx="664380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s divisions sont contrôlées par le facteur de chargeme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000080" y="5345280"/>
            <a:ext cx="57866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tilisation du modulo pour les fonctions de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0720" y="2286000"/>
            <a:ext cx="216180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 = n / ( s.b + s'.b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985680" y="4743360"/>
            <a:ext cx="408636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 = 3 et b' = 2.  seuil s= 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"/>
          <p:cNvPicPr/>
          <p:nvPr/>
        </p:nvPicPr>
        <p:blipFill>
          <a:blip r:embed="rId1"/>
          <a:stretch/>
        </p:blipFill>
        <p:spPr>
          <a:xfrm>
            <a:off x="5786280" y="1214280"/>
            <a:ext cx="3357720" cy="1798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"/>
          <p:cNvPicPr/>
          <p:nvPr/>
        </p:nvPicPr>
        <p:blipFill>
          <a:blip r:embed="rId2"/>
          <a:stretch/>
        </p:blipFill>
        <p:spPr>
          <a:xfrm>
            <a:off x="5857920" y="3071880"/>
            <a:ext cx="3286080" cy="183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"/>
          <p:cNvPicPr/>
          <p:nvPr/>
        </p:nvPicPr>
        <p:blipFill>
          <a:blip r:embed="rId3"/>
          <a:stretch/>
        </p:blipFill>
        <p:spPr>
          <a:xfrm>
            <a:off x="5857920" y="5000760"/>
            <a:ext cx="3286080" cy="1803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457200" y="1935000"/>
            <a:ext cx="48290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a) Au départ, une seule case est allouée pour le fichier. Les 3 premiers articles sont insérés avec la fonction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(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où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=k Mo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b) insertion de l'article (19000, 2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llision sur la case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ésolue par l'éclatement de la case 0 le long de l'axe 0, utilisant la fonction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(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avec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 = k Mo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c) La clé (21217, 31)est insérée dans la case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Exemple (d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500040" y="10144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Première séquence de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nnecteur droit 8"/>
          <p:cNvSpPr/>
          <p:nvPr/>
        </p:nvSpPr>
        <p:spPr>
          <a:xfrm>
            <a:off x="5429160" y="92880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"/>
          <p:cNvSpPr/>
          <p:nvPr/>
        </p:nvSpPr>
        <p:spPr>
          <a:xfrm>
            <a:off x="4724280" y="49528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5257800" y="4876920"/>
            <a:ext cx="3429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5" descr=""/>
          <p:cNvPicPr/>
          <p:nvPr/>
        </p:nvPicPr>
        <p:blipFill>
          <a:blip r:embed="rId1"/>
          <a:stretch/>
        </p:blipFill>
        <p:spPr>
          <a:xfrm>
            <a:off x="5364000" y="2214720"/>
            <a:ext cx="3780000" cy="2071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6" descr=""/>
          <p:cNvPicPr/>
          <p:nvPr/>
        </p:nvPicPr>
        <p:blipFill>
          <a:blip r:embed="rId2"/>
          <a:stretch/>
        </p:blipFill>
        <p:spPr>
          <a:xfrm>
            <a:off x="5357880" y="4471920"/>
            <a:ext cx="3786120" cy="23860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"/>
          <p:cNvSpPr/>
          <p:nvPr/>
        </p:nvSpPr>
        <p:spPr>
          <a:xfrm>
            <a:off x="457200" y="1935000"/>
            <a:ext cx="48290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insertion de (15241, 26) cause 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llision sur la case 1 le long de l'axe 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uisque a=6/6 = 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’article est mis en débordement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’est la case 0 qui s’écl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éclatement est accompli par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(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oter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 =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 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 =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 + (0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b) Insertion de(59219, 35) : H2 do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1, 1) : en deho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onc H1 qui donne(1, 0) : case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clat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2" descr=""/>
          <p:cNvPicPr/>
          <p:nvPr/>
        </p:nvPicPr>
        <p:blipFill>
          <a:blip r:embed="rId3"/>
          <a:stretch/>
        </p:blipFill>
        <p:spPr>
          <a:xfrm>
            <a:off x="5857920" y="0"/>
            <a:ext cx="3286080" cy="18032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9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Exemple (d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500040" y="10144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Deuxièm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 séquence de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nnecteur droit 10"/>
          <p:cNvSpPr/>
          <p:nvPr/>
        </p:nvSpPr>
        <p:spPr>
          <a:xfrm>
            <a:off x="4929120" y="78588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4857840" y="857160"/>
            <a:ext cx="3571920" cy="2862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457200" y="1935000"/>
            <a:ext cx="4829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Exemple (d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00040" y="10144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dresses logiques des cases durant les 4 premières séquences de div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71680" y="4572000"/>
            <a:ext cx="700056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Problème :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ssociation entre les coordonnées et les adresses de cas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42600" y="3928680"/>
            <a:ext cx="6715080" cy="1071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termine pour µ donné, les coordonnées de la projection de µ le long de l'axe i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 µ ) := (0, 0, ..., µ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0, ...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642960" y="714240"/>
            <a:ext cx="6572160" cy="637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µ un point dans I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d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I étant un intervalle quelcon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( I = [0..v] par exemple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42960" y="2143080"/>
            <a:ext cx="4643280" cy="405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 i-ème coordonnée de µ,    0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-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642960" y="3071880"/>
            <a:ext cx="3571920" cy="405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ojectio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  I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---&gt; I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3757680" cy="3114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Les méth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raditionnel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ent les listes inver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utant d'indexes secondaires que d'attrib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ûteuses pour les grands fich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143680" y="1312920"/>
            <a:ext cx="2928600" cy="3668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Les mé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mod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'utilisent pratiquement pas d'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ent le concept des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tableaux exten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Visent un accès di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71360" y="2214360"/>
            <a:ext cx="4857480" cy="928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(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 ) = M (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+(0,0,..,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0,0..) ) = M (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571680" y="4618080"/>
            <a:ext cx="7215120" cy="1000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i0,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,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= M(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.,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ù l = L.d +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02760" y="3643200"/>
            <a:ext cx="15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u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500040" y="928800"/>
            <a:ext cx="77011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e fonction M de I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d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Espace à d dim) dans J (espace à 1 dim)est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nction de stockage si elle satisfait la contrainte suivant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6840" y="1599840"/>
            <a:ext cx="6186600" cy="75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Théorème 1 :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 ( µ ) =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i=0,d-1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 (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(µ) ),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71680" y="4572000"/>
            <a:ext cx="7429320" cy="1050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Théorème 2 :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Si M(0,0,..,0) = 0, alors M est une fonction sur la droite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( 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{0, 1, 2, … ,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l = L.d +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500040" y="2841480"/>
            <a:ext cx="692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 est une fonction bi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xemple : M(3, 2) = M(3, 0) + M(0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démo se fait par ré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0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5715000" y="1785960"/>
            <a:ext cx="3319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( d=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alcul de M(6,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6)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1 1 0    0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1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1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1 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1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1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6, 3) =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alcul de M(4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4)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1 0 0    0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0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1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1 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0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1.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4, 2) =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14280" y="1935000"/>
            <a:ext cx="5114880" cy="356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Théorème 3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est complètement caractérisée pa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( µ ) =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j=0,d-1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i=0,xj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1" lang="fr-FR" sz="2800" spc="-1" strike="noStrike" baseline="30000">
                <a:solidFill>
                  <a:srgbClr val="000000"/>
                </a:solidFill>
                <a:latin typeface="Calibri"/>
              </a:rPr>
              <a:t>d.i+ j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. b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Ent ( Log µ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t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x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j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xj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j....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 est la représentation binaire de µ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nnecteur droit 5"/>
          <p:cNvSpPr/>
          <p:nvPr/>
        </p:nvSpPr>
        <p:spPr>
          <a:xfrm>
            <a:off x="5643720" y="8571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C:\sdd-avancées\Images\image56.gif"/>
          <p:cNvPicPr/>
          <p:nvPr/>
        </p:nvPicPr>
        <p:blipFill>
          <a:blip r:embed="rId1"/>
          <a:stretch/>
        </p:blipFill>
        <p:spPr>
          <a:xfrm>
            <a:off x="1857240" y="2664000"/>
            <a:ext cx="5105520" cy="36226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onnecteur droit 5"/>
          <p:cNvSpPr/>
          <p:nvPr/>
        </p:nvSpPr>
        <p:spPr>
          <a:xfrm>
            <a:off x="4143240" y="8571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599840"/>
            <a:ext cx="5686560" cy="20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Algorithme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1. Déduire L et 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2. Calcul de 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3. l := l - 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4. Reprendre à partir de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428760" y="714240"/>
            <a:ext cx="80150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onnaissant le niveau l du fichier on peut déterminer M(x, y, z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28760" y="4429080"/>
            <a:ext cx="557208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la dimension 2 on a les formu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a, b) = M(a, b-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r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M(a-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b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r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571680" y="5357880"/>
            <a:ext cx="3929040" cy="5000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3, 3) =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3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2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1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0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71680" y="92880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emple : Calcul M(3, 3) sachant que l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571680" y="1844640"/>
            <a:ext cx="32860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 = 3 ==&gt; L = 1 et r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3, 3) = M(3, 1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571680" y="2644920"/>
            <a:ext cx="358596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l = 2 ==&gt; L = 1 et r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3, 1) = M(1, 1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571680" y="3444840"/>
            <a:ext cx="34858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l = 1 ==&gt; L = 0 et r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1, 1) = M(1, 0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71680" y="4357800"/>
            <a:ext cx="471456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l = 0 ==&gt; L = 0 et r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1, 0) = M(0, 0) +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56760" y="1819440"/>
            <a:ext cx="6186600" cy="1828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fonction inverse R peut être exprimée comm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 = ( 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, 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 ( 2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Calibri"/>
              </a:rPr>
              <a:t>k div d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. b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 )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, k dans E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j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585720" y="665280"/>
            <a:ext cx="62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tant donné une adresse m obtenue par la fonction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71680" y="1100160"/>
            <a:ext cx="742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,       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x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, ...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sa représentation bin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57120" y="3965400"/>
            <a:ext cx="8215560" cy="405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j) = { k tel que k = d.i + j et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est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an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la représentation binaire de m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57120" y="4933800"/>
            <a:ext cx="7572600" cy="954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déterminer 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on ne considère que les bits de rang k = di +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 = 0, 1, ..,   ,d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 = 0, 1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85480" y="1600200"/>
            <a:ext cx="33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xemp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d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0) = { 0, 2, 4, ..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1) = { 1, 3, 5, ..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d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0) = { 0, 3, 6, ..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1) = { 1, 4, 7, ..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2) = { 2, 5, 8, ..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Fonction 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786200" y="785880"/>
            <a:ext cx="3543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Pour d=2 ; m = 27, puis m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4405320" y="2143080"/>
            <a:ext cx="2238480" cy="1143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4572000" y="4071960"/>
            <a:ext cx="1785960" cy="1112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3"/>
          <a:stretch/>
        </p:blipFill>
        <p:spPr>
          <a:xfrm>
            <a:off x="7715160" y="2500200"/>
            <a:ext cx="785880" cy="327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"/>
          <p:cNvPicPr/>
          <p:nvPr/>
        </p:nvPicPr>
        <p:blipFill>
          <a:blip r:embed="rId4"/>
          <a:stretch/>
        </p:blipFill>
        <p:spPr>
          <a:xfrm>
            <a:off x="7643880" y="4429080"/>
            <a:ext cx="874800" cy="343080"/>
          </a:xfrm>
          <a:prstGeom prst="rect">
            <a:avLst/>
          </a:prstGeom>
          <a:ln w="0">
            <a:noFill/>
          </a:ln>
        </p:spPr>
      </p:pic>
      <p:sp>
        <p:nvSpPr>
          <p:cNvPr id="325" name="Flèche droite 9"/>
          <p:cNvSpPr/>
          <p:nvPr/>
        </p:nvSpPr>
        <p:spPr>
          <a:xfrm>
            <a:off x="6786720" y="2643120"/>
            <a:ext cx="57132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nnecteur droit 11"/>
          <p:cNvSpPr/>
          <p:nvPr/>
        </p:nvSpPr>
        <p:spPr>
          <a:xfrm>
            <a:off x="4143240" y="8571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lèche droite 12"/>
          <p:cNvSpPr/>
          <p:nvPr/>
        </p:nvSpPr>
        <p:spPr>
          <a:xfrm>
            <a:off x="6786720" y="4572000"/>
            <a:ext cx="57132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2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6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9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500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3045960"/>
            <a:ext cx="6686640" cy="238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1. Appliquer 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) &lt;-- ( 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+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), ..., 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+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r-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), 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), ...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)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2. m </a:t>
            </a:r>
            <a:r>
              <a:rPr b="1" lang="fr-FR" sz="2000" spc="-1" strike="noStrike">
                <a:solidFill>
                  <a:srgbClr val="4f81bd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M( 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) ) =    </a:t>
            </a:r>
            <a:r>
              <a:rPr b="1" lang="fr-FR" sz="2000" spc="-1" strike="noStrike">
                <a:solidFill>
                  <a:srgbClr val="4f81bd"/>
                </a:solidFill>
                <a:latin typeface="Symbol"/>
                <a:ea typeface="Symbol"/>
              </a:rPr>
              <a:t>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i=0, d-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 M(</a:t>
            </a:r>
            <a:r>
              <a:rPr b="1" lang="fr-FR" sz="2000" spc="-1" strike="noStrike">
                <a:solidFill>
                  <a:srgbClr val="4f81bd"/>
                </a:solidFill>
                <a:latin typeface="Symbol"/>
                <a:ea typeface="Symbol"/>
              </a:rPr>
              <a:t>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)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3. Si m &lt; P alors m := M ( H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l+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(k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(P : prochaine case à éclate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Requête exa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28760" y="587520"/>
            <a:ext cx="735804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k =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et l = Ld + r  le nombre de séquenc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ivisions accompli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28760" y="1730520"/>
            <a:ext cx="7072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'algorithme qui suit rend l'adresse log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ù l'article est ran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71320" y="3429000"/>
            <a:ext cx="4214520" cy="128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. m &lt; P donc H4(k)=(h2, h2)(k)=(1,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1, 0) = 1; M(0, 3) =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Requête exa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428760" y="857160"/>
            <a:ext cx="80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rouver l'adresse de (30121, 35) en supposant que l = 3 et P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71680" y="1415880"/>
            <a:ext cx="407160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. H3(k)=( h2(30121), h1(35) ) = (1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571680" y="2097000"/>
            <a:ext cx="3286080" cy="104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. M(1, 1) = M(1, 0) + M(0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(1, 0) = 1; M(0, 1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7120" y="5000760"/>
            <a:ext cx="3571920" cy="1071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rticle = point de l'espace d-dimensionnel 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X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X....X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 : Termi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57120" y="785880"/>
            <a:ext cx="4043520" cy="1565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rticle = (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 attributs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...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   ,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 est la dim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ppartient à un domaine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57120" y="2857680"/>
            <a:ext cx="2286000" cy="1743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énéralement, une clé primaire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et d-1 clés secondaires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nnecteur droit 6"/>
          <p:cNvSpPr/>
          <p:nvPr/>
        </p:nvSpPr>
        <p:spPr>
          <a:xfrm>
            <a:off x="4572000" y="8571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143680" y="1176480"/>
            <a:ext cx="3214440" cy="1618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quête exacte  (Exact match query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s les attributs sont spécifié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( Articles avec A1=k1, A2=k2, ....Ad=K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143680" y="3247920"/>
            <a:ext cx="314316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quête partielle  (Partial match query ) :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Quelques attributs sont spécifi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143680" y="4962600"/>
            <a:ext cx="342900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quête par intervalle ( Region query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intervalle est spécifié pour chaque  attrib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ZoneTexte 10"/>
          <p:cNvSpPr/>
          <p:nvPr/>
        </p:nvSpPr>
        <p:spPr>
          <a:xfrm>
            <a:off x="5143680" y="571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rincipales opé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760" y="2732040"/>
            <a:ext cx="8229600" cy="1339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n désigne par b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 l'ensemble des cases à rechercher ( l = L.d + r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)={b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,...., b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, .....b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Requête part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28760" y="928800"/>
            <a:ext cx="7572240" cy="16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r des clés de la forme k=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...,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une valeur du domaine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 une valeur non spécifiée (‘*’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428760" y="4786200"/>
            <a:ext cx="2857320" cy="440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ent définir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)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71320" y="4100400"/>
            <a:ext cx="6257880" cy="2114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= * et i=r : 0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fr-FR" sz="24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Calibri"/>
              </a:rPr>
              <a:t>L+1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- 1 + Last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ast = P - 1  : dernière case éclaté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s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énote la i-ieme  ( i = r) coordonnée obtenue par l'application de la fonction inverse 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Requête part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71680" y="1571760"/>
            <a:ext cx="5072040" cy="926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est spécifié et i &lt; r :  b</a:t>
            </a:r>
            <a:r>
              <a:rPr b="1" lang="fr-FR" sz="24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 =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L+1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est spécifié et i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 :   b</a:t>
            </a:r>
            <a:r>
              <a:rPr b="1" lang="fr-FR" sz="24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 =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71680" y="2786040"/>
            <a:ext cx="5500440" cy="952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= * et i # r :   0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fr-FR" sz="24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fr-FR" sz="24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vec m = L+1 si i &lt; r et m = L si i &gt;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95440" y="857160"/>
            <a:ext cx="37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4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k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 est défini comme sui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71320" y="2143080"/>
            <a:ext cx="5329080" cy="3043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Pour Chaque b dans b</a:t>
            </a:r>
            <a:r>
              <a:rPr b="1" i="1" lang="fr-FR" sz="2000" spc="-1" strike="noStrike" baseline="30000">
                <a:solidFill>
                  <a:srgbClr val="4f81bd"/>
                </a:solidFill>
                <a:latin typeface="Calibri"/>
              </a:rPr>
              <a:t>l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( 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m </a:t>
            </a:r>
            <a:r>
              <a:rPr b="1" i="1" lang="fr-FR" sz="2000" spc="-1" strike="noStrike">
                <a:solidFill>
                  <a:srgbClr val="4f81bd"/>
                </a:solidFill>
                <a:latin typeface="Wingdings"/>
                <a:ea typeface="Wingdings"/>
              </a:rPr>
              <a:t>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M(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0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 ....,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d-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Si k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r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est spécifié et m &lt;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90440" indent="3780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     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r</a:t>
            </a:r>
            <a:r>
              <a:rPr b="1" i="1" lang="fr-FR" sz="2000" spc="-1" strike="noStrike">
                <a:solidFill>
                  <a:srgbClr val="4f81bd"/>
                </a:solidFill>
                <a:latin typeface="Wingdings"/>
                <a:ea typeface="Wingdings"/>
              </a:rPr>
              <a:t>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h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L+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(k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r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     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m  </a:t>
            </a:r>
            <a:r>
              <a:rPr b="1" i="1" lang="fr-FR" sz="2000" spc="-1" strike="noStrike">
                <a:solidFill>
                  <a:srgbClr val="4f81bd"/>
                </a:solidFill>
                <a:latin typeface="Wingdings"/>
                <a:ea typeface="Wingdings"/>
              </a:rPr>
              <a:t>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M(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0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 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 ..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d-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Fs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Écrire(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Finp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Requête part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00040" y="785880"/>
            <a:ext cx="8158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la requête k=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...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et l = Ld + r, l'algorithme retourne les adresses des cases où les articles avec les attributs spécifiés sont rang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rès bonnes performances ( recherche, insertion, suppres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des divisions non contrôlées avec b=5 et b'=1, le coût d'accès est de 1.09 indépendamment de la dimension et le facteur de chargement est de 67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ur des division contrôlées, même avec un seuil de 90%, pour b=10 et b'=2, le temps d'accès est de 1.7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convénient : absence de l’ord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LH: 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0360" y="28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Hachage digital multidimensionnel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T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er d arbres digitaux en mémoire, un arbre par attrib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nœuds feuilles désignent des indexes au lieu des adresses de cases du fich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fin de localiser un article de clé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...,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, chaque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est recherché dans l'arbre digital correspondant à l'attribut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ppliquer une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fonction de "mapping"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afin de transformer le d-uplet formé en une adresse liné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4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9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071360"/>
            <a:ext cx="82296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s cases sont représentées dans un espace d-dimensionnel où les d axes sont les d  attribu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Un point avec les coordonnées (i1, i2,.., id) dans l'espace représente la case du fichier d'adresse F(&lt;i1, i2,.., id&gt;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e fichier  est un tableau à d dimensions rangé linéairement sur le dis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00040" y="38289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a fonction de mapping utilise la technique des tableaux extensibles dans n'importe quelle dir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500040" y="471492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 chaque extension un bloc(d-1)-dimensionnel ( Segment ) est rajou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500040" y="54356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a fonction de mapping utilise d tableaux bi-dimensionnel contenant les bases et le facteurs multiplicatifs pour chaque dimen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7" descr="C:\sdd-avancées\image48.gif"/>
          <p:cNvPicPr/>
          <p:nvPr/>
        </p:nvPicPr>
        <p:blipFill>
          <a:blip r:embed="rId1"/>
          <a:stretch/>
        </p:blipFill>
        <p:spPr>
          <a:xfrm>
            <a:off x="3786120" y="1357200"/>
            <a:ext cx="4643640" cy="3613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1000080" y="1428840"/>
            <a:ext cx="1352520" cy="1457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2514600" cy="18576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6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Exe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1. Choisir t = m tel que  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m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[j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m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 m] = Max { 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r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[j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r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 r]},  r = 1, 2, …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2. Adr = 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t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[j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t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 t] +  </a:t>
            </a:r>
            <a:r>
              <a:rPr b="1" i="1" lang="fr-FR" sz="2000" spc="-1" strike="noStrike">
                <a:solidFill>
                  <a:srgbClr val="4f81bd"/>
                </a:solidFill>
                <a:latin typeface="Symbol"/>
                <a:ea typeface="Symbol"/>
              </a:rPr>
              <a:t>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r=1, d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B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t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[j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t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, r] * j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r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 et r </a:t>
            </a:r>
            <a:r>
              <a:rPr b="1" i="1" lang="fr-FR" sz="2000" spc="-1" strike="noStrike">
                <a:solidFill>
                  <a:srgbClr val="4f81bd"/>
                </a:solidFill>
                <a:latin typeface="Symbol"/>
                <a:ea typeface="Symbol"/>
              </a:rPr>
              <a:t>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3. Retourner Ad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11120" y="1100160"/>
            <a:ext cx="344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alcul de F (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…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e insertion peut causer une coll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fichier est étendu par un bloc (d-1) dimensionnel de cases rajoutées à la fin du fich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aille du bloc = 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(U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+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#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 étant l'axe sur lequel se fait l'exten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index maximal dans l'arbre T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3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1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4" dur="5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7" dur="500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00040" y="1857240"/>
            <a:ext cx="7143840" cy="128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Ordre de rangement des sous tableaux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(i, *, *, ..., *)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(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*, *, ..., *),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(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+1, *, *, ..., *),  A(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+2, *, *, ..., *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........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(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*, *, ..., *)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s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00040" y="979560"/>
            <a:ext cx="6000840" cy="440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Une déclaration  typique : A(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: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;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: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; ......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: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00040" y="3786120"/>
            <a:ext cx="76438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 l'intérieur de chaque sous tableau A(i, *, *, ...., *), l'ordre suivant des sous sous-tableaux est considér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(i, a2, *, *, ..., *),  A(i, a2+1, *, *, ..., *), A(i, a2+2, *, *, ..., *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.....,  A(i, b2, *, *, ..., 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ZoneTexte 6"/>
          <p:cNvSpPr/>
          <p:nvPr/>
        </p:nvSpPr>
        <p:spPr>
          <a:xfrm>
            <a:off x="356760" y="578628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74"/>
          <p:cNvSpPr/>
          <p:nvPr/>
        </p:nvSpPr>
        <p:spPr>
          <a:xfrm flipH="1">
            <a:off x="3276360" y="5334120"/>
            <a:ext cx="533160" cy="0"/>
          </a:xfrm>
          <a:prstGeom prst="line">
            <a:avLst/>
          </a:prstGeom>
          <a:ln cap="sq" w="38160">
            <a:solidFill>
              <a:srgbClr val="eeec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75"/>
          <p:cNvSpPr/>
          <p:nvPr/>
        </p:nvSpPr>
        <p:spPr>
          <a:xfrm>
            <a:off x="500040" y="1714680"/>
            <a:ext cx="35719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cas de collis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oisir un axe d’extension (de manière cycl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jouter un nouveau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distribuer les clés entre l’ancien et le nouveau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6"/>
          <p:cNvSpPr/>
          <p:nvPr/>
        </p:nvSpPr>
        <p:spPr>
          <a:xfrm>
            <a:off x="4929120" y="4572000"/>
            <a:ext cx="314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tension par bloc de plusieurs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2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e 66"/>
          <p:cNvGrpSpPr/>
          <p:nvPr/>
        </p:nvGrpSpPr>
        <p:grpSpPr>
          <a:xfrm>
            <a:off x="4886280" y="1856880"/>
            <a:ext cx="2971800" cy="2210400"/>
            <a:chOff x="4886280" y="1856880"/>
            <a:chExt cx="2971800" cy="2210400"/>
          </a:xfrm>
        </p:grpSpPr>
        <p:sp>
          <p:nvSpPr>
            <p:cNvPr id="373" name="Line 4"/>
            <p:cNvSpPr/>
            <p:nvPr/>
          </p:nvSpPr>
          <p:spPr>
            <a:xfrm>
              <a:off x="4886280" y="315288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7"/>
            <p:cNvSpPr/>
            <p:nvPr/>
          </p:nvSpPr>
          <p:spPr>
            <a:xfrm>
              <a:off x="5267160" y="315288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>
              <a:off x="5648040" y="315288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>
              <a:off x="6029280" y="315288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886280" y="31528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4886280" y="345780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4886280" y="376272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4886280" y="40672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4886280" y="18568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5"/>
            <p:cNvSpPr/>
            <p:nvPr/>
          </p:nvSpPr>
          <p:spPr>
            <a:xfrm flipV="1">
              <a:off x="5267160" y="18568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 flipV="1">
              <a:off x="6029280" y="27712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7"/>
            <p:cNvSpPr/>
            <p:nvPr/>
          </p:nvSpPr>
          <p:spPr>
            <a:xfrm flipV="1">
              <a:off x="6029280" y="18568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V="1">
              <a:off x="6029280" y="216144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9"/>
            <p:cNvSpPr/>
            <p:nvPr/>
          </p:nvSpPr>
          <p:spPr>
            <a:xfrm flipV="1">
              <a:off x="6029280" y="246636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0"/>
            <p:cNvSpPr/>
            <p:nvPr/>
          </p:nvSpPr>
          <p:spPr>
            <a:xfrm flipV="1">
              <a:off x="5648040" y="18568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1"/>
            <p:cNvSpPr/>
            <p:nvPr/>
          </p:nvSpPr>
          <p:spPr>
            <a:xfrm>
              <a:off x="5267160" y="246672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2"/>
            <p:cNvSpPr/>
            <p:nvPr/>
          </p:nvSpPr>
          <p:spPr>
            <a:xfrm>
              <a:off x="5648040" y="185724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3"/>
            <p:cNvSpPr/>
            <p:nvPr/>
          </p:nvSpPr>
          <p:spPr>
            <a:xfrm>
              <a:off x="6410160" y="246672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4"/>
            <p:cNvSpPr/>
            <p:nvPr/>
          </p:nvSpPr>
          <p:spPr>
            <a:xfrm>
              <a:off x="6791400" y="185724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37"/>
            <p:cNvSpPr/>
            <p:nvPr/>
          </p:nvSpPr>
          <p:spPr>
            <a:xfrm>
              <a:off x="6715080" y="40672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39"/>
            <p:cNvSpPr/>
            <p:nvPr/>
          </p:nvSpPr>
          <p:spPr>
            <a:xfrm>
              <a:off x="6715080" y="315288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40"/>
            <p:cNvSpPr/>
            <p:nvPr/>
          </p:nvSpPr>
          <p:spPr>
            <a:xfrm>
              <a:off x="7096320" y="315288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6715080" y="376272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>
              <a:off x="6715080" y="34578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43"/>
            <p:cNvSpPr/>
            <p:nvPr/>
          </p:nvSpPr>
          <p:spPr>
            <a:xfrm>
              <a:off x="6715080" y="3152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45"/>
            <p:cNvSpPr/>
            <p:nvPr/>
          </p:nvSpPr>
          <p:spPr>
            <a:xfrm flipV="1">
              <a:off x="7096320" y="18568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46"/>
            <p:cNvSpPr/>
            <p:nvPr/>
          </p:nvSpPr>
          <p:spPr>
            <a:xfrm flipV="1">
              <a:off x="7096320" y="216144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47"/>
            <p:cNvSpPr/>
            <p:nvPr/>
          </p:nvSpPr>
          <p:spPr>
            <a:xfrm flipV="1">
              <a:off x="7096320" y="246636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48"/>
            <p:cNvSpPr/>
            <p:nvPr/>
          </p:nvSpPr>
          <p:spPr>
            <a:xfrm flipV="1">
              <a:off x="7096320" y="27712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49"/>
            <p:cNvSpPr/>
            <p:nvPr/>
          </p:nvSpPr>
          <p:spPr>
            <a:xfrm>
              <a:off x="7477200" y="18572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50"/>
            <p:cNvSpPr/>
            <p:nvPr/>
          </p:nvSpPr>
          <p:spPr>
            <a:xfrm>
              <a:off x="7858080" y="185724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1"/>
            <p:cNvSpPr/>
            <p:nvPr/>
          </p:nvSpPr>
          <p:spPr>
            <a:xfrm>
              <a:off x="7477200" y="246672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52"/>
            <p:cNvSpPr/>
            <p:nvPr/>
          </p:nvSpPr>
          <p:spPr>
            <a:xfrm>
              <a:off x="7096320" y="246672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53"/>
            <p:cNvSpPr/>
            <p:nvPr/>
          </p:nvSpPr>
          <p:spPr>
            <a:xfrm>
              <a:off x="5267160" y="3152880"/>
              <a:ext cx="380880" cy="9144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54"/>
            <p:cNvSpPr/>
            <p:nvPr/>
          </p:nvSpPr>
          <p:spPr>
            <a:xfrm flipV="1">
              <a:off x="534348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55"/>
            <p:cNvSpPr/>
            <p:nvPr/>
          </p:nvSpPr>
          <p:spPr>
            <a:xfrm flipV="1">
              <a:off x="541944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56"/>
            <p:cNvSpPr/>
            <p:nvPr/>
          </p:nvSpPr>
          <p:spPr>
            <a:xfrm flipV="1">
              <a:off x="549576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57"/>
            <p:cNvSpPr/>
            <p:nvPr/>
          </p:nvSpPr>
          <p:spPr>
            <a:xfrm flipV="1">
              <a:off x="557208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58"/>
            <p:cNvSpPr/>
            <p:nvPr/>
          </p:nvSpPr>
          <p:spPr>
            <a:xfrm flipV="1">
              <a:off x="564804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59"/>
            <p:cNvSpPr/>
            <p:nvPr/>
          </p:nvSpPr>
          <p:spPr>
            <a:xfrm flipV="1">
              <a:off x="7096320" y="193284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60"/>
            <p:cNvSpPr/>
            <p:nvPr/>
          </p:nvSpPr>
          <p:spPr>
            <a:xfrm flipV="1">
              <a:off x="7096320" y="20854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61"/>
            <p:cNvSpPr/>
            <p:nvPr/>
          </p:nvSpPr>
          <p:spPr>
            <a:xfrm flipV="1">
              <a:off x="7096320" y="23140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62"/>
            <p:cNvSpPr/>
            <p:nvPr/>
          </p:nvSpPr>
          <p:spPr>
            <a:xfrm flipV="1">
              <a:off x="7096320" y="25426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63"/>
            <p:cNvSpPr/>
            <p:nvPr/>
          </p:nvSpPr>
          <p:spPr>
            <a:xfrm flipV="1">
              <a:off x="7096320" y="269532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64"/>
            <p:cNvSpPr/>
            <p:nvPr/>
          </p:nvSpPr>
          <p:spPr>
            <a:xfrm flipV="1">
              <a:off x="7096320" y="23140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65"/>
            <p:cNvSpPr/>
            <p:nvPr/>
          </p:nvSpPr>
          <p:spPr>
            <a:xfrm flipV="1">
              <a:off x="7096320" y="239040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66"/>
            <p:cNvSpPr/>
            <p:nvPr/>
          </p:nvSpPr>
          <p:spPr>
            <a:xfrm>
              <a:off x="6715080" y="3152880"/>
              <a:ext cx="380880" cy="9144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68"/>
            <p:cNvSpPr/>
            <p:nvPr/>
          </p:nvSpPr>
          <p:spPr>
            <a:xfrm flipV="1">
              <a:off x="705312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69"/>
            <p:cNvSpPr/>
            <p:nvPr/>
          </p:nvSpPr>
          <p:spPr>
            <a:xfrm flipV="1">
              <a:off x="694368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70"/>
            <p:cNvSpPr/>
            <p:nvPr/>
          </p:nvSpPr>
          <p:spPr>
            <a:xfrm flipV="1">
              <a:off x="686772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71"/>
            <p:cNvSpPr/>
            <p:nvPr/>
          </p:nvSpPr>
          <p:spPr>
            <a:xfrm flipV="1">
              <a:off x="6791400" y="185688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72"/>
            <p:cNvSpPr/>
            <p:nvPr/>
          </p:nvSpPr>
          <p:spPr>
            <a:xfrm flipV="1">
              <a:off x="7096320" y="2161440"/>
              <a:ext cx="761760" cy="12956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73"/>
            <p:cNvSpPr/>
            <p:nvPr/>
          </p:nvSpPr>
          <p:spPr>
            <a:xfrm flipV="1">
              <a:off x="6715080" y="1856880"/>
              <a:ext cx="761760" cy="129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77"/>
            <p:cNvSpPr/>
            <p:nvPr/>
          </p:nvSpPr>
          <p:spPr>
            <a:xfrm>
              <a:off x="7477200" y="18572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78"/>
            <p:cNvSpPr/>
            <p:nvPr/>
          </p:nvSpPr>
          <p:spPr>
            <a:xfrm>
              <a:off x="7858080" y="185724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Connecteur droit 63"/>
            <p:cNvSpPr/>
            <p:nvPr/>
          </p:nvSpPr>
          <p:spPr>
            <a:xfrm flipV="1">
              <a:off x="5286240" y="1856880"/>
              <a:ext cx="761760" cy="129564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Connecteur droit 65"/>
            <p:cNvSpPr/>
            <p:nvPr/>
          </p:nvSpPr>
          <p:spPr>
            <a:xfrm>
              <a:off x="6104880" y="1857240"/>
              <a:ext cx="25236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2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3" descr=""/>
          <p:cNvPicPr/>
          <p:nvPr/>
        </p:nvPicPr>
        <p:blipFill>
          <a:blip r:embed="rId1"/>
          <a:stretch/>
        </p:blipFill>
        <p:spPr>
          <a:xfrm>
            <a:off x="5572080" y="1871640"/>
            <a:ext cx="3409920" cy="2343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C:\sdd-avancées\image48.gif"/>
          <p:cNvPicPr/>
          <p:nvPr/>
        </p:nvPicPr>
        <p:blipFill>
          <a:blip r:embed="rId2"/>
          <a:stretch/>
        </p:blipFill>
        <p:spPr>
          <a:xfrm>
            <a:off x="281160" y="1785960"/>
            <a:ext cx="3504960" cy="2490840"/>
          </a:xfrm>
          <a:prstGeom prst="rect">
            <a:avLst/>
          </a:prstGeom>
          <a:ln w="0">
            <a:noFill/>
          </a:ln>
        </p:spPr>
      </p:pic>
      <p:sp>
        <p:nvSpPr>
          <p:cNvPr id="432" name="Connecteur droit 11"/>
          <p:cNvSpPr/>
          <p:nvPr/>
        </p:nvSpPr>
        <p:spPr>
          <a:xfrm flipV="1">
            <a:off x="8286840" y="2141280"/>
            <a:ext cx="1440" cy="571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Connecteur droit 13"/>
          <p:cNvSpPr/>
          <p:nvPr/>
        </p:nvSpPr>
        <p:spPr>
          <a:xfrm flipH="1" flipV="1">
            <a:off x="8072280" y="2712600"/>
            <a:ext cx="21456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Connecteur droit 15"/>
          <p:cNvSpPr/>
          <p:nvPr/>
        </p:nvSpPr>
        <p:spPr>
          <a:xfrm flipH="1" flipV="1">
            <a:off x="8072280" y="2141640"/>
            <a:ext cx="2145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57120" y="785880"/>
            <a:ext cx="5757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Exemple d’éclatement selon l’axe j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"/>
          <p:cNvPicPr/>
          <p:nvPr/>
        </p:nvPicPr>
        <p:blipFill>
          <a:blip r:embed="rId3"/>
          <a:stretch/>
        </p:blipFill>
        <p:spPr>
          <a:xfrm>
            <a:off x="214200" y="4329000"/>
            <a:ext cx="1352520" cy="1457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2514600" cy="1857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"/>
          <p:cNvPicPr/>
          <p:nvPr/>
        </p:nvPicPr>
        <p:blipFill>
          <a:blip r:embed="rId5"/>
          <a:stretch/>
        </p:blipFill>
        <p:spPr>
          <a:xfrm>
            <a:off x="5357880" y="4427640"/>
            <a:ext cx="1857240" cy="1430280"/>
          </a:xfrm>
          <a:prstGeom prst="rect">
            <a:avLst/>
          </a:prstGeom>
          <a:ln w="0">
            <a:noFill/>
          </a:ln>
        </p:spPr>
      </p:pic>
      <p:sp>
        <p:nvSpPr>
          <p:cNvPr id="439" name="Flèche droite 21"/>
          <p:cNvSpPr/>
          <p:nvPr/>
        </p:nvSpPr>
        <p:spPr>
          <a:xfrm>
            <a:off x="4214880" y="342900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609480" y="2087640"/>
            <a:ext cx="8229600" cy="4389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1. Appliquer T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 T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…,T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aux valeurs k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 k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…, k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fr-FR" sz="2000" spc="-1" strike="noStrike">
                <a:solidFill>
                  <a:srgbClr val="4f81bd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(i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 i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…, i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2. Pour j:=1,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Si i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= 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- Etendre le tableau selon l’axe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- Mettre à jour l’arbre T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3. Calculer F(i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 i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, …, i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d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) </a:t>
            </a:r>
            <a:r>
              <a:rPr b="1" lang="fr-FR" sz="2000" spc="-1" strike="noStrike">
                <a:solidFill>
                  <a:srgbClr val="4f81bd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adresse de c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4. Si Collision alors choisir un axe a cycliqu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Étendre selon l’ax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Éclater l’arbre 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Pour toutes les cases de l’ancien segment fa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- Re hacher les c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- Si Nil ajouter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Algorithme d’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700200" y="952560"/>
            <a:ext cx="45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sertion de K = (k1, k2, …,k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Requête exac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'est l'algorithme de recherche, puisque tous les attributs sont spécifié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Requête parti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nsidérer tous les indices pour les attributs non spécifi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Requête à interva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terminer un ensemble d’indice dans chaque dim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Types de requê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5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3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6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1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4" dur="5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50"/>
          <p:cNvSpPr/>
          <p:nvPr/>
        </p:nvSpPr>
        <p:spPr>
          <a:xfrm>
            <a:off x="6572160" y="257184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52"/>
          <p:cNvSpPr/>
          <p:nvPr/>
        </p:nvSpPr>
        <p:spPr>
          <a:xfrm>
            <a:off x="6572160" y="3786120"/>
            <a:ext cx="486000" cy="609840"/>
          </a:xfrm>
          <a:prstGeom prst="downArrow">
            <a:avLst>
              <a:gd name="adj1" fmla="val 50000"/>
              <a:gd name="adj2" fmla="val 313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e 45"/>
          <p:cNvGrpSpPr/>
          <p:nvPr/>
        </p:nvGrpSpPr>
        <p:grpSpPr>
          <a:xfrm>
            <a:off x="644040" y="2000160"/>
            <a:ext cx="3123000" cy="3202920"/>
            <a:chOff x="644040" y="2000160"/>
            <a:chExt cx="3123000" cy="3202920"/>
          </a:xfrm>
        </p:grpSpPr>
        <p:sp>
          <p:nvSpPr>
            <p:cNvPr id="449" name="Line 13"/>
            <p:cNvSpPr/>
            <p:nvPr/>
          </p:nvSpPr>
          <p:spPr>
            <a:xfrm>
              <a:off x="1252440" y="344808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4"/>
            <p:cNvSpPr/>
            <p:nvPr/>
          </p:nvSpPr>
          <p:spPr>
            <a:xfrm>
              <a:off x="1252440" y="382896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>
              <a:off x="1252440" y="421020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7"/>
            <p:cNvSpPr/>
            <p:nvPr/>
          </p:nvSpPr>
          <p:spPr>
            <a:xfrm>
              <a:off x="1252440" y="459108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8"/>
            <p:cNvSpPr/>
            <p:nvPr/>
          </p:nvSpPr>
          <p:spPr>
            <a:xfrm>
              <a:off x="1252440" y="344808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9"/>
            <p:cNvSpPr/>
            <p:nvPr/>
          </p:nvSpPr>
          <p:spPr>
            <a:xfrm>
              <a:off x="2624040" y="344808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0"/>
            <p:cNvSpPr/>
            <p:nvPr/>
          </p:nvSpPr>
          <p:spPr>
            <a:xfrm>
              <a:off x="1938240" y="344808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1"/>
            <p:cNvSpPr/>
            <p:nvPr/>
          </p:nvSpPr>
          <p:spPr>
            <a:xfrm>
              <a:off x="1557360" y="344808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2"/>
            <p:cNvSpPr/>
            <p:nvPr/>
          </p:nvSpPr>
          <p:spPr>
            <a:xfrm>
              <a:off x="2243160" y="344808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3"/>
            <p:cNvSpPr/>
            <p:nvPr/>
          </p:nvSpPr>
          <p:spPr>
            <a:xfrm flipV="1">
              <a:off x="1252440" y="200016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4"/>
            <p:cNvSpPr/>
            <p:nvPr/>
          </p:nvSpPr>
          <p:spPr>
            <a:xfrm>
              <a:off x="2395440" y="200016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5"/>
            <p:cNvSpPr/>
            <p:nvPr/>
          </p:nvSpPr>
          <p:spPr>
            <a:xfrm flipV="1">
              <a:off x="2624040" y="200016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6"/>
            <p:cNvSpPr/>
            <p:nvPr/>
          </p:nvSpPr>
          <p:spPr>
            <a:xfrm flipV="1">
              <a:off x="2624040" y="314316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3767040" y="200016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8"/>
            <p:cNvSpPr/>
            <p:nvPr/>
          </p:nvSpPr>
          <p:spPr>
            <a:xfrm>
              <a:off x="2852640" y="314316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>
              <a:off x="3081240" y="291456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30"/>
            <p:cNvSpPr/>
            <p:nvPr/>
          </p:nvSpPr>
          <p:spPr>
            <a:xfrm>
              <a:off x="3309840" y="260964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>
              <a:off x="3538440" y="2304720"/>
              <a:ext cx="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2"/>
            <p:cNvSpPr/>
            <p:nvPr/>
          </p:nvSpPr>
          <p:spPr>
            <a:xfrm flipV="1">
              <a:off x="2624040" y="276192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33"/>
            <p:cNvSpPr/>
            <p:nvPr/>
          </p:nvSpPr>
          <p:spPr>
            <a:xfrm flipV="1">
              <a:off x="2624040" y="238104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34"/>
            <p:cNvSpPr/>
            <p:nvPr/>
          </p:nvSpPr>
          <p:spPr>
            <a:xfrm flipV="1">
              <a:off x="1557360" y="200016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35"/>
            <p:cNvSpPr/>
            <p:nvPr/>
          </p:nvSpPr>
          <p:spPr>
            <a:xfrm flipV="1">
              <a:off x="1938240" y="200016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36"/>
            <p:cNvSpPr/>
            <p:nvPr/>
          </p:nvSpPr>
          <p:spPr>
            <a:xfrm flipV="1">
              <a:off x="2243160" y="2000160"/>
              <a:ext cx="1143000" cy="1447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37"/>
            <p:cNvSpPr/>
            <p:nvPr/>
          </p:nvSpPr>
          <p:spPr>
            <a:xfrm>
              <a:off x="1481040" y="314316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38"/>
            <p:cNvSpPr/>
            <p:nvPr/>
          </p:nvSpPr>
          <p:spPr>
            <a:xfrm>
              <a:off x="1709640" y="291456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40"/>
            <p:cNvSpPr/>
            <p:nvPr/>
          </p:nvSpPr>
          <p:spPr>
            <a:xfrm>
              <a:off x="2166840" y="2304720"/>
              <a:ext cx="1371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43"/>
            <p:cNvSpPr/>
            <p:nvPr/>
          </p:nvSpPr>
          <p:spPr>
            <a:xfrm flipV="1">
              <a:off x="2166840" y="2609640"/>
              <a:ext cx="304560" cy="3045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44"/>
            <p:cNvSpPr/>
            <p:nvPr/>
          </p:nvSpPr>
          <p:spPr>
            <a:xfrm flipV="1">
              <a:off x="2014560" y="2609640"/>
              <a:ext cx="304560" cy="3045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45"/>
            <p:cNvSpPr/>
            <p:nvPr/>
          </p:nvSpPr>
          <p:spPr>
            <a:xfrm flipV="1">
              <a:off x="2090520" y="2609640"/>
              <a:ext cx="304560" cy="3045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46"/>
            <p:cNvSpPr/>
            <p:nvPr/>
          </p:nvSpPr>
          <p:spPr>
            <a:xfrm flipV="1">
              <a:off x="2243160" y="2609640"/>
              <a:ext cx="304560" cy="3045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47"/>
            <p:cNvSpPr/>
            <p:nvPr/>
          </p:nvSpPr>
          <p:spPr>
            <a:xfrm flipV="1">
              <a:off x="2319480" y="2609640"/>
              <a:ext cx="304560" cy="3045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48"/>
            <p:cNvSpPr/>
            <p:nvPr/>
          </p:nvSpPr>
          <p:spPr>
            <a:xfrm>
              <a:off x="1938240" y="2609640"/>
              <a:ext cx="1295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53"/>
            <p:cNvSpPr/>
            <p:nvPr/>
          </p:nvSpPr>
          <p:spPr>
            <a:xfrm flipV="1">
              <a:off x="2090520" y="4591080"/>
              <a:ext cx="0" cy="380880"/>
            </a:xfrm>
            <a:prstGeom prst="line">
              <a:avLst/>
            </a:prstGeom>
            <a:ln cap="sq" w="38160">
              <a:solidFill>
                <a:srgbClr val="eeece1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55"/>
            <p:cNvSpPr/>
            <p:nvPr/>
          </p:nvSpPr>
          <p:spPr>
            <a:xfrm>
              <a:off x="795240" y="3448080"/>
              <a:ext cx="380880" cy="0"/>
            </a:xfrm>
            <a:prstGeom prst="line">
              <a:avLst/>
            </a:prstGeom>
            <a:ln cap="sq" w="2844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56"/>
            <p:cNvSpPr/>
            <p:nvPr/>
          </p:nvSpPr>
          <p:spPr>
            <a:xfrm flipH="1">
              <a:off x="3157200" y="3905280"/>
              <a:ext cx="533160" cy="0"/>
            </a:xfrm>
            <a:prstGeom prst="line">
              <a:avLst/>
            </a:prstGeom>
            <a:ln cap="sq" w="2844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57"/>
            <p:cNvSpPr/>
            <p:nvPr/>
          </p:nvSpPr>
          <p:spPr>
            <a:xfrm>
              <a:off x="2167920" y="47433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58"/>
            <p:cNvSpPr/>
            <p:nvPr/>
          </p:nvSpPr>
          <p:spPr>
            <a:xfrm>
              <a:off x="3234960" y="3905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59"/>
            <p:cNvSpPr/>
            <p:nvPr/>
          </p:nvSpPr>
          <p:spPr>
            <a:xfrm>
              <a:off x="644040" y="2990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3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46"/>
          <p:cNvSpPr/>
          <p:nvPr/>
        </p:nvSpPr>
        <p:spPr>
          <a:xfrm>
            <a:off x="6081120" y="20001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k1, k2, …, k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47"/>
          <p:cNvSpPr/>
          <p:nvPr/>
        </p:nvSpPr>
        <p:spPr>
          <a:xfrm>
            <a:off x="6078600" y="32860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i1, i2, …, i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48"/>
          <p:cNvSpPr/>
          <p:nvPr/>
        </p:nvSpPr>
        <p:spPr>
          <a:xfrm>
            <a:off x="7079040" y="2571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rbres digi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9"/>
          <p:cNvSpPr/>
          <p:nvPr/>
        </p:nvSpPr>
        <p:spPr>
          <a:xfrm>
            <a:off x="7215120" y="37861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onction d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50"/>
          <p:cNvSpPr/>
          <p:nvPr/>
        </p:nvSpPr>
        <p:spPr>
          <a:xfrm>
            <a:off x="5937840" y="46432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Adresse de ca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1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equête exa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8"/>
          <p:cNvSpPr/>
          <p:nvPr/>
        </p:nvSpPr>
        <p:spPr>
          <a:xfrm>
            <a:off x="5072040" y="3360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rcours d’un tableau à (d-q)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39"/>
          <p:cNvSpPr/>
          <p:nvPr/>
        </p:nvSpPr>
        <p:spPr>
          <a:xfrm>
            <a:off x="6215040" y="264636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000000"/>
          </a:solidFill>
          <a:ln cap="sq"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40"/>
          <p:cNvSpPr/>
          <p:nvPr/>
        </p:nvSpPr>
        <p:spPr>
          <a:xfrm>
            <a:off x="1523880" y="3940200"/>
            <a:ext cx="533520" cy="0"/>
          </a:xfrm>
          <a:prstGeom prst="line">
            <a:avLst/>
          </a:prstGeom>
          <a:ln cap="sq"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e 41"/>
          <p:cNvGrpSpPr/>
          <p:nvPr/>
        </p:nvGrpSpPr>
        <p:grpSpPr>
          <a:xfrm>
            <a:off x="484200" y="1935000"/>
            <a:ext cx="3369240" cy="2823840"/>
            <a:chOff x="484200" y="1935000"/>
            <a:chExt cx="3369240" cy="2823840"/>
          </a:xfrm>
        </p:grpSpPr>
        <p:sp>
          <p:nvSpPr>
            <p:cNvPr id="498" name="Line 4"/>
            <p:cNvSpPr/>
            <p:nvPr/>
          </p:nvSpPr>
          <p:spPr>
            <a:xfrm>
              <a:off x="990360" y="327420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990360" y="362664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6"/>
            <p:cNvSpPr/>
            <p:nvPr/>
          </p:nvSpPr>
          <p:spPr>
            <a:xfrm>
              <a:off x="990360" y="397908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990360" y="433152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>
              <a:off x="990360" y="327420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2252160" y="327420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621440" y="327420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1270800" y="327420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1901520" y="327420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V="1">
              <a:off x="990360" y="193500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2041920" y="193500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V="1">
              <a:off x="2252160" y="193500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2252160" y="299232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>
              <a:off x="3303360" y="193500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2462400" y="299232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2672640" y="278064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2882880" y="249876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3093120" y="2216880"/>
              <a:ext cx="0" cy="1057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V="1">
              <a:off x="2252160" y="263988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2252160" y="228744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V="1">
              <a:off x="1270800" y="193500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1621440" y="193500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V="1">
              <a:off x="1901520" y="1935000"/>
              <a:ext cx="1051200" cy="1339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>
              <a:off x="1200960" y="299232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28"/>
            <p:cNvSpPr/>
            <p:nvPr/>
          </p:nvSpPr>
          <p:spPr>
            <a:xfrm>
              <a:off x="1411200" y="278064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9"/>
            <p:cNvSpPr/>
            <p:nvPr/>
          </p:nvSpPr>
          <p:spPr>
            <a:xfrm>
              <a:off x="1621440" y="249876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0"/>
            <p:cNvSpPr/>
            <p:nvPr/>
          </p:nvSpPr>
          <p:spPr>
            <a:xfrm>
              <a:off x="1831680" y="2216880"/>
              <a:ext cx="126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990360" y="3626640"/>
              <a:ext cx="1261440" cy="352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 flipV="1">
              <a:off x="2252160" y="2428200"/>
              <a:ext cx="1051200" cy="133920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 flipV="1">
              <a:off x="2252160" y="2357640"/>
              <a:ext cx="1051200" cy="133920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36"/>
            <p:cNvSpPr/>
            <p:nvPr/>
          </p:nvSpPr>
          <p:spPr>
            <a:xfrm flipV="1">
              <a:off x="2252160" y="2498760"/>
              <a:ext cx="1051200" cy="133920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37"/>
            <p:cNvSpPr/>
            <p:nvPr/>
          </p:nvSpPr>
          <p:spPr>
            <a:xfrm flipV="1">
              <a:off x="2252160" y="2569320"/>
              <a:ext cx="1051200" cy="133920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41"/>
            <p:cNvSpPr/>
            <p:nvPr/>
          </p:nvSpPr>
          <p:spPr>
            <a:xfrm>
              <a:off x="484200" y="3572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42"/>
            <p:cNvSpPr/>
            <p:nvPr/>
          </p:nvSpPr>
          <p:spPr>
            <a:xfrm>
              <a:off x="1119960" y="42991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1 :=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44"/>
            <p:cNvSpPr/>
            <p:nvPr/>
          </p:nvSpPr>
          <p:spPr>
            <a:xfrm>
              <a:off x="2872440" y="345348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3 :=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Rectangle 42"/>
          <p:cNvSpPr/>
          <p:nvPr/>
        </p:nvSpPr>
        <p:spPr>
          <a:xfrm>
            <a:off x="5514840" y="1857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pécification de q va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3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equête part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61"/>
          <p:cNvSpPr/>
          <p:nvPr/>
        </p:nvSpPr>
        <p:spPr>
          <a:xfrm>
            <a:off x="5157720" y="3487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ous tableau d-dimensi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62"/>
          <p:cNvSpPr/>
          <p:nvPr/>
        </p:nvSpPr>
        <p:spPr>
          <a:xfrm>
            <a:off x="6324480" y="2620800"/>
            <a:ext cx="486000" cy="609840"/>
          </a:xfrm>
          <a:prstGeom prst="downArrow">
            <a:avLst>
              <a:gd name="adj1" fmla="val 50000"/>
              <a:gd name="adj2" fmla="val 3137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e 58"/>
          <p:cNvGrpSpPr/>
          <p:nvPr/>
        </p:nvGrpSpPr>
        <p:grpSpPr>
          <a:xfrm>
            <a:off x="556560" y="1785600"/>
            <a:ext cx="3240720" cy="3144240"/>
            <a:chOff x="556560" y="1785600"/>
            <a:chExt cx="3240720" cy="3144240"/>
          </a:xfrm>
        </p:grpSpPr>
        <p:sp>
          <p:nvSpPr>
            <p:cNvPr id="538" name="Line 4"/>
            <p:cNvSpPr/>
            <p:nvPr/>
          </p:nvSpPr>
          <p:spPr>
            <a:xfrm>
              <a:off x="1442520" y="316440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>
              <a:off x="1442520" y="388980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7"/>
            <p:cNvSpPr/>
            <p:nvPr/>
          </p:nvSpPr>
          <p:spPr>
            <a:xfrm>
              <a:off x="1442520" y="425268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8"/>
            <p:cNvSpPr/>
            <p:nvPr/>
          </p:nvSpPr>
          <p:spPr>
            <a:xfrm>
              <a:off x="1442520" y="316440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0"/>
            <p:cNvSpPr/>
            <p:nvPr/>
          </p:nvSpPr>
          <p:spPr>
            <a:xfrm>
              <a:off x="2084760" y="316440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1"/>
            <p:cNvSpPr/>
            <p:nvPr/>
          </p:nvSpPr>
          <p:spPr>
            <a:xfrm>
              <a:off x="1728000" y="316440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 flipV="1">
              <a:off x="1442520" y="178560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2513160" y="178596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6"/>
            <p:cNvSpPr/>
            <p:nvPr/>
          </p:nvSpPr>
          <p:spPr>
            <a:xfrm flipV="1">
              <a:off x="2727000" y="287388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7"/>
            <p:cNvSpPr/>
            <p:nvPr/>
          </p:nvSpPr>
          <p:spPr>
            <a:xfrm>
              <a:off x="3797280" y="178596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9"/>
            <p:cNvSpPr/>
            <p:nvPr/>
          </p:nvSpPr>
          <p:spPr>
            <a:xfrm>
              <a:off x="3155400" y="265644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0"/>
            <p:cNvSpPr/>
            <p:nvPr/>
          </p:nvSpPr>
          <p:spPr>
            <a:xfrm>
              <a:off x="3369240" y="236628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1"/>
            <p:cNvSpPr/>
            <p:nvPr/>
          </p:nvSpPr>
          <p:spPr>
            <a:xfrm>
              <a:off x="3583440" y="207612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2"/>
            <p:cNvSpPr/>
            <p:nvPr/>
          </p:nvSpPr>
          <p:spPr>
            <a:xfrm flipV="1">
              <a:off x="2727000" y="251100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4"/>
            <p:cNvSpPr/>
            <p:nvPr/>
          </p:nvSpPr>
          <p:spPr>
            <a:xfrm flipV="1">
              <a:off x="1728000" y="178560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5"/>
            <p:cNvSpPr/>
            <p:nvPr/>
          </p:nvSpPr>
          <p:spPr>
            <a:xfrm flipV="1">
              <a:off x="2084760" y="178560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8"/>
            <p:cNvSpPr/>
            <p:nvPr/>
          </p:nvSpPr>
          <p:spPr>
            <a:xfrm>
              <a:off x="1870920" y="265644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9"/>
            <p:cNvSpPr/>
            <p:nvPr/>
          </p:nvSpPr>
          <p:spPr>
            <a:xfrm>
              <a:off x="2084760" y="236628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0"/>
            <p:cNvSpPr/>
            <p:nvPr/>
          </p:nvSpPr>
          <p:spPr>
            <a:xfrm>
              <a:off x="2298960" y="207612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31"/>
            <p:cNvSpPr/>
            <p:nvPr/>
          </p:nvSpPr>
          <p:spPr>
            <a:xfrm flipV="1">
              <a:off x="222768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33"/>
            <p:cNvSpPr/>
            <p:nvPr/>
          </p:nvSpPr>
          <p:spPr>
            <a:xfrm flipV="1">
              <a:off x="229896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34"/>
            <p:cNvSpPr/>
            <p:nvPr/>
          </p:nvSpPr>
          <p:spPr>
            <a:xfrm flipV="1">
              <a:off x="244152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35"/>
            <p:cNvSpPr/>
            <p:nvPr/>
          </p:nvSpPr>
          <p:spPr>
            <a:xfrm flipV="1">
              <a:off x="215640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36"/>
            <p:cNvSpPr/>
            <p:nvPr/>
          </p:nvSpPr>
          <p:spPr>
            <a:xfrm flipV="1">
              <a:off x="251316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37"/>
            <p:cNvSpPr/>
            <p:nvPr/>
          </p:nvSpPr>
          <p:spPr>
            <a:xfrm flipV="1">
              <a:off x="265572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38"/>
            <p:cNvSpPr/>
            <p:nvPr/>
          </p:nvSpPr>
          <p:spPr>
            <a:xfrm flipV="1">
              <a:off x="258444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39"/>
            <p:cNvSpPr/>
            <p:nvPr/>
          </p:nvSpPr>
          <p:spPr>
            <a:xfrm flipV="1">
              <a:off x="2370240" y="2874240"/>
              <a:ext cx="213840" cy="29016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40"/>
            <p:cNvSpPr/>
            <p:nvPr/>
          </p:nvSpPr>
          <p:spPr>
            <a:xfrm>
              <a:off x="2084760" y="3164400"/>
              <a:ext cx="641880" cy="7254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41"/>
            <p:cNvSpPr/>
            <p:nvPr/>
          </p:nvSpPr>
          <p:spPr>
            <a:xfrm flipV="1">
              <a:off x="2727000" y="309168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42"/>
            <p:cNvSpPr/>
            <p:nvPr/>
          </p:nvSpPr>
          <p:spPr>
            <a:xfrm flipV="1">
              <a:off x="2727000" y="294660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43"/>
            <p:cNvSpPr/>
            <p:nvPr/>
          </p:nvSpPr>
          <p:spPr>
            <a:xfrm flipV="1">
              <a:off x="2727000" y="301932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44"/>
            <p:cNvSpPr/>
            <p:nvPr/>
          </p:nvSpPr>
          <p:spPr>
            <a:xfrm flipV="1">
              <a:off x="2727000" y="352692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45"/>
            <p:cNvSpPr/>
            <p:nvPr/>
          </p:nvSpPr>
          <p:spPr>
            <a:xfrm flipV="1">
              <a:off x="2727000" y="338184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46"/>
            <p:cNvSpPr/>
            <p:nvPr/>
          </p:nvSpPr>
          <p:spPr>
            <a:xfrm flipV="1">
              <a:off x="2727000" y="323676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47"/>
            <p:cNvSpPr/>
            <p:nvPr/>
          </p:nvSpPr>
          <p:spPr>
            <a:xfrm flipV="1">
              <a:off x="2727000" y="338184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8"/>
            <p:cNvSpPr/>
            <p:nvPr/>
          </p:nvSpPr>
          <p:spPr>
            <a:xfrm flipV="1">
              <a:off x="2727000" y="359964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49"/>
            <p:cNvSpPr/>
            <p:nvPr/>
          </p:nvSpPr>
          <p:spPr>
            <a:xfrm flipV="1">
              <a:off x="2727000" y="345456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50"/>
            <p:cNvSpPr/>
            <p:nvPr/>
          </p:nvSpPr>
          <p:spPr>
            <a:xfrm flipV="1">
              <a:off x="2727000" y="330948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51"/>
            <p:cNvSpPr/>
            <p:nvPr/>
          </p:nvSpPr>
          <p:spPr>
            <a:xfrm flipV="1">
              <a:off x="2727000" y="3164400"/>
              <a:ext cx="213840" cy="217440"/>
            </a:xfrm>
            <a:prstGeom prst="line">
              <a:avLst/>
            </a:prstGeom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53"/>
            <p:cNvSpPr/>
            <p:nvPr/>
          </p:nvSpPr>
          <p:spPr>
            <a:xfrm>
              <a:off x="2727000" y="316440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54"/>
            <p:cNvSpPr/>
            <p:nvPr/>
          </p:nvSpPr>
          <p:spPr>
            <a:xfrm>
              <a:off x="1442520" y="352692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55"/>
            <p:cNvSpPr/>
            <p:nvPr/>
          </p:nvSpPr>
          <p:spPr>
            <a:xfrm>
              <a:off x="2941200" y="2874240"/>
              <a:ext cx="0" cy="1160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56"/>
            <p:cNvSpPr/>
            <p:nvPr/>
          </p:nvSpPr>
          <p:spPr>
            <a:xfrm flipV="1">
              <a:off x="2727000" y="178560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57"/>
            <p:cNvSpPr/>
            <p:nvPr/>
          </p:nvSpPr>
          <p:spPr>
            <a:xfrm>
              <a:off x="1656720" y="2874240"/>
              <a:ext cx="1284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58"/>
            <p:cNvSpPr/>
            <p:nvPr/>
          </p:nvSpPr>
          <p:spPr>
            <a:xfrm flipV="1">
              <a:off x="2370240" y="3164040"/>
              <a:ext cx="0" cy="108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9"/>
            <p:cNvSpPr/>
            <p:nvPr/>
          </p:nvSpPr>
          <p:spPr>
            <a:xfrm flipV="1">
              <a:off x="2370240" y="178560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60"/>
            <p:cNvSpPr/>
            <p:nvPr/>
          </p:nvSpPr>
          <p:spPr>
            <a:xfrm flipV="1">
              <a:off x="2727000" y="2148120"/>
              <a:ext cx="1070280" cy="1378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63"/>
            <p:cNvSpPr/>
            <p:nvPr/>
          </p:nvSpPr>
          <p:spPr>
            <a:xfrm>
              <a:off x="1157400" y="3164400"/>
              <a:ext cx="0" cy="725400"/>
            </a:xfrm>
            <a:prstGeom prst="line">
              <a:avLst/>
            </a:prstGeom>
            <a:ln cap="sq" w="28440">
              <a:solidFill>
                <a:srgbClr val="eeece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64"/>
            <p:cNvSpPr/>
            <p:nvPr/>
          </p:nvSpPr>
          <p:spPr>
            <a:xfrm>
              <a:off x="2084760" y="4470120"/>
              <a:ext cx="641880" cy="0"/>
            </a:xfrm>
            <a:prstGeom prst="line">
              <a:avLst/>
            </a:prstGeom>
            <a:ln cap="sq" w="28440">
              <a:solidFill>
                <a:srgbClr val="eeece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65"/>
            <p:cNvSpPr/>
            <p:nvPr/>
          </p:nvSpPr>
          <p:spPr>
            <a:xfrm flipV="1">
              <a:off x="2727000" y="4107240"/>
              <a:ext cx="356760" cy="362520"/>
            </a:xfrm>
            <a:prstGeom prst="line">
              <a:avLst/>
            </a:prstGeom>
            <a:ln cap="sq" w="28440">
              <a:solidFill>
                <a:srgbClr val="eeece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66"/>
            <p:cNvSpPr/>
            <p:nvPr/>
          </p:nvSpPr>
          <p:spPr>
            <a:xfrm>
              <a:off x="556560" y="3276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67"/>
            <p:cNvSpPr/>
            <p:nvPr/>
          </p:nvSpPr>
          <p:spPr>
            <a:xfrm>
              <a:off x="2069640" y="4470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69"/>
            <p:cNvSpPr/>
            <p:nvPr/>
          </p:nvSpPr>
          <p:spPr>
            <a:xfrm>
              <a:off x="2997360" y="4107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59"/>
          <p:cNvSpPr/>
          <p:nvPr/>
        </p:nvSpPr>
        <p:spPr>
          <a:xfrm>
            <a:off x="5586480" y="1844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ntervalle pour chaque dim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0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equête par interv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nction de mapping utilise un index : d tableaux contenant les bases et facteurs multiplicati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rès bonnes performances d’accè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acteur de chargement de l’ordre de 40%.(extension du fichier par des segments de plus en plus gra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convénients : d-arbres digitaux en mémoire (sensibilité de la métho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TH: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9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9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60360" y="28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rbres B Multidimensionnels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B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e un index permettant d'indexer tous les attributs du fichier. L'index est un arbre m-aire ou chaque nœud est un B arb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nœuds internes au même niveau dans l'index correspondent aux B arbres indexant des valeurs différentes d'un même attrib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nœud racine correspond au B arbre contenant toutes les valeurs relatives à l'attribut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4" descr="C:\sdd-avancées\Images\image65.gif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71468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5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Structur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6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1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000080"/>
            <a:ext cx="532908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Exemple pour un tableau A(3, 2,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:\sdd-avancées\image43.gif"/>
          <p:cNvPicPr/>
          <p:nvPr/>
        </p:nvPicPr>
        <p:blipFill>
          <a:blip r:embed="rId1"/>
          <a:stretch/>
        </p:blipFill>
        <p:spPr>
          <a:xfrm>
            <a:off x="785880" y="1714680"/>
            <a:ext cx="7084800" cy="47145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0" y="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s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que valeur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dans cet arbre, pointe l'un des nœuds fils du niveau prochain ( B arbre de niveau 2) contenant les valeurs de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pparaissant avec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ans le fich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es valeurs de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( B arbre de niveau 2 associé à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forme ce qu'on appelle l'ensemble filial de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u niveau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e même, chaque valeur de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e cet ensemble pointe l'un des nœuds fils (B arbre au niveau 3) contenant toutes les valeurs apparaissant avec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et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ans le fich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e processus continue jusqu'à ce que un nœud feuille est atteint, contenant ainsi toutes les adresses telles qu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&amp; 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&amp; ......&amp;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4" descr="C:\sdd-avancées\Images\image65.gif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7146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5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Structur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8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3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8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3" dur="500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6" dur="500"/>
                                        <p:tgtEl>
                                          <p:spTgt spid="5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œud =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.....(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h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F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h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P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h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: valeur d'attrib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: pointeur dans le même sous arbre contenant les valeurs entre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et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: point l'ensemble filial de K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ans le niveau proch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4" descr="C:\sdd-avancées\Images\image65.gif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714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7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Structur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500040" y="4143240"/>
            <a:ext cx="82296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œuds feuilles =  pages d'accession contenant chacune des pointeurs vers les articles du fichi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es pages sont liées ( liste horizontale 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l'une de ces pages déborde, une liste orthogonale pour cette page est cré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3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8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1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4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9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4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9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racine de chaque B arbre contient 3 pointeurs additionnels : Left, Right et Next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ft : pointeur du B arbre le plus à gauche du niveau prochain de son ensemble fil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Next : pointeur au B arbre suivant du même niv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ight : pointeur du  B arbre le plus à droite du niveau prochain de son ensemble fil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vel(i) donnant le premier B arbre dans le niveau i. But : accéder directement à un niveau i quelconque de l'index ( utilisé dans les requêtes à interval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-46440" y="118116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</a:rPr>
              <a:t>Informations addi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4" descr="C:\sdd-avancées\Images\image65.gif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71468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Structur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6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1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4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7" dur="500"/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2" dur="500"/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4" descr="C:\sdd-avancées\Images\image65.gif"/>
          <p:cNvPicPr/>
          <p:nvPr/>
        </p:nvPicPr>
        <p:blipFill>
          <a:blip r:embed="rId1"/>
          <a:stretch/>
        </p:blipFill>
        <p:spPr>
          <a:xfrm>
            <a:off x="787320" y="1351080"/>
            <a:ext cx="7642440" cy="407808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4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Structure géné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C:\sdd-avancées\Images\image66.gif"/>
          <p:cNvPicPr/>
          <p:nvPr/>
        </p:nvPicPr>
        <p:blipFill>
          <a:blip r:embed="rId1"/>
          <a:stretch/>
        </p:blipFill>
        <p:spPr>
          <a:xfrm>
            <a:off x="4629240" y="1428840"/>
            <a:ext cx="4286160" cy="2914560"/>
          </a:xfrm>
          <a:prstGeom prst="rect">
            <a:avLst/>
          </a:prstGeom>
          <a:ln w="0">
            <a:noFill/>
          </a:ln>
        </p:spPr>
      </p:pic>
      <p:sp>
        <p:nvSpPr>
          <p:cNvPr id="613" name="Line 9"/>
          <p:cNvSpPr/>
          <p:nvPr/>
        </p:nvSpPr>
        <p:spPr>
          <a:xfrm>
            <a:off x="5357880" y="3000240"/>
            <a:ext cx="46080" cy="1285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5624640" y="5000760"/>
            <a:ext cx="76176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2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1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2b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6539040" y="5000760"/>
            <a:ext cx="76176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1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3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1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7453440" y="5000760"/>
            <a:ext cx="76176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1b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1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7"/>
          <p:cNvSpPr/>
          <p:nvPr/>
        </p:nvSpPr>
        <p:spPr>
          <a:xfrm>
            <a:off x="7607160" y="5973840"/>
            <a:ext cx="282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8"/>
          <p:cNvSpPr/>
          <p:nvPr/>
        </p:nvSpPr>
        <p:spPr>
          <a:xfrm>
            <a:off x="5854320" y="5973840"/>
            <a:ext cx="282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9"/>
          <p:cNvSpPr/>
          <p:nvPr/>
        </p:nvSpPr>
        <p:spPr>
          <a:xfrm>
            <a:off x="6768720" y="5973840"/>
            <a:ext cx="282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471636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578772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494496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528768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601632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45"/>
          <p:cNvSpPr/>
          <p:nvPr/>
        </p:nvSpPr>
        <p:spPr>
          <a:xfrm>
            <a:off x="6793560" y="434340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709740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93080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5505120" y="6286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ichier de don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1935000"/>
            <a:ext cx="382896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emple : fichier avec les clé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5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{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}   est l'ensemble filial de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{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} est l'ensemble filial de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1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Exemple d’un M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. Trouver le plus petit j tel que la combinaison a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…a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n’existe pas enco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. a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est inséré dans l'ensemble filial de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. Pour k:=j+1,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sertion d’un nouvel B-arbre contenant a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ise à jour du pointeur Next dans Pred(F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-74520" y="1181160"/>
            <a:ext cx="49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</a:rPr>
              <a:t>Insertion de &lt;a1, a2, …,a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e 88"/>
          <p:cNvGrpSpPr/>
          <p:nvPr/>
        </p:nvGrpSpPr>
        <p:grpSpPr>
          <a:xfrm>
            <a:off x="5214960" y="1357200"/>
            <a:ext cx="3357720" cy="3867120"/>
            <a:chOff x="5214960" y="1357200"/>
            <a:chExt cx="3357720" cy="3867120"/>
          </a:xfrm>
        </p:grpSpPr>
        <p:sp>
          <p:nvSpPr>
            <p:cNvPr id="635" name="Line 3"/>
            <p:cNvSpPr/>
            <p:nvPr/>
          </p:nvSpPr>
          <p:spPr>
            <a:xfrm flipH="1">
              <a:off x="595260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>
              <a:off x="5952960" y="266364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7"/>
            <p:cNvSpPr/>
            <p:nvPr/>
          </p:nvSpPr>
          <p:spPr>
            <a:xfrm>
              <a:off x="617436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"/>
            <p:cNvSpPr/>
            <p:nvPr/>
          </p:nvSpPr>
          <p:spPr>
            <a:xfrm flipH="1">
              <a:off x="532512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1"/>
            <p:cNvSpPr/>
            <p:nvPr/>
          </p:nvSpPr>
          <p:spPr>
            <a:xfrm>
              <a:off x="5325480" y="266364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2"/>
            <p:cNvSpPr/>
            <p:nvPr/>
          </p:nvSpPr>
          <p:spPr>
            <a:xfrm>
              <a:off x="554688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4"/>
            <p:cNvSpPr/>
            <p:nvPr/>
          </p:nvSpPr>
          <p:spPr>
            <a:xfrm flipH="1">
              <a:off x="6469200" y="135720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5"/>
            <p:cNvSpPr/>
            <p:nvPr/>
          </p:nvSpPr>
          <p:spPr>
            <a:xfrm>
              <a:off x="6469560" y="18273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6"/>
            <p:cNvSpPr/>
            <p:nvPr/>
          </p:nvSpPr>
          <p:spPr>
            <a:xfrm>
              <a:off x="6690960" y="135720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8"/>
            <p:cNvSpPr/>
            <p:nvPr/>
          </p:nvSpPr>
          <p:spPr>
            <a:xfrm flipH="1">
              <a:off x="694872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9"/>
            <p:cNvSpPr/>
            <p:nvPr/>
          </p:nvSpPr>
          <p:spPr>
            <a:xfrm>
              <a:off x="6949080" y="266364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0"/>
            <p:cNvSpPr/>
            <p:nvPr/>
          </p:nvSpPr>
          <p:spPr>
            <a:xfrm>
              <a:off x="717048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812952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8129880" y="266364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4"/>
            <p:cNvSpPr/>
            <p:nvPr/>
          </p:nvSpPr>
          <p:spPr>
            <a:xfrm>
              <a:off x="8351280" y="2193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2"/>
            <p:cNvSpPr/>
            <p:nvPr/>
          </p:nvSpPr>
          <p:spPr>
            <a:xfrm flipH="1">
              <a:off x="6358320" y="2768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3"/>
            <p:cNvSpPr/>
            <p:nvPr/>
          </p:nvSpPr>
          <p:spPr>
            <a:xfrm>
              <a:off x="6358680" y="32385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4"/>
            <p:cNvSpPr/>
            <p:nvPr/>
          </p:nvSpPr>
          <p:spPr>
            <a:xfrm>
              <a:off x="6580080" y="2768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 flipH="1">
              <a:off x="5731200" y="2768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5731560" y="32385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48"/>
            <p:cNvSpPr/>
            <p:nvPr/>
          </p:nvSpPr>
          <p:spPr>
            <a:xfrm>
              <a:off x="5952960" y="2768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50"/>
            <p:cNvSpPr/>
            <p:nvPr/>
          </p:nvSpPr>
          <p:spPr>
            <a:xfrm flipH="1">
              <a:off x="6985800" y="276804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51"/>
            <p:cNvSpPr/>
            <p:nvPr/>
          </p:nvSpPr>
          <p:spPr>
            <a:xfrm>
              <a:off x="6986160" y="323856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52"/>
            <p:cNvSpPr/>
            <p:nvPr/>
          </p:nvSpPr>
          <p:spPr>
            <a:xfrm>
              <a:off x="7207560" y="276804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54"/>
            <p:cNvSpPr/>
            <p:nvPr/>
          </p:nvSpPr>
          <p:spPr>
            <a:xfrm flipH="1">
              <a:off x="7686720" y="27158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55"/>
            <p:cNvSpPr/>
            <p:nvPr/>
          </p:nvSpPr>
          <p:spPr>
            <a:xfrm>
              <a:off x="7687080" y="31863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56"/>
            <p:cNvSpPr/>
            <p:nvPr/>
          </p:nvSpPr>
          <p:spPr>
            <a:xfrm>
              <a:off x="7908480" y="27158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4"/>
            <p:cNvSpPr/>
            <p:nvPr/>
          </p:nvSpPr>
          <p:spPr>
            <a:xfrm flipH="1">
              <a:off x="6432120" y="34477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5"/>
            <p:cNvSpPr/>
            <p:nvPr/>
          </p:nvSpPr>
          <p:spPr>
            <a:xfrm>
              <a:off x="6432480" y="39178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76"/>
            <p:cNvSpPr/>
            <p:nvPr/>
          </p:nvSpPr>
          <p:spPr>
            <a:xfrm>
              <a:off x="6653880" y="34477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78"/>
            <p:cNvSpPr/>
            <p:nvPr/>
          </p:nvSpPr>
          <p:spPr>
            <a:xfrm flipH="1">
              <a:off x="5805000" y="34477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79"/>
            <p:cNvSpPr/>
            <p:nvPr/>
          </p:nvSpPr>
          <p:spPr>
            <a:xfrm>
              <a:off x="5805360" y="39178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80"/>
            <p:cNvSpPr/>
            <p:nvPr/>
          </p:nvSpPr>
          <p:spPr>
            <a:xfrm>
              <a:off x="6026760" y="34477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2"/>
            <p:cNvSpPr/>
            <p:nvPr/>
          </p:nvSpPr>
          <p:spPr>
            <a:xfrm flipH="1">
              <a:off x="7022520" y="344772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3"/>
            <p:cNvSpPr/>
            <p:nvPr/>
          </p:nvSpPr>
          <p:spPr>
            <a:xfrm>
              <a:off x="7022880" y="39178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4"/>
            <p:cNvSpPr/>
            <p:nvPr/>
          </p:nvSpPr>
          <p:spPr>
            <a:xfrm>
              <a:off x="7244280" y="344772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86"/>
            <p:cNvSpPr/>
            <p:nvPr/>
          </p:nvSpPr>
          <p:spPr>
            <a:xfrm flipH="1">
              <a:off x="7612920" y="34477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87"/>
            <p:cNvSpPr/>
            <p:nvPr/>
          </p:nvSpPr>
          <p:spPr>
            <a:xfrm>
              <a:off x="7613280" y="39178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8"/>
            <p:cNvSpPr/>
            <p:nvPr/>
          </p:nvSpPr>
          <p:spPr>
            <a:xfrm>
              <a:off x="7834680" y="34477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06"/>
            <p:cNvSpPr/>
            <p:nvPr/>
          </p:nvSpPr>
          <p:spPr>
            <a:xfrm flipH="1">
              <a:off x="6912000" y="428364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07"/>
            <p:cNvSpPr/>
            <p:nvPr/>
          </p:nvSpPr>
          <p:spPr>
            <a:xfrm>
              <a:off x="6912360" y="475416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08"/>
            <p:cNvSpPr/>
            <p:nvPr/>
          </p:nvSpPr>
          <p:spPr>
            <a:xfrm>
              <a:off x="7133760" y="428364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10"/>
            <p:cNvSpPr/>
            <p:nvPr/>
          </p:nvSpPr>
          <p:spPr>
            <a:xfrm flipH="1">
              <a:off x="6284520" y="4283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11"/>
            <p:cNvSpPr/>
            <p:nvPr/>
          </p:nvSpPr>
          <p:spPr>
            <a:xfrm>
              <a:off x="6284880" y="47541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12"/>
            <p:cNvSpPr/>
            <p:nvPr/>
          </p:nvSpPr>
          <p:spPr>
            <a:xfrm>
              <a:off x="6506280" y="4283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4"/>
            <p:cNvSpPr/>
            <p:nvPr/>
          </p:nvSpPr>
          <p:spPr>
            <a:xfrm flipH="1">
              <a:off x="7576200" y="4283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15"/>
            <p:cNvSpPr/>
            <p:nvPr/>
          </p:nvSpPr>
          <p:spPr>
            <a:xfrm>
              <a:off x="7576560" y="47541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16"/>
            <p:cNvSpPr/>
            <p:nvPr/>
          </p:nvSpPr>
          <p:spPr>
            <a:xfrm>
              <a:off x="7797960" y="4283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21"/>
            <p:cNvSpPr/>
            <p:nvPr/>
          </p:nvSpPr>
          <p:spPr>
            <a:xfrm>
              <a:off x="5214960" y="506772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22"/>
            <p:cNvSpPr/>
            <p:nvPr/>
          </p:nvSpPr>
          <p:spPr>
            <a:xfrm>
              <a:off x="5731560" y="506772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23"/>
            <p:cNvSpPr/>
            <p:nvPr/>
          </p:nvSpPr>
          <p:spPr>
            <a:xfrm>
              <a:off x="6284880" y="506772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24"/>
            <p:cNvSpPr/>
            <p:nvPr/>
          </p:nvSpPr>
          <p:spPr>
            <a:xfrm>
              <a:off x="6838560" y="5067720"/>
              <a:ext cx="442800" cy="15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25"/>
            <p:cNvSpPr/>
            <p:nvPr/>
          </p:nvSpPr>
          <p:spPr>
            <a:xfrm>
              <a:off x="7391880" y="506772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26"/>
            <p:cNvSpPr/>
            <p:nvPr/>
          </p:nvSpPr>
          <p:spPr>
            <a:xfrm>
              <a:off x="7945560" y="506772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128"/>
            <p:cNvSpPr/>
            <p:nvPr/>
          </p:nvSpPr>
          <p:spPr>
            <a:xfrm>
              <a:off x="6497640" y="16149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129"/>
            <p:cNvSpPr/>
            <p:nvPr/>
          </p:nvSpPr>
          <p:spPr>
            <a:xfrm>
              <a:off x="6916680" y="245124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j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130"/>
            <p:cNvSpPr/>
            <p:nvPr/>
          </p:nvSpPr>
          <p:spPr>
            <a:xfrm>
              <a:off x="7022880" y="30261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31"/>
            <p:cNvSpPr/>
            <p:nvPr/>
          </p:nvSpPr>
          <p:spPr>
            <a:xfrm>
              <a:off x="6944760" y="370548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j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33"/>
            <p:cNvSpPr/>
            <p:nvPr/>
          </p:nvSpPr>
          <p:spPr>
            <a:xfrm flipH="1">
              <a:off x="6100560" y="1827360"/>
              <a:ext cx="47952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34"/>
            <p:cNvSpPr/>
            <p:nvPr/>
          </p:nvSpPr>
          <p:spPr>
            <a:xfrm>
              <a:off x="6838560" y="1827360"/>
              <a:ext cx="66420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35"/>
            <p:cNvSpPr/>
            <p:nvPr/>
          </p:nvSpPr>
          <p:spPr>
            <a:xfrm flipH="1">
              <a:off x="6469560" y="1827360"/>
              <a:ext cx="14760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136"/>
            <p:cNvSpPr/>
            <p:nvPr/>
          </p:nvSpPr>
          <p:spPr>
            <a:xfrm>
              <a:off x="6727680" y="1827360"/>
              <a:ext cx="11052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137"/>
            <p:cNvSpPr/>
            <p:nvPr/>
          </p:nvSpPr>
          <p:spPr>
            <a:xfrm>
              <a:off x="6986160" y="2088720"/>
              <a:ext cx="147600" cy="208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38"/>
            <p:cNvSpPr/>
            <p:nvPr/>
          </p:nvSpPr>
          <p:spPr>
            <a:xfrm flipH="1">
              <a:off x="6616800" y="2663640"/>
              <a:ext cx="405720" cy="208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40"/>
            <p:cNvSpPr/>
            <p:nvPr/>
          </p:nvSpPr>
          <p:spPr>
            <a:xfrm>
              <a:off x="7096680" y="2663640"/>
              <a:ext cx="7380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41"/>
            <p:cNvSpPr/>
            <p:nvPr/>
          </p:nvSpPr>
          <p:spPr>
            <a:xfrm>
              <a:off x="7059960" y="3238560"/>
              <a:ext cx="147600" cy="313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42"/>
            <p:cNvSpPr/>
            <p:nvPr/>
          </p:nvSpPr>
          <p:spPr>
            <a:xfrm>
              <a:off x="7281360" y="3917880"/>
              <a:ext cx="0" cy="208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143"/>
            <p:cNvSpPr/>
            <p:nvPr/>
          </p:nvSpPr>
          <p:spPr>
            <a:xfrm>
              <a:off x="6982920" y="4440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44"/>
            <p:cNvSpPr/>
            <p:nvPr/>
          </p:nvSpPr>
          <p:spPr>
            <a:xfrm>
              <a:off x="6690960" y="2977200"/>
              <a:ext cx="405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45"/>
            <p:cNvSpPr/>
            <p:nvPr/>
          </p:nvSpPr>
          <p:spPr>
            <a:xfrm>
              <a:off x="7318080" y="297720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146"/>
            <p:cNvSpPr/>
            <p:nvPr/>
          </p:nvSpPr>
          <p:spPr>
            <a:xfrm>
              <a:off x="7270200" y="271260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147"/>
            <p:cNvSpPr/>
            <p:nvPr/>
          </p:nvSpPr>
          <p:spPr>
            <a:xfrm>
              <a:off x="7233480" y="3391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148"/>
            <p:cNvSpPr/>
            <p:nvPr/>
          </p:nvSpPr>
          <p:spPr>
            <a:xfrm>
              <a:off x="7159680" y="417600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9"/>
            <p:cNvSpPr/>
            <p:nvPr/>
          </p:nvSpPr>
          <p:spPr>
            <a:xfrm>
              <a:off x="6727680" y="360432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150"/>
            <p:cNvSpPr/>
            <p:nvPr/>
          </p:nvSpPr>
          <p:spPr>
            <a:xfrm>
              <a:off x="7355160" y="3604320"/>
              <a:ext cx="405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51"/>
            <p:cNvSpPr/>
            <p:nvPr/>
          </p:nvSpPr>
          <p:spPr>
            <a:xfrm>
              <a:off x="6580080" y="444060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152"/>
            <p:cNvSpPr/>
            <p:nvPr/>
          </p:nvSpPr>
          <p:spPr>
            <a:xfrm>
              <a:off x="7207560" y="4440600"/>
              <a:ext cx="516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153"/>
            <p:cNvSpPr/>
            <p:nvPr/>
          </p:nvSpPr>
          <p:spPr>
            <a:xfrm flipH="1">
              <a:off x="7059600" y="4754160"/>
              <a:ext cx="110520" cy="313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3" name="AutoShape 156"/>
            <p:cNvCxnSpPr>
              <a:stCxn id="652" idx="0"/>
              <a:endCxn id="664" idx="0"/>
            </p:cNvCxnSpPr>
            <p:nvPr/>
          </p:nvCxnSpPr>
          <p:spPr>
            <a:xfrm flipH="1" rot="16200000">
              <a:off x="6276960" y="3069720"/>
              <a:ext cx="680040" cy="74520"/>
            </a:xfrm>
            <a:prstGeom prst="curvedConnector5">
              <a:avLst>
                <a:gd name="adj1" fmla="val -23040"/>
                <a:gd name="adj2" fmla="val 224757"/>
                <a:gd name="adj3" fmla="val -23040"/>
              </a:avLst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4" name="AutoShape 157"/>
            <p:cNvCxnSpPr/>
            <p:nvPr/>
          </p:nvCxnSpPr>
          <p:spPr>
            <a:xfrm flipH="1" rot="16200000">
              <a:off x="6424920" y="3816720"/>
              <a:ext cx="680040" cy="148320"/>
            </a:xfrm>
            <a:prstGeom prst="curvedConnector5">
              <a:avLst>
                <a:gd name="adj1" fmla="val -23040"/>
                <a:gd name="adj2" fmla="val 112408"/>
                <a:gd name="adj3" fmla="val -23040"/>
              </a:avLst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5" name="AutoShape 159"/>
            <p:cNvCxnSpPr>
              <a:stCxn id="679" idx="0"/>
              <a:endCxn id="685" idx="3"/>
            </p:cNvCxnSpPr>
            <p:nvPr/>
          </p:nvCxnSpPr>
          <p:spPr>
            <a:xfrm flipH="1" rot="16200000">
              <a:off x="6185520" y="4602960"/>
              <a:ext cx="862920" cy="222120"/>
            </a:xfrm>
            <a:prstGeom prst="curvedConnector5">
              <a:avLst>
                <a:gd name="adj1" fmla="val -18155"/>
                <a:gd name="adj2" fmla="val 75000"/>
                <a:gd name="adj3" fmla="val -18155"/>
              </a:avLst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6" name="Text Box 160"/>
            <p:cNvSpPr/>
            <p:nvPr/>
          </p:nvSpPr>
          <p:spPr>
            <a:xfrm>
              <a:off x="6357960" y="2350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9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0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. Trouver j tel que F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…F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ne soient formés que d’une seule valeur chac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. Supprimer a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de F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</a:rPr>
              <a:t>j-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. Pour k:=j,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ibérer F</a:t>
            </a:r>
            <a:r>
              <a:rPr b="1" i="1" lang="fr-FR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ise à jour de Next dans  Pred(F</a:t>
            </a:r>
            <a:r>
              <a:rPr b="1" i="1" lang="fr-FR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-101160" y="118116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nstantia"/>
              </a:rPr>
              <a:t>Suppression de &lt;a1, a2, …,a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e 88"/>
          <p:cNvGrpSpPr/>
          <p:nvPr/>
        </p:nvGrpSpPr>
        <p:grpSpPr>
          <a:xfrm>
            <a:off x="5214960" y="1500120"/>
            <a:ext cx="3357720" cy="3867120"/>
            <a:chOff x="5214960" y="1500120"/>
            <a:chExt cx="3357720" cy="3867120"/>
          </a:xfrm>
        </p:grpSpPr>
        <p:sp>
          <p:nvSpPr>
            <p:cNvPr id="720" name="Line 3"/>
            <p:cNvSpPr/>
            <p:nvPr/>
          </p:nvSpPr>
          <p:spPr>
            <a:xfrm flipH="1">
              <a:off x="595260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6"/>
            <p:cNvSpPr/>
            <p:nvPr/>
          </p:nvSpPr>
          <p:spPr>
            <a:xfrm>
              <a:off x="5952960" y="28065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7"/>
            <p:cNvSpPr/>
            <p:nvPr/>
          </p:nvSpPr>
          <p:spPr>
            <a:xfrm>
              <a:off x="617436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0"/>
            <p:cNvSpPr/>
            <p:nvPr/>
          </p:nvSpPr>
          <p:spPr>
            <a:xfrm flipH="1">
              <a:off x="532512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1"/>
            <p:cNvSpPr/>
            <p:nvPr/>
          </p:nvSpPr>
          <p:spPr>
            <a:xfrm>
              <a:off x="5325480" y="28065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2"/>
            <p:cNvSpPr/>
            <p:nvPr/>
          </p:nvSpPr>
          <p:spPr>
            <a:xfrm>
              <a:off x="554688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4"/>
            <p:cNvSpPr/>
            <p:nvPr/>
          </p:nvSpPr>
          <p:spPr>
            <a:xfrm flipH="1">
              <a:off x="6469200" y="1500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5"/>
            <p:cNvSpPr/>
            <p:nvPr/>
          </p:nvSpPr>
          <p:spPr>
            <a:xfrm>
              <a:off x="6469560" y="19702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6"/>
            <p:cNvSpPr/>
            <p:nvPr/>
          </p:nvSpPr>
          <p:spPr>
            <a:xfrm>
              <a:off x="6690960" y="150012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8"/>
            <p:cNvSpPr/>
            <p:nvPr/>
          </p:nvSpPr>
          <p:spPr>
            <a:xfrm flipH="1">
              <a:off x="694872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9"/>
            <p:cNvSpPr/>
            <p:nvPr/>
          </p:nvSpPr>
          <p:spPr>
            <a:xfrm>
              <a:off x="6949080" y="28065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20"/>
            <p:cNvSpPr/>
            <p:nvPr/>
          </p:nvSpPr>
          <p:spPr>
            <a:xfrm>
              <a:off x="717048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22"/>
            <p:cNvSpPr/>
            <p:nvPr/>
          </p:nvSpPr>
          <p:spPr>
            <a:xfrm flipH="1">
              <a:off x="812952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23"/>
            <p:cNvSpPr/>
            <p:nvPr/>
          </p:nvSpPr>
          <p:spPr>
            <a:xfrm>
              <a:off x="8129880" y="280656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24"/>
            <p:cNvSpPr/>
            <p:nvPr/>
          </p:nvSpPr>
          <p:spPr>
            <a:xfrm>
              <a:off x="8351280" y="23360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42"/>
            <p:cNvSpPr/>
            <p:nvPr/>
          </p:nvSpPr>
          <p:spPr>
            <a:xfrm flipH="1">
              <a:off x="6358320" y="29109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43"/>
            <p:cNvSpPr/>
            <p:nvPr/>
          </p:nvSpPr>
          <p:spPr>
            <a:xfrm>
              <a:off x="6358680" y="33814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44"/>
            <p:cNvSpPr/>
            <p:nvPr/>
          </p:nvSpPr>
          <p:spPr>
            <a:xfrm>
              <a:off x="6580080" y="29109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46"/>
            <p:cNvSpPr/>
            <p:nvPr/>
          </p:nvSpPr>
          <p:spPr>
            <a:xfrm flipH="1">
              <a:off x="5731200" y="29109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47"/>
            <p:cNvSpPr/>
            <p:nvPr/>
          </p:nvSpPr>
          <p:spPr>
            <a:xfrm>
              <a:off x="5731560" y="33814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48"/>
            <p:cNvSpPr/>
            <p:nvPr/>
          </p:nvSpPr>
          <p:spPr>
            <a:xfrm>
              <a:off x="5952960" y="29109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50"/>
            <p:cNvSpPr/>
            <p:nvPr/>
          </p:nvSpPr>
          <p:spPr>
            <a:xfrm flipH="1">
              <a:off x="6985800" y="291096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51"/>
            <p:cNvSpPr/>
            <p:nvPr/>
          </p:nvSpPr>
          <p:spPr>
            <a:xfrm>
              <a:off x="6986160" y="33814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52"/>
            <p:cNvSpPr/>
            <p:nvPr/>
          </p:nvSpPr>
          <p:spPr>
            <a:xfrm>
              <a:off x="7207560" y="291096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54"/>
            <p:cNvSpPr/>
            <p:nvPr/>
          </p:nvSpPr>
          <p:spPr>
            <a:xfrm flipH="1">
              <a:off x="7686720" y="28587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55"/>
            <p:cNvSpPr/>
            <p:nvPr/>
          </p:nvSpPr>
          <p:spPr>
            <a:xfrm>
              <a:off x="7687080" y="33292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56"/>
            <p:cNvSpPr/>
            <p:nvPr/>
          </p:nvSpPr>
          <p:spPr>
            <a:xfrm>
              <a:off x="7908480" y="28587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4"/>
            <p:cNvSpPr/>
            <p:nvPr/>
          </p:nvSpPr>
          <p:spPr>
            <a:xfrm flipH="1">
              <a:off x="6432120" y="3590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5"/>
            <p:cNvSpPr/>
            <p:nvPr/>
          </p:nvSpPr>
          <p:spPr>
            <a:xfrm>
              <a:off x="6432480" y="406080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76"/>
            <p:cNvSpPr/>
            <p:nvPr/>
          </p:nvSpPr>
          <p:spPr>
            <a:xfrm>
              <a:off x="6653880" y="3590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78"/>
            <p:cNvSpPr/>
            <p:nvPr/>
          </p:nvSpPr>
          <p:spPr>
            <a:xfrm flipH="1">
              <a:off x="5805000" y="3590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79"/>
            <p:cNvSpPr/>
            <p:nvPr/>
          </p:nvSpPr>
          <p:spPr>
            <a:xfrm>
              <a:off x="5805360" y="406080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0"/>
            <p:cNvSpPr/>
            <p:nvPr/>
          </p:nvSpPr>
          <p:spPr>
            <a:xfrm>
              <a:off x="6026760" y="3590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2"/>
            <p:cNvSpPr/>
            <p:nvPr/>
          </p:nvSpPr>
          <p:spPr>
            <a:xfrm flipH="1">
              <a:off x="7022520" y="359064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3"/>
            <p:cNvSpPr/>
            <p:nvPr/>
          </p:nvSpPr>
          <p:spPr>
            <a:xfrm>
              <a:off x="7022880" y="406080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4"/>
            <p:cNvSpPr/>
            <p:nvPr/>
          </p:nvSpPr>
          <p:spPr>
            <a:xfrm>
              <a:off x="7244280" y="359064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6"/>
            <p:cNvSpPr/>
            <p:nvPr/>
          </p:nvSpPr>
          <p:spPr>
            <a:xfrm flipH="1">
              <a:off x="7612920" y="3590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7"/>
            <p:cNvSpPr/>
            <p:nvPr/>
          </p:nvSpPr>
          <p:spPr>
            <a:xfrm>
              <a:off x="7613280" y="406080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8"/>
            <p:cNvSpPr/>
            <p:nvPr/>
          </p:nvSpPr>
          <p:spPr>
            <a:xfrm>
              <a:off x="7834680" y="359064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06"/>
            <p:cNvSpPr/>
            <p:nvPr/>
          </p:nvSpPr>
          <p:spPr>
            <a:xfrm flipH="1">
              <a:off x="6912000" y="442656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07"/>
            <p:cNvSpPr/>
            <p:nvPr/>
          </p:nvSpPr>
          <p:spPr>
            <a:xfrm>
              <a:off x="6912360" y="48970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08"/>
            <p:cNvSpPr/>
            <p:nvPr/>
          </p:nvSpPr>
          <p:spPr>
            <a:xfrm>
              <a:off x="7133760" y="4426560"/>
              <a:ext cx="22140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10"/>
            <p:cNvSpPr/>
            <p:nvPr/>
          </p:nvSpPr>
          <p:spPr>
            <a:xfrm flipH="1">
              <a:off x="6284520" y="44265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11"/>
            <p:cNvSpPr/>
            <p:nvPr/>
          </p:nvSpPr>
          <p:spPr>
            <a:xfrm>
              <a:off x="6284880" y="48970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12"/>
            <p:cNvSpPr/>
            <p:nvPr/>
          </p:nvSpPr>
          <p:spPr>
            <a:xfrm>
              <a:off x="6506280" y="44265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4"/>
            <p:cNvSpPr/>
            <p:nvPr/>
          </p:nvSpPr>
          <p:spPr>
            <a:xfrm flipH="1">
              <a:off x="7576200" y="44265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15"/>
            <p:cNvSpPr/>
            <p:nvPr/>
          </p:nvSpPr>
          <p:spPr>
            <a:xfrm>
              <a:off x="7576560" y="4897080"/>
              <a:ext cx="442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16"/>
            <p:cNvSpPr/>
            <p:nvPr/>
          </p:nvSpPr>
          <p:spPr>
            <a:xfrm>
              <a:off x="7797960" y="4426560"/>
              <a:ext cx="221400" cy="4701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121"/>
            <p:cNvSpPr/>
            <p:nvPr/>
          </p:nvSpPr>
          <p:spPr>
            <a:xfrm>
              <a:off x="5214960" y="521064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122"/>
            <p:cNvSpPr/>
            <p:nvPr/>
          </p:nvSpPr>
          <p:spPr>
            <a:xfrm>
              <a:off x="5731560" y="521064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123"/>
            <p:cNvSpPr/>
            <p:nvPr/>
          </p:nvSpPr>
          <p:spPr>
            <a:xfrm>
              <a:off x="6284880" y="521064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124"/>
            <p:cNvSpPr/>
            <p:nvPr/>
          </p:nvSpPr>
          <p:spPr>
            <a:xfrm>
              <a:off x="6838560" y="5210640"/>
              <a:ext cx="442800" cy="15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125"/>
            <p:cNvSpPr/>
            <p:nvPr/>
          </p:nvSpPr>
          <p:spPr>
            <a:xfrm>
              <a:off x="7391880" y="521064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126"/>
            <p:cNvSpPr/>
            <p:nvPr/>
          </p:nvSpPr>
          <p:spPr>
            <a:xfrm>
              <a:off x="7945560" y="5210640"/>
              <a:ext cx="442800" cy="1566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128"/>
            <p:cNvSpPr/>
            <p:nvPr/>
          </p:nvSpPr>
          <p:spPr>
            <a:xfrm>
              <a:off x="6497640" y="1757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Text Box 129"/>
            <p:cNvSpPr/>
            <p:nvPr/>
          </p:nvSpPr>
          <p:spPr>
            <a:xfrm>
              <a:off x="6916680" y="259416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j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30"/>
            <p:cNvSpPr/>
            <p:nvPr/>
          </p:nvSpPr>
          <p:spPr>
            <a:xfrm>
              <a:off x="7022880" y="31690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31"/>
            <p:cNvSpPr/>
            <p:nvPr/>
          </p:nvSpPr>
          <p:spPr>
            <a:xfrm>
              <a:off x="6944760" y="384840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j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33"/>
            <p:cNvSpPr/>
            <p:nvPr/>
          </p:nvSpPr>
          <p:spPr>
            <a:xfrm flipH="1">
              <a:off x="6100560" y="1970280"/>
              <a:ext cx="47952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34"/>
            <p:cNvSpPr/>
            <p:nvPr/>
          </p:nvSpPr>
          <p:spPr>
            <a:xfrm>
              <a:off x="6838560" y="1970280"/>
              <a:ext cx="66420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35"/>
            <p:cNvSpPr/>
            <p:nvPr/>
          </p:nvSpPr>
          <p:spPr>
            <a:xfrm flipH="1">
              <a:off x="6469560" y="1970280"/>
              <a:ext cx="14760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36"/>
            <p:cNvSpPr/>
            <p:nvPr/>
          </p:nvSpPr>
          <p:spPr>
            <a:xfrm>
              <a:off x="6727680" y="1970280"/>
              <a:ext cx="11052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7"/>
            <p:cNvSpPr/>
            <p:nvPr/>
          </p:nvSpPr>
          <p:spPr>
            <a:xfrm>
              <a:off x="6986160" y="2231640"/>
              <a:ext cx="147600" cy="208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38"/>
            <p:cNvSpPr/>
            <p:nvPr/>
          </p:nvSpPr>
          <p:spPr>
            <a:xfrm flipH="1">
              <a:off x="6616800" y="2806560"/>
              <a:ext cx="405720" cy="208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40"/>
            <p:cNvSpPr/>
            <p:nvPr/>
          </p:nvSpPr>
          <p:spPr>
            <a:xfrm>
              <a:off x="7096680" y="2806560"/>
              <a:ext cx="73800" cy="15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41"/>
            <p:cNvSpPr/>
            <p:nvPr/>
          </p:nvSpPr>
          <p:spPr>
            <a:xfrm>
              <a:off x="7059960" y="3381480"/>
              <a:ext cx="147600" cy="313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42"/>
            <p:cNvSpPr/>
            <p:nvPr/>
          </p:nvSpPr>
          <p:spPr>
            <a:xfrm>
              <a:off x="7281360" y="4060800"/>
              <a:ext cx="0" cy="208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143"/>
            <p:cNvSpPr/>
            <p:nvPr/>
          </p:nvSpPr>
          <p:spPr>
            <a:xfrm>
              <a:off x="6982920" y="45835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44"/>
            <p:cNvSpPr/>
            <p:nvPr/>
          </p:nvSpPr>
          <p:spPr>
            <a:xfrm>
              <a:off x="6690960" y="3120120"/>
              <a:ext cx="405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45"/>
            <p:cNvSpPr/>
            <p:nvPr/>
          </p:nvSpPr>
          <p:spPr>
            <a:xfrm>
              <a:off x="7318080" y="312012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146"/>
            <p:cNvSpPr/>
            <p:nvPr/>
          </p:nvSpPr>
          <p:spPr>
            <a:xfrm>
              <a:off x="7270200" y="2855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147"/>
            <p:cNvSpPr/>
            <p:nvPr/>
          </p:nvSpPr>
          <p:spPr>
            <a:xfrm>
              <a:off x="7233480" y="3534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148"/>
            <p:cNvSpPr/>
            <p:nvPr/>
          </p:nvSpPr>
          <p:spPr>
            <a:xfrm>
              <a:off x="7159680" y="4318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49"/>
            <p:cNvSpPr/>
            <p:nvPr/>
          </p:nvSpPr>
          <p:spPr>
            <a:xfrm>
              <a:off x="6727680" y="374724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150"/>
            <p:cNvSpPr/>
            <p:nvPr/>
          </p:nvSpPr>
          <p:spPr>
            <a:xfrm>
              <a:off x="7355160" y="3747240"/>
              <a:ext cx="405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151"/>
            <p:cNvSpPr/>
            <p:nvPr/>
          </p:nvSpPr>
          <p:spPr>
            <a:xfrm>
              <a:off x="6580080" y="4583520"/>
              <a:ext cx="479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52"/>
            <p:cNvSpPr/>
            <p:nvPr/>
          </p:nvSpPr>
          <p:spPr>
            <a:xfrm>
              <a:off x="7207560" y="4583520"/>
              <a:ext cx="516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153"/>
            <p:cNvSpPr/>
            <p:nvPr/>
          </p:nvSpPr>
          <p:spPr>
            <a:xfrm flipH="1">
              <a:off x="7059600" y="4897080"/>
              <a:ext cx="110520" cy="313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8" name="AutoShape 156"/>
            <p:cNvCxnSpPr>
              <a:stCxn id="737" idx="0"/>
              <a:endCxn id="749" idx="0"/>
            </p:cNvCxnSpPr>
            <p:nvPr/>
          </p:nvCxnSpPr>
          <p:spPr>
            <a:xfrm flipH="1" rot="16200000">
              <a:off x="6276960" y="3212640"/>
              <a:ext cx="680040" cy="74520"/>
            </a:xfrm>
            <a:prstGeom prst="curvedConnector5">
              <a:avLst>
                <a:gd name="adj1" fmla="val -23040"/>
                <a:gd name="adj2" fmla="val 224757"/>
                <a:gd name="adj3" fmla="val -23040"/>
              </a:avLst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9" name="AutoShape 157"/>
            <p:cNvCxnSpPr/>
            <p:nvPr/>
          </p:nvCxnSpPr>
          <p:spPr>
            <a:xfrm flipH="1" rot="16200000">
              <a:off x="6424920" y="3959640"/>
              <a:ext cx="680040" cy="148320"/>
            </a:xfrm>
            <a:prstGeom prst="curvedConnector5">
              <a:avLst>
                <a:gd name="adj1" fmla="val -23040"/>
                <a:gd name="adj2" fmla="val 112408"/>
                <a:gd name="adj3" fmla="val -23040"/>
              </a:avLst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0" name="AutoShape 159"/>
            <p:cNvCxnSpPr>
              <a:stCxn id="764" idx="0"/>
              <a:endCxn id="770" idx="3"/>
            </p:cNvCxnSpPr>
            <p:nvPr/>
          </p:nvCxnSpPr>
          <p:spPr>
            <a:xfrm flipH="1" rot="16200000">
              <a:off x="6185520" y="4745880"/>
              <a:ext cx="862920" cy="222120"/>
            </a:xfrm>
            <a:prstGeom prst="curvedConnector5">
              <a:avLst>
                <a:gd name="adj1" fmla="val -18155"/>
                <a:gd name="adj2" fmla="val 75000"/>
                <a:gd name="adj3" fmla="val -18155"/>
              </a:avLst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1" name="Text Box 160"/>
            <p:cNvSpPr/>
            <p:nvPr/>
          </p:nvSpPr>
          <p:spPr>
            <a:xfrm>
              <a:off x="6357960" y="24930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Rectangle 87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Sup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1" dur="indefinite" restart="never" nodeType="tmRoot">
          <p:childTnLst>
            <p:seq>
              <p:cTn id="1792" dur="indefinite" nodeType="mainSeq">
                <p:childTnLst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7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2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7" dur="500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0" dur="500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3" dur="500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86"/>
          <p:cNvSpPr/>
          <p:nvPr/>
        </p:nvSpPr>
        <p:spPr>
          <a:xfrm>
            <a:off x="357120" y="2928960"/>
            <a:ext cx="247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que attribut est recherché dans le B-arbre correspond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Groupe 60"/>
          <p:cNvGrpSpPr/>
          <p:nvPr/>
        </p:nvGrpSpPr>
        <p:grpSpPr>
          <a:xfrm>
            <a:off x="3429000" y="1357200"/>
            <a:ext cx="4405320" cy="3929040"/>
            <a:chOff x="3429000" y="1357200"/>
            <a:chExt cx="4405320" cy="3929040"/>
          </a:xfrm>
        </p:grpSpPr>
        <p:sp>
          <p:nvSpPr>
            <p:cNvPr id="805" name="Line 3"/>
            <p:cNvSpPr/>
            <p:nvPr/>
          </p:nvSpPr>
          <p:spPr>
            <a:xfrm flipH="1">
              <a:off x="4397040" y="203076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4"/>
            <p:cNvSpPr/>
            <p:nvPr/>
          </p:nvSpPr>
          <p:spPr>
            <a:xfrm>
              <a:off x="4397040" y="253584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5"/>
            <p:cNvSpPr/>
            <p:nvPr/>
          </p:nvSpPr>
          <p:spPr>
            <a:xfrm>
              <a:off x="4687560" y="203076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6"/>
            <p:cNvSpPr/>
            <p:nvPr/>
          </p:nvSpPr>
          <p:spPr>
            <a:xfrm flipH="1">
              <a:off x="3574080" y="203076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"/>
            <p:cNvSpPr/>
            <p:nvPr/>
          </p:nvSpPr>
          <p:spPr>
            <a:xfrm>
              <a:off x="3574080" y="253584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8"/>
            <p:cNvSpPr/>
            <p:nvPr/>
          </p:nvSpPr>
          <p:spPr>
            <a:xfrm>
              <a:off x="3864600" y="203076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9"/>
            <p:cNvSpPr/>
            <p:nvPr/>
          </p:nvSpPr>
          <p:spPr>
            <a:xfrm flipH="1">
              <a:off x="5123160" y="135720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10"/>
            <p:cNvSpPr/>
            <p:nvPr/>
          </p:nvSpPr>
          <p:spPr>
            <a:xfrm>
              <a:off x="5123160" y="1862280"/>
              <a:ext cx="580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11"/>
            <p:cNvSpPr/>
            <p:nvPr/>
          </p:nvSpPr>
          <p:spPr>
            <a:xfrm>
              <a:off x="5413680" y="135720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12"/>
            <p:cNvSpPr/>
            <p:nvPr/>
          </p:nvSpPr>
          <p:spPr>
            <a:xfrm flipH="1">
              <a:off x="5704200" y="203076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13"/>
            <p:cNvSpPr/>
            <p:nvPr/>
          </p:nvSpPr>
          <p:spPr>
            <a:xfrm>
              <a:off x="5704200" y="2535840"/>
              <a:ext cx="580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14"/>
            <p:cNvSpPr/>
            <p:nvPr/>
          </p:nvSpPr>
          <p:spPr>
            <a:xfrm>
              <a:off x="5994720" y="203076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5"/>
            <p:cNvSpPr/>
            <p:nvPr/>
          </p:nvSpPr>
          <p:spPr>
            <a:xfrm flipH="1">
              <a:off x="7253640" y="203076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6"/>
            <p:cNvSpPr/>
            <p:nvPr/>
          </p:nvSpPr>
          <p:spPr>
            <a:xfrm>
              <a:off x="7253640" y="253584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7544160" y="203076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30"/>
            <p:cNvSpPr/>
            <p:nvPr/>
          </p:nvSpPr>
          <p:spPr>
            <a:xfrm flipH="1">
              <a:off x="5026320" y="360252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31"/>
            <p:cNvSpPr/>
            <p:nvPr/>
          </p:nvSpPr>
          <p:spPr>
            <a:xfrm>
              <a:off x="5026320" y="410760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32"/>
            <p:cNvSpPr/>
            <p:nvPr/>
          </p:nvSpPr>
          <p:spPr>
            <a:xfrm>
              <a:off x="5316840" y="360252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33"/>
            <p:cNvSpPr/>
            <p:nvPr/>
          </p:nvSpPr>
          <p:spPr>
            <a:xfrm flipH="1">
              <a:off x="4203360" y="360252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4"/>
            <p:cNvSpPr/>
            <p:nvPr/>
          </p:nvSpPr>
          <p:spPr>
            <a:xfrm>
              <a:off x="4203360" y="410760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35"/>
            <p:cNvSpPr/>
            <p:nvPr/>
          </p:nvSpPr>
          <p:spPr>
            <a:xfrm>
              <a:off x="4493880" y="360252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36"/>
            <p:cNvSpPr/>
            <p:nvPr/>
          </p:nvSpPr>
          <p:spPr>
            <a:xfrm flipH="1">
              <a:off x="5801040" y="360252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37"/>
            <p:cNvSpPr/>
            <p:nvPr/>
          </p:nvSpPr>
          <p:spPr>
            <a:xfrm>
              <a:off x="5801040" y="4107600"/>
              <a:ext cx="580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38"/>
            <p:cNvSpPr/>
            <p:nvPr/>
          </p:nvSpPr>
          <p:spPr>
            <a:xfrm>
              <a:off x="6091560" y="360252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39"/>
            <p:cNvSpPr/>
            <p:nvPr/>
          </p:nvSpPr>
          <p:spPr>
            <a:xfrm flipH="1">
              <a:off x="6575760" y="360252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40"/>
            <p:cNvSpPr/>
            <p:nvPr/>
          </p:nvSpPr>
          <p:spPr>
            <a:xfrm>
              <a:off x="6575760" y="410760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41"/>
            <p:cNvSpPr/>
            <p:nvPr/>
          </p:nvSpPr>
          <p:spPr>
            <a:xfrm>
              <a:off x="6866280" y="360252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42"/>
            <p:cNvSpPr/>
            <p:nvPr/>
          </p:nvSpPr>
          <p:spPr>
            <a:xfrm flipH="1">
              <a:off x="5655960" y="427608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43"/>
            <p:cNvSpPr/>
            <p:nvPr/>
          </p:nvSpPr>
          <p:spPr>
            <a:xfrm>
              <a:off x="5655960" y="4781160"/>
              <a:ext cx="580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44"/>
            <p:cNvSpPr/>
            <p:nvPr/>
          </p:nvSpPr>
          <p:spPr>
            <a:xfrm>
              <a:off x="5946480" y="4276080"/>
              <a:ext cx="290160" cy="505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45"/>
            <p:cNvSpPr/>
            <p:nvPr/>
          </p:nvSpPr>
          <p:spPr>
            <a:xfrm flipH="1">
              <a:off x="4833000" y="427608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46"/>
            <p:cNvSpPr/>
            <p:nvPr/>
          </p:nvSpPr>
          <p:spPr>
            <a:xfrm>
              <a:off x="4833000" y="478116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47"/>
            <p:cNvSpPr/>
            <p:nvPr/>
          </p:nvSpPr>
          <p:spPr>
            <a:xfrm>
              <a:off x="5123160" y="427608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48"/>
            <p:cNvSpPr/>
            <p:nvPr/>
          </p:nvSpPr>
          <p:spPr>
            <a:xfrm flipH="1">
              <a:off x="6527160" y="427608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49"/>
            <p:cNvSpPr/>
            <p:nvPr/>
          </p:nvSpPr>
          <p:spPr>
            <a:xfrm>
              <a:off x="6527160" y="4781160"/>
              <a:ext cx="580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50"/>
            <p:cNvSpPr/>
            <p:nvPr/>
          </p:nvSpPr>
          <p:spPr>
            <a:xfrm>
              <a:off x="6817680" y="4276080"/>
              <a:ext cx="290160" cy="505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51"/>
            <p:cNvSpPr/>
            <p:nvPr/>
          </p:nvSpPr>
          <p:spPr>
            <a:xfrm>
              <a:off x="3429000" y="5118120"/>
              <a:ext cx="580680" cy="16812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52"/>
            <p:cNvSpPr/>
            <p:nvPr/>
          </p:nvSpPr>
          <p:spPr>
            <a:xfrm>
              <a:off x="4106520" y="5118120"/>
              <a:ext cx="580680" cy="16812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53"/>
            <p:cNvSpPr/>
            <p:nvPr/>
          </p:nvSpPr>
          <p:spPr>
            <a:xfrm>
              <a:off x="4833000" y="5118120"/>
              <a:ext cx="580680" cy="16812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54"/>
            <p:cNvSpPr/>
            <p:nvPr/>
          </p:nvSpPr>
          <p:spPr>
            <a:xfrm>
              <a:off x="5559120" y="5118120"/>
              <a:ext cx="580680" cy="168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55"/>
            <p:cNvSpPr/>
            <p:nvPr/>
          </p:nvSpPr>
          <p:spPr>
            <a:xfrm>
              <a:off x="6285240" y="5118120"/>
              <a:ext cx="580680" cy="16812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56"/>
            <p:cNvSpPr/>
            <p:nvPr/>
          </p:nvSpPr>
          <p:spPr>
            <a:xfrm>
              <a:off x="7011360" y="5118120"/>
              <a:ext cx="580680" cy="16812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Text Box 57"/>
            <p:cNvSpPr/>
            <p:nvPr/>
          </p:nvSpPr>
          <p:spPr>
            <a:xfrm>
              <a:off x="5211000" y="163404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58"/>
            <p:cNvSpPr/>
            <p:nvPr/>
          </p:nvSpPr>
          <p:spPr>
            <a:xfrm>
              <a:off x="5743440" y="23079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60"/>
            <p:cNvSpPr/>
            <p:nvPr/>
          </p:nvSpPr>
          <p:spPr>
            <a:xfrm>
              <a:off x="5769360" y="387972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67"/>
            <p:cNvSpPr/>
            <p:nvPr/>
          </p:nvSpPr>
          <p:spPr>
            <a:xfrm>
              <a:off x="5897880" y="2535840"/>
              <a:ext cx="96480" cy="168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69"/>
            <p:cNvSpPr/>
            <p:nvPr/>
          </p:nvSpPr>
          <p:spPr>
            <a:xfrm>
              <a:off x="6140160" y="3882960"/>
              <a:ext cx="0" cy="224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70"/>
            <p:cNvSpPr/>
            <p:nvPr/>
          </p:nvSpPr>
          <p:spPr>
            <a:xfrm>
              <a:off x="5743440" y="4553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80"/>
            <p:cNvSpPr/>
            <p:nvPr/>
          </p:nvSpPr>
          <p:spPr>
            <a:xfrm flipH="1">
              <a:off x="5849280" y="4781160"/>
              <a:ext cx="145080" cy="336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85"/>
            <p:cNvSpPr/>
            <p:nvPr/>
          </p:nvSpPr>
          <p:spPr>
            <a:xfrm>
              <a:off x="5510520" y="1862280"/>
              <a:ext cx="338760" cy="39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ZoneTexte 59"/>
            <p:cNvSpPr/>
            <p:nvPr/>
          </p:nvSpPr>
          <p:spPr>
            <a:xfrm>
              <a:off x="3909960" y="295020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………………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Rectangle 56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Requête exa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Groupe 112"/>
          <p:cNvGrpSpPr/>
          <p:nvPr/>
        </p:nvGrpSpPr>
        <p:grpSpPr>
          <a:xfrm>
            <a:off x="1790640" y="1214280"/>
            <a:ext cx="5788440" cy="4650840"/>
            <a:chOff x="1790640" y="1214280"/>
            <a:chExt cx="5788440" cy="4650840"/>
          </a:xfrm>
        </p:grpSpPr>
        <p:sp>
          <p:nvSpPr>
            <p:cNvPr id="858" name="AutoShape 54"/>
            <p:cNvSpPr/>
            <p:nvPr/>
          </p:nvSpPr>
          <p:spPr>
            <a:xfrm>
              <a:off x="2707200" y="21031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55"/>
            <p:cNvSpPr/>
            <p:nvPr/>
          </p:nvSpPr>
          <p:spPr>
            <a:xfrm>
              <a:off x="3732120" y="1214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AutoShape 56"/>
            <p:cNvSpPr/>
            <p:nvPr/>
          </p:nvSpPr>
          <p:spPr>
            <a:xfrm>
              <a:off x="3246840" y="21031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AutoShape 57"/>
            <p:cNvSpPr/>
            <p:nvPr/>
          </p:nvSpPr>
          <p:spPr>
            <a:xfrm>
              <a:off x="3840120" y="21031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AutoShape 58"/>
            <p:cNvSpPr/>
            <p:nvPr/>
          </p:nvSpPr>
          <p:spPr>
            <a:xfrm>
              <a:off x="4379400" y="21031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AutoShape 59"/>
            <p:cNvSpPr/>
            <p:nvPr/>
          </p:nvSpPr>
          <p:spPr>
            <a:xfrm>
              <a:off x="5026680" y="21031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AutoShape 60"/>
            <p:cNvSpPr/>
            <p:nvPr/>
          </p:nvSpPr>
          <p:spPr>
            <a:xfrm>
              <a:off x="2977200" y="286524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61"/>
            <p:cNvSpPr/>
            <p:nvPr/>
          </p:nvSpPr>
          <p:spPr>
            <a:xfrm>
              <a:off x="4649040" y="286524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62"/>
            <p:cNvSpPr/>
            <p:nvPr/>
          </p:nvSpPr>
          <p:spPr>
            <a:xfrm>
              <a:off x="2383920" y="286524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63"/>
            <p:cNvSpPr/>
            <p:nvPr/>
          </p:nvSpPr>
          <p:spPr>
            <a:xfrm>
              <a:off x="3516480" y="286524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64"/>
            <p:cNvSpPr/>
            <p:nvPr/>
          </p:nvSpPr>
          <p:spPr>
            <a:xfrm>
              <a:off x="4109760" y="286524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AutoShape 65"/>
            <p:cNvSpPr/>
            <p:nvPr/>
          </p:nvSpPr>
          <p:spPr>
            <a:xfrm>
              <a:off x="5242320" y="286524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66"/>
            <p:cNvSpPr/>
            <p:nvPr/>
          </p:nvSpPr>
          <p:spPr>
            <a:xfrm>
              <a:off x="3894120" y="3500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67"/>
            <p:cNvSpPr/>
            <p:nvPr/>
          </p:nvSpPr>
          <p:spPr>
            <a:xfrm>
              <a:off x="4487400" y="3500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68"/>
            <p:cNvSpPr/>
            <p:nvPr/>
          </p:nvSpPr>
          <p:spPr>
            <a:xfrm>
              <a:off x="5080680" y="3500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69"/>
            <p:cNvSpPr/>
            <p:nvPr/>
          </p:nvSpPr>
          <p:spPr>
            <a:xfrm>
              <a:off x="5619960" y="3500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AutoShape 70"/>
            <p:cNvSpPr/>
            <p:nvPr/>
          </p:nvSpPr>
          <p:spPr>
            <a:xfrm>
              <a:off x="2653560" y="3500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71"/>
            <p:cNvSpPr/>
            <p:nvPr/>
          </p:nvSpPr>
          <p:spPr>
            <a:xfrm>
              <a:off x="3246840" y="3500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AutoShape 72"/>
            <p:cNvSpPr/>
            <p:nvPr/>
          </p:nvSpPr>
          <p:spPr>
            <a:xfrm>
              <a:off x="2167920" y="35002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AutoShape 87"/>
            <p:cNvSpPr/>
            <p:nvPr/>
          </p:nvSpPr>
          <p:spPr>
            <a:xfrm>
              <a:off x="367812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utoShape 88"/>
            <p:cNvSpPr/>
            <p:nvPr/>
          </p:nvSpPr>
          <p:spPr>
            <a:xfrm>
              <a:off x="427140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AutoShape 89"/>
            <p:cNvSpPr/>
            <p:nvPr/>
          </p:nvSpPr>
          <p:spPr>
            <a:xfrm>
              <a:off x="486468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AutoShape 90"/>
            <p:cNvSpPr/>
            <p:nvPr/>
          </p:nvSpPr>
          <p:spPr>
            <a:xfrm>
              <a:off x="540432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91"/>
            <p:cNvSpPr/>
            <p:nvPr/>
          </p:nvSpPr>
          <p:spPr>
            <a:xfrm>
              <a:off x="243756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92"/>
            <p:cNvSpPr/>
            <p:nvPr/>
          </p:nvSpPr>
          <p:spPr>
            <a:xfrm>
              <a:off x="303084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93"/>
            <p:cNvSpPr/>
            <p:nvPr/>
          </p:nvSpPr>
          <p:spPr>
            <a:xfrm>
              <a:off x="195228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101"/>
            <p:cNvSpPr/>
            <p:nvPr/>
          </p:nvSpPr>
          <p:spPr>
            <a:xfrm>
              <a:off x="394776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102"/>
            <p:cNvSpPr/>
            <p:nvPr/>
          </p:nvSpPr>
          <p:spPr>
            <a:xfrm>
              <a:off x="454104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AutoShape 103"/>
            <p:cNvSpPr/>
            <p:nvPr/>
          </p:nvSpPr>
          <p:spPr>
            <a:xfrm>
              <a:off x="513432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104"/>
            <p:cNvSpPr/>
            <p:nvPr/>
          </p:nvSpPr>
          <p:spPr>
            <a:xfrm>
              <a:off x="567396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AutoShape 105"/>
            <p:cNvSpPr/>
            <p:nvPr/>
          </p:nvSpPr>
          <p:spPr>
            <a:xfrm>
              <a:off x="270720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106"/>
            <p:cNvSpPr/>
            <p:nvPr/>
          </p:nvSpPr>
          <p:spPr>
            <a:xfrm>
              <a:off x="330084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107"/>
            <p:cNvSpPr/>
            <p:nvPr/>
          </p:nvSpPr>
          <p:spPr>
            <a:xfrm>
              <a:off x="222192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AutoShape 108"/>
            <p:cNvSpPr/>
            <p:nvPr/>
          </p:nvSpPr>
          <p:spPr>
            <a:xfrm>
              <a:off x="615924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AutoShape 109"/>
            <p:cNvSpPr/>
            <p:nvPr/>
          </p:nvSpPr>
          <p:spPr>
            <a:xfrm>
              <a:off x="5889600" y="419868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10"/>
            <p:cNvSpPr/>
            <p:nvPr/>
          </p:nvSpPr>
          <p:spPr>
            <a:xfrm flipH="1">
              <a:off x="3408480" y="1658520"/>
              <a:ext cx="431280" cy="126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11"/>
            <p:cNvSpPr/>
            <p:nvPr/>
          </p:nvSpPr>
          <p:spPr>
            <a:xfrm flipH="1">
              <a:off x="3839760" y="1658520"/>
              <a:ext cx="107640" cy="190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12"/>
            <p:cNvSpPr/>
            <p:nvPr/>
          </p:nvSpPr>
          <p:spPr>
            <a:xfrm>
              <a:off x="4001760" y="1658520"/>
              <a:ext cx="485280" cy="190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113"/>
            <p:cNvSpPr/>
            <p:nvPr/>
          </p:nvSpPr>
          <p:spPr>
            <a:xfrm>
              <a:off x="1790640" y="4833720"/>
              <a:ext cx="377280" cy="44424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Rectangle 114"/>
            <p:cNvSpPr/>
            <p:nvPr/>
          </p:nvSpPr>
          <p:spPr>
            <a:xfrm>
              <a:off x="216792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115"/>
            <p:cNvSpPr/>
            <p:nvPr/>
          </p:nvSpPr>
          <p:spPr>
            <a:xfrm>
              <a:off x="243756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Rectangle 116"/>
            <p:cNvSpPr/>
            <p:nvPr/>
          </p:nvSpPr>
          <p:spPr>
            <a:xfrm>
              <a:off x="270720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Rectangle 117"/>
            <p:cNvSpPr/>
            <p:nvPr/>
          </p:nvSpPr>
          <p:spPr>
            <a:xfrm>
              <a:off x="297720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118"/>
            <p:cNvSpPr/>
            <p:nvPr/>
          </p:nvSpPr>
          <p:spPr>
            <a:xfrm>
              <a:off x="324684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Rectangle 119"/>
            <p:cNvSpPr/>
            <p:nvPr/>
          </p:nvSpPr>
          <p:spPr>
            <a:xfrm>
              <a:off x="351648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20"/>
            <p:cNvSpPr/>
            <p:nvPr/>
          </p:nvSpPr>
          <p:spPr>
            <a:xfrm>
              <a:off x="3786120" y="5595840"/>
              <a:ext cx="161640" cy="190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21"/>
            <p:cNvSpPr/>
            <p:nvPr/>
          </p:nvSpPr>
          <p:spPr>
            <a:xfrm>
              <a:off x="4055760" y="5595840"/>
              <a:ext cx="161640" cy="190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23"/>
            <p:cNvSpPr/>
            <p:nvPr/>
          </p:nvSpPr>
          <p:spPr>
            <a:xfrm>
              <a:off x="5673960" y="1214280"/>
              <a:ext cx="0" cy="761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4"/>
            <p:cNvSpPr/>
            <p:nvPr/>
          </p:nvSpPr>
          <p:spPr>
            <a:xfrm flipH="1">
              <a:off x="5565600" y="1976040"/>
              <a:ext cx="10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25"/>
            <p:cNvSpPr/>
            <p:nvPr/>
          </p:nvSpPr>
          <p:spPr>
            <a:xfrm flipH="1">
              <a:off x="5565600" y="1214280"/>
              <a:ext cx="10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Text Box 126"/>
            <p:cNvSpPr/>
            <p:nvPr/>
          </p:nvSpPr>
          <p:spPr>
            <a:xfrm>
              <a:off x="5560920" y="134100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iveaux non spécifi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Text Box 127"/>
            <p:cNvSpPr/>
            <p:nvPr/>
          </p:nvSpPr>
          <p:spPr>
            <a:xfrm>
              <a:off x="5478120" y="2928600"/>
              <a:ext cx="13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iveau  i2  spécifi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128"/>
            <p:cNvSpPr/>
            <p:nvPr/>
          </p:nvSpPr>
          <p:spPr>
            <a:xfrm>
              <a:off x="5478120" y="2357280"/>
              <a:ext cx="13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iveau  i1  spécifi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29"/>
            <p:cNvSpPr/>
            <p:nvPr/>
          </p:nvSpPr>
          <p:spPr>
            <a:xfrm>
              <a:off x="2329920" y="2230200"/>
              <a:ext cx="539280" cy="0"/>
            </a:xfrm>
            <a:prstGeom prst="line">
              <a:avLst/>
            </a:prstGeom>
            <a:ln cap="sq"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30"/>
            <p:cNvSpPr/>
            <p:nvPr/>
          </p:nvSpPr>
          <p:spPr>
            <a:xfrm>
              <a:off x="2923200" y="2230200"/>
              <a:ext cx="485280" cy="0"/>
            </a:xfrm>
            <a:prstGeom prst="line">
              <a:avLst/>
            </a:prstGeom>
            <a:ln cap="sq"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31"/>
            <p:cNvSpPr/>
            <p:nvPr/>
          </p:nvSpPr>
          <p:spPr>
            <a:xfrm>
              <a:off x="3462480" y="2230200"/>
              <a:ext cx="539280" cy="0"/>
            </a:xfrm>
            <a:prstGeom prst="line">
              <a:avLst/>
            </a:prstGeom>
            <a:ln cap="sq"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32"/>
            <p:cNvSpPr/>
            <p:nvPr/>
          </p:nvSpPr>
          <p:spPr>
            <a:xfrm>
              <a:off x="4055760" y="2230200"/>
              <a:ext cx="485280" cy="0"/>
            </a:xfrm>
            <a:prstGeom prst="line">
              <a:avLst/>
            </a:prstGeom>
            <a:ln cap="sq"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34"/>
            <p:cNvSpPr/>
            <p:nvPr/>
          </p:nvSpPr>
          <p:spPr>
            <a:xfrm>
              <a:off x="4595040" y="2230200"/>
              <a:ext cx="593280" cy="0"/>
            </a:xfrm>
            <a:prstGeom prst="line">
              <a:avLst/>
            </a:prstGeom>
            <a:ln cap="sq" w="284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36"/>
            <p:cNvSpPr/>
            <p:nvPr/>
          </p:nvSpPr>
          <p:spPr>
            <a:xfrm flipH="1">
              <a:off x="2868840" y="3309840"/>
              <a:ext cx="269640" cy="3175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AutoShape 139"/>
            <p:cNvCxnSpPr>
              <a:stCxn id="874" idx="5"/>
              <a:endCxn id="882" idx="0"/>
            </p:cNvCxnSpPr>
            <p:nvPr/>
          </p:nvCxnSpPr>
          <p:spPr>
            <a:xfrm>
              <a:off x="2936520" y="3722040"/>
              <a:ext cx="283680" cy="477000"/>
            </a:xfrm>
            <a:prstGeom prst="curvedConnector2">
              <a:avLst/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918" name="AutoShape 140"/>
            <p:cNvCxnSpPr>
              <a:stCxn id="882" idx="5"/>
              <a:endCxn id="889" idx="0"/>
            </p:cNvCxnSpPr>
            <p:nvPr/>
          </p:nvCxnSpPr>
          <p:spPr>
            <a:xfrm>
              <a:off x="3314160" y="4421160"/>
              <a:ext cx="175680" cy="413280"/>
            </a:xfrm>
            <a:prstGeom prst="curvedConnector2">
              <a:avLst/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919" name="AutoShape 141"/>
            <p:cNvCxnSpPr/>
            <p:nvPr/>
          </p:nvCxnSpPr>
          <p:spPr>
            <a:xfrm flipV="1" rot="10800000">
              <a:off x="2544840" y="3690360"/>
              <a:ext cx="216360" cy="699120"/>
            </a:xfrm>
            <a:prstGeom prst="curvedConnector5">
              <a:avLst>
                <a:gd name="adj1" fmla="val 218666"/>
                <a:gd name="adj2" fmla="val 49974"/>
                <a:gd name="adj3" fmla="val 218666"/>
              </a:avLst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920" name="AutoShape 142"/>
            <p:cNvCxnSpPr>
              <a:stCxn id="881" idx="2"/>
              <a:endCxn id="890" idx="1"/>
            </p:cNvCxnSpPr>
            <p:nvPr/>
          </p:nvCxnSpPr>
          <p:spPr>
            <a:xfrm rot="5400000">
              <a:off x="2169720" y="4788720"/>
              <a:ext cx="413280" cy="122040"/>
            </a:xfrm>
            <a:prstGeom prst="curvedConnector5">
              <a:avLst>
                <a:gd name="adj1" fmla="val 23016"/>
                <a:gd name="adj2" fmla="val 155325"/>
                <a:gd name="adj3" fmla="val 23016"/>
              </a:avLst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921" name="Text Box 143"/>
            <p:cNvSpPr/>
            <p:nvPr/>
          </p:nvSpPr>
          <p:spPr>
            <a:xfrm>
              <a:off x="1792080" y="1976040"/>
              <a:ext cx="7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Level(i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145"/>
            <p:cNvSpPr/>
            <p:nvPr/>
          </p:nvSpPr>
          <p:spPr>
            <a:xfrm>
              <a:off x="4689000" y="19760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146"/>
            <p:cNvSpPr/>
            <p:nvPr/>
          </p:nvSpPr>
          <p:spPr>
            <a:xfrm>
              <a:off x="4041720" y="19760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147"/>
            <p:cNvSpPr/>
            <p:nvPr/>
          </p:nvSpPr>
          <p:spPr>
            <a:xfrm>
              <a:off x="3502440" y="19760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149"/>
            <p:cNvSpPr/>
            <p:nvPr/>
          </p:nvSpPr>
          <p:spPr>
            <a:xfrm>
              <a:off x="2909160" y="19760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50"/>
            <p:cNvSpPr/>
            <p:nvPr/>
          </p:nvSpPr>
          <p:spPr>
            <a:xfrm flipH="1">
              <a:off x="3246480" y="2547720"/>
              <a:ext cx="215640" cy="44424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51"/>
            <p:cNvSpPr/>
            <p:nvPr/>
          </p:nvSpPr>
          <p:spPr>
            <a:xfrm>
              <a:off x="5922720" y="47070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152"/>
            <p:cNvSpPr/>
            <p:nvPr/>
          </p:nvSpPr>
          <p:spPr>
            <a:xfrm>
              <a:off x="2214720" y="400824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153"/>
            <p:cNvSpPr/>
            <p:nvPr/>
          </p:nvSpPr>
          <p:spPr>
            <a:xfrm>
              <a:off x="1945080" y="470700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54"/>
            <p:cNvSpPr/>
            <p:nvPr/>
          </p:nvSpPr>
          <p:spPr>
            <a:xfrm>
              <a:off x="3009960" y="38178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55"/>
            <p:cNvSpPr/>
            <p:nvPr/>
          </p:nvSpPr>
          <p:spPr>
            <a:xfrm>
              <a:off x="3387600" y="45799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56"/>
            <p:cNvSpPr/>
            <p:nvPr/>
          </p:nvSpPr>
          <p:spPr>
            <a:xfrm>
              <a:off x="4649040" y="2547720"/>
              <a:ext cx="161640" cy="38088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3" name="AutoShape 159"/>
            <p:cNvCxnSpPr/>
            <p:nvPr/>
          </p:nvCxnSpPr>
          <p:spPr>
            <a:xfrm flipH="1" flipV="1" rot="10800000">
              <a:off x="5133960" y="3690360"/>
              <a:ext cx="432000" cy="635760"/>
            </a:xfrm>
            <a:prstGeom prst="curvedConnector5">
              <a:avLst>
                <a:gd name="adj1" fmla="val -59299"/>
                <a:gd name="adj2" fmla="val 49971"/>
                <a:gd name="adj3" fmla="val -59299"/>
              </a:avLst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934" name="Line 161"/>
            <p:cNvSpPr/>
            <p:nvPr/>
          </p:nvSpPr>
          <p:spPr>
            <a:xfrm>
              <a:off x="4811040" y="3309840"/>
              <a:ext cx="431280" cy="25380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5" name="AutoShape 162"/>
            <p:cNvCxnSpPr>
              <a:stCxn id="872" idx="5"/>
              <a:endCxn id="880" idx="5"/>
            </p:cNvCxnSpPr>
            <p:nvPr/>
          </p:nvCxnSpPr>
          <p:spPr>
            <a:xfrm>
              <a:off x="5363640" y="3722400"/>
              <a:ext cx="324000" cy="699120"/>
            </a:xfrm>
            <a:prstGeom prst="curvedConnector5">
              <a:avLst>
                <a:gd name="adj1" fmla="val 179087"/>
                <a:gd name="adj2" fmla="val 49974"/>
                <a:gd name="adj3" fmla="val 179087"/>
              </a:avLst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936" name="AutoShape 163"/>
            <p:cNvCxnSpPr>
              <a:stCxn id="880" idx="1"/>
              <a:endCxn id="886" idx="1"/>
            </p:cNvCxnSpPr>
            <p:nvPr/>
          </p:nvCxnSpPr>
          <p:spPr>
            <a:xfrm flipV="1" rot="10800000">
              <a:off x="5228280" y="4420800"/>
              <a:ext cx="270360" cy="635760"/>
            </a:xfrm>
            <a:prstGeom prst="curvedConnector5">
              <a:avLst>
                <a:gd name="adj1" fmla="val 194933"/>
                <a:gd name="adj2" fmla="val 49971"/>
                <a:gd name="adj3" fmla="val 194933"/>
              </a:avLst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937" name="AutoShape 165"/>
            <p:cNvCxnSpPr>
              <a:stCxn id="880" idx="5"/>
              <a:endCxn id="887" idx="5"/>
            </p:cNvCxnSpPr>
            <p:nvPr/>
          </p:nvCxnSpPr>
          <p:spPr>
            <a:xfrm>
              <a:off x="5686920" y="4421160"/>
              <a:ext cx="270360" cy="635760"/>
            </a:xfrm>
            <a:prstGeom prst="curvedConnector5">
              <a:avLst>
                <a:gd name="adj1" fmla="val 194933"/>
                <a:gd name="adj2" fmla="val 49971"/>
                <a:gd name="adj3" fmla="val 194933"/>
              </a:avLst>
            </a:prstGeom>
            <a:ln cap="sq" w="2844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938" name="Text Box 166"/>
            <p:cNvSpPr/>
            <p:nvPr/>
          </p:nvSpPr>
          <p:spPr>
            <a:xfrm>
              <a:off x="5653080" y="39448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168"/>
            <p:cNvSpPr/>
            <p:nvPr/>
          </p:nvSpPr>
          <p:spPr>
            <a:xfrm>
              <a:off x="4695840" y="400824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Text Box 169"/>
            <p:cNvSpPr/>
            <p:nvPr/>
          </p:nvSpPr>
          <p:spPr>
            <a:xfrm>
              <a:off x="4803480" y="477036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170"/>
            <p:cNvSpPr/>
            <p:nvPr/>
          </p:nvSpPr>
          <p:spPr>
            <a:xfrm>
              <a:off x="1898280" y="5595840"/>
              <a:ext cx="161640" cy="190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178"/>
            <p:cNvSpPr/>
            <p:nvPr/>
          </p:nvSpPr>
          <p:spPr>
            <a:xfrm>
              <a:off x="4918680" y="5595840"/>
              <a:ext cx="161640" cy="190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179"/>
            <p:cNvSpPr/>
            <p:nvPr/>
          </p:nvSpPr>
          <p:spPr>
            <a:xfrm>
              <a:off x="5188320" y="5595840"/>
              <a:ext cx="161640" cy="190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180"/>
            <p:cNvSpPr/>
            <p:nvPr/>
          </p:nvSpPr>
          <p:spPr>
            <a:xfrm>
              <a:off x="545796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181"/>
            <p:cNvSpPr/>
            <p:nvPr/>
          </p:nvSpPr>
          <p:spPr>
            <a:xfrm>
              <a:off x="572796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Rectangle 182"/>
            <p:cNvSpPr/>
            <p:nvPr/>
          </p:nvSpPr>
          <p:spPr>
            <a:xfrm>
              <a:off x="5997600" y="5595840"/>
              <a:ext cx="161640" cy="190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183"/>
            <p:cNvSpPr/>
            <p:nvPr/>
          </p:nvSpPr>
          <p:spPr>
            <a:xfrm>
              <a:off x="6267240" y="5595840"/>
              <a:ext cx="161640" cy="190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84"/>
            <p:cNvSpPr/>
            <p:nvPr/>
          </p:nvSpPr>
          <p:spPr>
            <a:xfrm>
              <a:off x="6536880" y="5595840"/>
              <a:ext cx="161640" cy="190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185"/>
            <p:cNvSpPr/>
            <p:nvPr/>
          </p:nvSpPr>
          <p:spPr>
            <a:xfrm>
              <a:off x="6752520" y="3500280"/>
              <a:ext cx="0" cy="1650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186"/>
            <p:cNvSpPr/>
            <p:nvPr/>
          </p:nvSpPr>
          <p:spPr>
            <a:xfrm flipH="1">
              <a:off x="6644160" y="3500280"/>
              <a:ext cx="10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187"/>
            <p:cNvSpPr/>
            <p:nvPr/>
          </p:nvSpPr>
          <p:spPr>
            <a:xfrm flipH="1">
              <a:off x="6644160" y="5151240"/>
              <a:ext cx="107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188"/>
            <p:cNvSpPr/>
            <p:nvPr/>
          </p:nvSpPr>
          <p:spPr>
            <a:xfrm>
              <a:off x="6046560" y="407196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Niveaux non spécifié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3" name="AutoShape 189"/>
            <p:cNvCxnSpPr>
              <a:stCxn id="890" idx="1"/>
              <a:endCxn id="897" idx="1"/>
            </p:cNvCxnSpPr>
            <p:nvPr/>
          </p:nvCxnSpPr>
          <p:spPr>
            <a:xfrm flipV="1" rot="10800000">
              <a:off x="2167200" y="5055840"/>
              <a:ext cx="149040" cy="635760"/>
            </a:xfrm>
            <a:prstGeom prst="curvedConnector5">
              <a:avLst>
                <a:gd name="adj1" fmla="val 208958"/>
                <a:gd name="adj2" fmla="val 49971"/>
                <a:gd name="adj3" fmla="val 208958"/>
              </a:avLst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</p:cxnSp>
        <p:cxnSp>
          <p:nvCxnSpPr>
            <p:cNvPr id="954" name="AutoShape 190"/>
            <p:cNvCxnSpPr>
              <a:stCxn id="889" idx="5"/>
              <a:endCxn id="902" idx="3"/>
            </p:cNvCxnSpPr>
            <p:nvPr/>
          </p:nvCxnSpPr>
          <p:spPr>
            <a:xfrm>
              <a:off x="3583800" y="5056200"/>
              <a:ext cx="95040" cy="635760"/>
            </a:xfrm>
            <a:prstGeom prst="curvedConnector5">
              <a:avLst>
                <a:gd name="adj1" fmla="val 271102"/>
                <a:gd name="adj2" fmla="val 49971"/>
                <a:gd name="adj3" fmla="val 271102"/>
              </a:avLst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</p:cxnSp>
        <p:cxnSp>
          <p:nvCxnSpPr>
            <p:cNvPr id="955" name="AutoShape 191"/>
            <p:cNvCxnSpPr>
              <a:stCxn id="886" idx="1"/>
              <a:endCxn id="944" idx="1"/>
            </p:cNvCxnSpPr>
            <p:nvPr/>
          </p:nvCxnSpPr>
          <p:spPr>
            <a:xfrm flipH="1" flipV="1" rot="10800000">
              <a:off x="5228640" y="5055840"/>
              <a:ext cx="229680" cy="635760"/>
            </a:xfrm>
            <a:prstGeom prst="curvedConnector5">
              <a:avLst>
                <a:gd name="adj1" fmla="val -111616"/>
                <a:gd name="adj2" fmla="val 49971"/>
                <a:gd name="adj3" fmla="val -111616"/>
              </a:avLst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</p:cxnSp>
        <p:cxnSp>
          <p:nvCxnSpPr>
            <p:cNvPr id="956" name="AutoShape 192"/>
            <p:cNvCxnSpPr>
              <a:stCxn id="887" idx="5"/>
              <a:endCxn id="946" idx="3"/>
            </p:cNvCxnSpPr>
            <p:nvPr/>
          </p:nvCxnSpPr>
          <p:spPr>
            <a:xfrm>
              <a:off x="5956560" y="5056200"/>
              <a:ext cx="202680" cy="635760"/>
            </a:xfrm>
            <a:prstGeom prst="curvedConnector5">
              <a:avLst>
                <a:gd name="adj1" fmla="val 179893"/>
                <a:gd name="adj2" fmla="val 49971"/>
                <a:gd name="adj3" fmla="val 179893"/>
              </a:avLst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</p:cxnSp>
        <p:sp>
          <p:nvSpPr>
            <p:cNvPr id="957" name="Text Box 193"/>
            <p:cNvSpPr/>
            <p:nvPr/>
          </p:nvSpPr>
          <p:spPr>
            <a:xfrm>
              <a:off x="1837080" y="534204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Text Box 194"/>
            <p:cNvSpPr/>
            <p:nvPr/>
          </p:nvSpPr>
          <p:spPr>
            <a:xfrm>
              <a:off x="4857480" y="52783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Le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195"/>
            <p:cNvSpPr/>
            <p:nvPr/>
          </p:nvSpPr>
          <p:spPr>
            <a:xfrm>
              <a:off x="6246360" y="534204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96"/>
            <p:cNvSpPr/>
            <p:nvPr/>
          </p:nvSpPr>
          <p:spPr>
            <a:xfrm>
              <a:off x="4309560" y="5405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Rectangle 107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Requête part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6" dur="indefinite" restart="never" nodeType="tmRoot">
          <p:childTnLst>
            <p:seq>
              <p:cTn id="1827" dur="indefinite" nodeType="mainSeq">
                <p:childTnLst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e 65"/>
          <p:cNvGrpSpPr/>
          <p:nvPr/>
        </p:nvGrpSpPr>
        <p:grpSpPr>
          <a:xfrm>
            <a:off x="2862360" y="1690560"/>
            <a:ext cx="5209920" cy="3809880"/>
            <a:chOff x="2862360" y="1690560"/>
            <a:chExt cx="5209920" cy="3809880"/>
          </a:xfrm>
        </p:grpSpPr>
        <p:sp>
          <p:nvSpPr>
            <p:cNvPr id="963" name="AutoShape 107"/>
            <p:cNvSpPr/>
            <p:nvPr/>
          </p:nvSpPr>
          <p:spPr>
            <a:xfrm>
              <a:off x="4293720" y="169056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AutoShape 108"/>
            <p:cNvSpPr/>
            <p:nvPr/>
          </p:nvSpPr>
          <p:spPr>
            <a:xfrm>
              <a:off x="4866120" y="234720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AutoShape 109"/>
            <p:cNvSpPr/>
            <p:nvPr/>
          </p:nvSpPr>
          <p:spPr>
            <a:xfrm>
              <a:off x="4293720" y="234720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AutoShape 110"/>
            <p:cNvSpPr/>
            <p:nvPr/>
          </p:nvSpPr>
          <p:spPr>
            <a:xfrm>
              <a:off x="3778200" y="234720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AutoShape 111"/>
            <p:cNvSpPr/>
            <p:nvPr/>
          </p:nvSpPr>
          <p:spPr>
            <a:xfrm>
              <a:off x="5496120" y="234720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AutoShape 112"/>
            <p:cNvSpPr/>
            <p:nvPr/>
          </p:nvSpPr>
          <p:spPr>
            <a:xfrm>
              <a:off x="3205800" y="234720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AutoShape 113"/>
            <p:cNvSpPr/>
            <p:nvPr/>
          </p:nvSpPr>
          <p:spPr>
            <a:xfrm>
              <a:off x="4694400" y="300456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AutoShape 114"/>
            <p:cNvSpPr/>
            <p:nvPr/>
          </p:nvSpPr>
          <p:spPr>
            <a:xfrm>
              <a:off x="2976840" y="300456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AutoShape 115"/>
            <p:cNvSpPr/>
            <p:nvPr/>
          </p:nvSpPr>
          <p:spPr>
            <a:xfrm>
              <a:off x="6011280" y="300456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AutoShape 116"/>
            <p:cNvSpPr/>
            <p:nvPr/>
          </p:nvSpPr>
          <p:spPr>
            <a:xfrm>
              <a:off x="354924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AutoShape 117"/>
            <p:cNvSpPr/>
            <p:nvPr/>
          </p:nvSpPr>
          <p:spPr>
            <a:xfrm>
              <a:off x="4064400" y="300456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AutoShape 118"/>
            <p:cNvSpPr/>
            <p:nvPr/>
          </p:nvSpPr>
          <p:spPr>
            <a:xfrm>
              <a:off x="3492000" y="300456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AutoShape 120"/>
            <p:cNvSpPr/>
            <p:nvPr/>
          </p:nvSpPr>
          <p:spPr>
            <a:xfrm>
              <a:off x="624024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AutoShape 121"/>
            <p:cNvSpPr/>
            <p:nvPr/>
          </p:nvSpPr>
          <p:spPr>
            <a:xfrm>
              <a:off x="572508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AutoShape 122"/>
            <p:cNvSpPr/>
            <p:nvPr/>
          </p:nvSpPr>
          <p:spPr>
            <a:xfrm>
              <a:off x="520956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AutoShape 123"/>
            <p:cNvSpPr/>
            <p:nvPr/>
          </p:nvSpPr>
          <p:spPr>
            <a:xfrm>
              <a:off x="406440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AutoShape 125"/>
            <p:cNvSpPr/>
            <p:nvPr/>
          </p:nvSpPr>
          <p:spPr>
            <a:xfrm>
              <a:off x="681300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AutoShape 126"/>
            <p:cNvSpPr/>
            <p:nvPr/>
          </p:nvSpPr>
          <p:spPr>
            <a:xfrm>
              <a:off x="457992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AutoShape 127"/>
            <p:cNvSpPr/>
            <p:nvPr/>
          </p:nvSpPr>
          <p:spPr>
            <a:xfrm>
              <a:off x="2976840" y="425268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1f497d"/>
            </a:solidFill>
            <a:ln w="12600">
              <a:solidFill>
                <a:srgbClr val="eeece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AutoShape 128"/>
            <p:cNvSpPr/>
            <p:nvPr/>
          </p:nvSpPr>
          <p:spPr>
            <a:xfrm>
              <a:off x="5324040" y="3004560"/>
              <a:ext cx="400680" cy="459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cap="sq" w="1260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29"/>
            <p:cNvSpPr/>
            <p:nvPr/>
          </p:nvSpPr>
          <p:spPr>
            <a:xfrm>
              <a:off x="3663720" y="5238000"/>
              <a:ext cx="286200" cy="262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30"/>
            <p:cNvSpPr/>
            <p:nvPr/>
          </p:nvSpPr>
          <p:spPr>
            <a:xfrm>
              <a:off x="4064400" y="5238000"/>
              <a:ext cx="286200" cy="262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31"/>
            <p:cNvSpPr/>
            <p:nvPr/>
          </p:nvSpPr>
          <p:spPr>
            <a:xfrm>
              <a:off x="4522680" y="5238000"/>
              <a:ext cx="286200" cy="262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32"/>
            <p:cNvSpPr/>
            <p:nvPr/>
          </p:nvSpPr>
          <p:spPr>
            <a:xfrm>
              <a:off x="5324040" y="5238000"/>
              <a:ext cx="286200" cy="262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33"/>
            <p:cNvSpPr/>
            <p:nvPr/>
          </p:nvSpPr>
          <p:spPr>
            <a:xfrm>
              <a:off x="5725080" y="5238000"/>
              <a:ext cx="286200" cy="262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34"/>
            <p:cNvSpPr/>
            <p:nvPr/>
          </p:nvSpPr>
          <p:spPr>
            <a:xfrm>
              <a:off x="6183000" y="5238000"/>
              <a:ext cx="286200" cy="262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35"/>
            <p:cNvSpPr/>
            <p:nvPr/>
          </p:nvSpPr>
          <p:spPr>
            <a:xfrm>
              <a:off x="4923360" y="5238000"/>
              <a:ext cx="286200" cy="262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38"/>
            <p:cNvSpPr/>
            <p:nvPr/>
          </p:nvSpPr>
          <p:spPr>
            <a:xfrm>
              <a:off x="2862360" y="5238000"/>
              <a:ext cx="286200" cy="262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39"/>
            <p:cNvSpPr/>
            <p:nvPr/>
          </p:nvSpPr>
          <p:spPr>
            <a:xfrm>
              <a:off x="7786080" y="5238000"/>
              <a:ext cx="286200" cy="262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40"/>
            <p:cNvSpPr/>
            <p:nvPr/>
          </p:nvSpPr>
          <p:spPr>
            <a:xfrm>
              <a:off x="7385400" y="5238000"/>
              <a:ext cx="286200" cy="262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41"/>
            <p:cNvSpPr/>
            <p:nvPr/>
          </p:nvSpPr>
          <p:spPr>
            <a:xfrm>
              <a:off x="3263040" y="5238000"/>
              <a:ext cx="286200" cy="26244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43"/>
            <p:cNvSpPr/>
            <p:nvPr/>
          </p:nvSpPr>
          <p:spPr>
            <a:xfrm>
              <a:off x="6583680" y="5238000"/>
              <a:ext cx="286200" cy="262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44"/>
            <p:cNvSpPr/>
            <p:nvPr/>
          </p:nvSpPr>
          <p:spPr>
            <a:xfrm>
              <a:off x="6984720" y="5238000"/>
              <a:ext cx="286200" cy="26244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146"/>
            <p:cNvSpPr/>
            <p:nvPr/>
          </p:nvSpPr>
          <p:spPr>
            <a:xfrm flipH="1">
              <a:off x="3949560" y="2150280"/>
              <a:ext cx="400680" cy="1969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147"/>
            <p:cNvSpPr/>
            <p:nvPr/>
          </p:nvSpPr>
          <p:spPr>
            <a:xfrm>
              <a:off x="4522680" y="2150280"/>
              <a:ext cx="572400" cy="26244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48"/>
            <p:cNvSpPr/>
            <p:nvPr/>
          </p:nvSpPr>
          <p:spPr>
            <a:xfrm flipH="1">
              <a:off x="3720600" y="2741400"/>
              <a:ext cx="171720" cy="39384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149"/>
            <p:cNvSpPr/>
            <p:nvPr/>
          </p:nvSpPr>
          <p:spPr>
            <a:xfrm>
              <a:off x="4064400" y="2675880"/>
              <a:ext cx="171720" cy="4597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150"/>
            <p:cNvSpPr/>
            <p:nvPr/>
          </p:nvSpPr>
          <p:spPr>
            <a:xfrm>
              <a:off x="5152320" y="2741400"/>
              <a:ext cx="343440" cy="39384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151"/>
            <p:cNvSpPr/>
            <p:nvPr/>
          </p:nvSpPr>
          <p:spPr>
            <a:xfrm flipH="1">
              <a:off x="3492000" y="3398760"/>
              <a:ext cx="114480" cy="26244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152"/>
            <p:cNvSpPr/>
            <p:nvPr/>
          </p:nvSpPr>
          <p:spPr>
            <a:xfrm>
              <a:off x="3720960" y="3398760"/>
              <a:ext cx="171720" cy="3283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153"/>
            <p:cNvSpPr/>
            <p:nvPr/>
          </p:nvSpPr>
          <p:spPr>
            <a:xfrm flipH="1">
              <a:off x="5324040" y="3332880"/>
              <a:ext cx="114480" cy="3283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154"/>
            <p:cNvSpPr/>
            <p:nvPr/>
          </p:nvSpPr>
          <p:spPr>
            <a:xfrm>
              <a:off x="5610600" y="3398760"/>
              <a:ext cx="171720" cy="3283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155"/>
            <p:cNvSpPr/>
            <p:nvPr/>
          </p:nvSpPr>
          <p:spPr>
            <a:xfrm>
              <a:off x="6635520" y="47782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_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156"/>
            <p:cNvSpPr/>
            <p:nvPr/>
          </p:nvSpPr>
          <p:spPr>
            <a:xfrm>
              <a:off x="4689000" y="195300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_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157"/>
            <p:cNvSpPr/>
            <p:nvPr/>
          </p:nvSpPr>
          <p:spPr>
            <a:xfrm>
              <a:off x="3715560" y="287280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_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158"/>
            <p:cNvSpPr/>
            <p:nvPr/>
          </p:nvSpPr>
          <p:spPr>
            <a:xfrm>
              <a:off x="3429360" y="366120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_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159"/>
            <p:cNvSpPr/>
            <p:nvPr/>
          </p:nvSpPr>
          <p:spPr>
            <a:xfrm>
              <a:off x="5261400" y="366120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_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160"/>
            <p:cNvSpPr/>
            <p:nvPr/>
          </p:nvSpPr>
          <p:spPr>
            <a:xfrm>
              <a:off x="3663720" y="4646880"/>
              <a:ext cx="171720" cy="5911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61"/>
            <p:cNvSpPr/>
            <p:nvPr/>
          </p:nvSpPr>
          <p:spPr>
            <a:xfrm>
              <a:off x="3835440" y="4646880"/>
              <a:ext cx="400680" cy="5911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62"/>
            <p:cNvSpPr/>
            <p:nvPr/>
          </p:nvSpPr>
          <p:spPr>
            <a:xfrm>
              <a:off x="4350960" y="4646880"/>
              <a:ext cx="286200" cy="5911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63"/>
            <p:cNvSpPr/>
            <p:nvPr/>
          </p:nvSpPr>
          <p:spPr>
            <a:xfrm>
              <a:off x="5381280" y="4646880"/>
              <a:ext cx="0" cy="5911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64"/>
            <p:cNvSpPr/>
            <p:nvPr/>
          </p:nvSpPr>
          <p:spPr>
            <a:xfrm>
              <a:off x="5496120" y="4646880"/>
              <a:ext cx="858600" cy="5911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165"/>
            <p:cNvSpPr/>
            <p:nvPr/>
          </p:nvSpPr>
          <p:spPr>
            <a:xfrm>
              <a:off x="5954040" y="4646880"/>
              <a:ext cx="801360" cy="5911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166"/>
            <p:cNvSpPr/>
            <p:nvPr/>
          </p:nvSpPr>
          <p:spPr>
            <a:xfrm>
              <a:off x="6411960" y="4646880"/>
              <a:ext cx="744120" cy="591120"/>
            </a:xfrm>
            <a:prstGeom prst="line">
              <a:avLst/>
            </a:prstGeom>
            <a:ln cap="sq" w="284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167"/>
            <p:cNvSpPr/>
            <p:nvPr/>
          </p:nvSpPr>
          <p:spPr>
            <a:xfrm>
              <a:off x="3772800" y="47782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_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Text Box 168"/>
            <p:cNvSpPr/>
            <p:nvPr/>
          </p:nvSpPr>
          <p:spPr>
            <a:xfrm>
              <a:off x="5318640" y="47782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_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Text Box 169"/>
          <p:cNvSpPr/>
          <p:nvPr/>
        </p:nvSpPr>
        <p:spPr>
          <a:xfrm>
            <a:off x="357120" y="2786040"/>
            <a:ext cx="207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herche de 2 valeurs dans des listes d’arbres à chaque niveau du réperto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61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Requête par interv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357200" y="4928760"/>
            <a:ext cx="6500880" cy="428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tie variable :     i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=2,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i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=3,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...+ i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-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i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00040" y="714240"/>
            <a:ext cx="462924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Adresse d'un élément A(i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, i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.., i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00040" y="1285920"/>
            <a:ext cx="2629080" cy="440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osons d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=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- 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00040" y="1857240"/>
            <a:ext cx="6343560" cy="440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dresse de A(i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*, *, ....) :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= Base + (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 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..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00040" y="2500200"/>
            <a:ext cx="6357960" cy="440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dresse de A(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*, ....) : A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= A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(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..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00040" y="3143160"/>
            <a:ext cx="7715160" cy="863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dresse de A(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...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= Base + (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.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(i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...d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....+(i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-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a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-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(i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-a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42920" y="4214880"/>
            <a:ext cx="7400880" cy="453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artie constante :  Base -(a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=2,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+ a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=3,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+...+a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-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+ a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Calibri"/>
                <a:ea typeface="Courier New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)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lèche gauche 10"/>
          <p:cNvSpPr/>
          <p:nvPr/>
        </p:nvSpPr>
        <p:spPr>
          <a:xfrm rot="19347600">
            <a:off x="531720" y="4020840"/>
            <a:ext cx="507960" cy="88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lèche gauche 11"/>
          <p:cNvSpPr/>
          <p:nvPr/>
        </p:nvSpPr>
        <p:spPr>
          <a:xfrm rot="19329000">
            <a:off x="1436760" y="4400280"/>
            <a:ext cx="1571400" cy="9828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85840" y="5786280"/>
            <a:ext cx="8572320" cy="758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i a1 = a2 = ...... = an = 0, l‘adresse de A(i1, i2, ...in)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1d2d3..dn + i2d3d4...dn + ....+in-1dn + in =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nl-NL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j=1,n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  i</a:t>
            </a:r>
            <a:r>
              <a:rPr b="1" lang="nl-NL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j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.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i=j+1,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d</a:t>
            </a:r>
            <a:r>
              <a:rPr b="1" lang="en-GB" sz="2000" spc="-1" strike="noStrike" baseline="-30000">
                <a:solidFill>
                  <a:srgbClr val="000000"/>
                </a:solidFill>
                <a:latin typeface="Times New Roman"/>
                <a:ea typeface="Courier New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0" y="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s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erformances logarithmiques pour toutes les opé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acteur de chargement au voisinage de 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lgorithmes compl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ectangle 4"/>
          <p:cNvSpPr/>
          <p:nvPr/>
        </p:nvSpPr>
        <p:spPr>
          <a:xfrm>
            <a:off x="0" y="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T : 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85480" y="4714560"/>
            <a:ext cx="3143160" cy="1857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Le tableau est représenté en mémoire de manière contiguë M[0..V]  ave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r>
              <a:rPr b="1" lang="nl-NL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V = </a:t>
            </a:r>
            <a:r>
              <a:rPr b="1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fr-FR" sz="17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=1,k</a:t>
            </a:r>
            <a:r>
              <a:rPr b="1" lang="nl-NL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 [ ( U</a:t>
            </a:r>
            <a:r>
              <a:rPr b="1" lang="nl-NL" sz="19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nl-NL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 + 1) ] –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A[0, 0, ...] a comme image  M[0]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85840" y="785880"/>
            <a:ext cx="3143160" cy="1765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[0:U</a:t>
            </a:r>
            <a:r>
              <a:rPr b="1" lang="nl-NL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0:U</a:t>
            </a:r>
            <a:r>
              <a:rPr b="1" lang="nl-NL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....,0:U</a:t>
            </a:r>
            <a:r>
              <a:rPr b="1" lang="nl-NL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k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],   U</a:t>
            </a:r>
            <a:r>
              <a:rPr b="1" lang="nl-NL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'état initial U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est 0 pour tout i dans {1, 2, ...,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85840" y="2928960"/>
            <a:ext cx="3071880" cy="1502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[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...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k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] représente un élément du tablea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haque j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est dans l'intervalle  [0..U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00720" y="1143000"/>
            <a:ext cx="4000320" cy="4929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Un schéma d'allocation du tableau A est une fonction bijective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oc : Nk ---&gt; N  telle que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i)  Loc(&lt;0, 0,   0&gt;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(ii)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oc(&lt;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...a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&gt;) &lt; Loc(&lt;b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b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...b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ssi pour i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k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=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pour  1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t &lt; i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&lt; b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si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500720" y="642960"/>
            <a:ext cx="361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Fonction d’allo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nnecteur droit 9"/>
          <p:cNvSpPr/>
          <p:nvPr/>
        </p:nvSpPr>
        <p:spPr>
          <a:xfrm>
            <a:off x="4071960" y="8571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760" y="1785600"/>
            <a:ext cx="8229600" cy="2143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87000"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Utilisation d’un tableau d'index : IXA[1..K, 0..X, 1..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Première dimension  : 1 tableau par dim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Deuxième dimension  :évolution des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roisième dimension : base et facteur multiplicatif pour chaque dim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X = Max (U</a:t>
            </a:r>
            <a:r>
              <a:rPr b="1" lang="nl-NL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1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U</a:t>
            </a:r>
            <a:r>
              <a:rPr b="1" lang="nl-NL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2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, ....,U</a:t>
            </a:r>
            <a:r>
              <a:rPr b="1" lang="nl-NL" sz="2000" spc="-1" strike="noStrike" baseline="-25000">
                <a:solidFill>
                  <a:srgbClr val="000000"/>
                </a:solidFill>
                <a:latin typeface="Calibri"/>
                <a:ea typeface="Courier New"/>
              </a:rPr>
              <a:t>k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du multidimensionnel: Tableau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43520" y="1071720"/>
            <a:ext cx="56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Rangement(KDEA : K-Dimensional Extensible Array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040" y="4857840"/>
            <a:ext cx="75722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XA = K tableaux  2-dimensionnel distinct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i [0..Ui , 1..k] avec i=1,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7:09:49Z</dcterms:created>
  <dc:creator>zegour</dc:creator>
  <dc:description/>
  <dc:language>en-US</dc:language>
  <cp:lastModifiedBy>ALGER</cp:lastModifiedBy>
  <dcterms:modified xsi:type="dcterms:W3CDTF">2013-05-15T10:51:39Z</dcterms:modified>
  <cp:revision>84</cp:revision>
  <dc:subject/>
  <dc:title>Structures de données avancées</dc:title>
</cp:coreProperties>
</file>